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72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94120" y="-360"/>
            <a:ext cx="297504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808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2822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94120" y="9282240"/>
            <a:ext cx="2975040" cy="490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94FD46F-BFC4-4DE5-8188-A1068B171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sorção intrínseca (eletrônica e vibração atômica), extrínseca (impurez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spalhamento (transferência de potência de um modo para si ou outros em frequências diferente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ayle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illouin estimul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aman estimul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4070-0FD5-4D5B-A3BB-CCE37363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C001-ECF1-4C47-8995-CEA26B30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295F-87B4-4557-B6DE-836FD921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F2A6-555E-4450-9684-E89C77FD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A6FC-E946-4A0E-AC09-7C20895D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2D4C-204E-498E-AB7A-84419A1C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0D43-371A-4301-9B07-DBA6A847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AAE3-436F-43C5-84FA-C185994A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2C4E-043D-48E2-ABD5-9052E1B8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E56E-9982-447A-A45E-44B24920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8EF3-9393-4B4E-A9EF-F18A0703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E00-10DC-4683-8DB2-318E7E4B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4806-DD7A-4635-8898-8BD8033F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B8CC-BBBA-45CA-BF0E-AB8991D6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A4B9-0405-4240-840A-24CA9BBE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4C91-4A58-41DA-BC07-C56A5E82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D43E-1AF4-48B0-B888-372176FE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5EA7-8065-4DF4-A577-AA6C5FE0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6F3-E6EE-4078-869A-20F5157B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A2A2-892F-4C70-B0AE-206E97F1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C190-0EA1-446F-99C6-045FFAE0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955-0E65-4255-93A7-0E481466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4E1-F48B-40F3-81A0-FC2B4589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AF90-7F77-4EDB-A481-C333E53B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DC36-C9DF-44AF-A141-D1C01EC8B2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423C-FC5E-410B-9550-D8FB2C63AD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0066"/>
                </a:solidFill>
                <a:latin typeface="Arial"/>
              </a:rPr>
              <a:t>Fibras Óticas Monomod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pectos de Projeto de Sist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cos Portn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Exemplos de Limitaçã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551628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enalidade por dispersão caiu por fator de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A 3,11Gb/s, a penalidade por dispersão não alcança 2 d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 130 Km, a atenuação atinge ≈ 30 dB 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7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LINK LIMITADO POR ATENUAÇÃ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Dispersion with a Narrow DFB Laser"/>
          <p:cNvPicPr/>
          <p:nvPr/>
        </p:nvPicPr>
        <p:blipFill>
          <a:blip r:embed="rId1"/>
          <a:stretch/>
        </p:blipFill>
        <p:spPr>
          <a:xfrm>
            <a:off x="1762200" y="1413000"/>
            <a:ext cx="5762520" cy="3951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43080" y="186516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ser DFB estre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89480" y="4818240"/>
            <a:ext cx="198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550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a monomodo non-D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1120" y="3378240"/>
            <a:ext cx="94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en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áx:  2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Exemplos de Limitaçã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551628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Limite de dispersão atingida a 17 km p/ 780 Mb/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Limite de dispersão atingida a 50 km p/ 270 Mb/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 100 Mb/s, o link é provavelmente </a:t>
            </a:r>
            <a:r>
              <a:rPr b="0" lang="pt-BR" sz="1900" spc="-1" strike="noStrike">
                <a:solidFill>
                  <a:srgbClr val="800000"/>
                </a:solidFill>
                <a:latin typeface="Arial"/>
              </a:rPr>
              <a:t>limitado por atenua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Dispersion with an FP Laser"/>
          <p:cNvPicPr/>
          <p:nvPr/>
        </p:nvPicPr>
        <p:blipFill>
          <a:blip r:embed="rId1"/>
          <a:stretch/>
        </p:blipFill>
        <p:spPr>
          <a:xfrm>
            <a:off x="1979640" y="1413000"/>
            <a:ext cx="5256360" cy="39988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643080" y="1865160"/>
            <a:ext cx="20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ser Fabry-Per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Q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73520" y="558972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0000"/>
                </a:solidFill>
                <a:latin typeface="Arial"/>
              </a:rPr>
              <a:t>Limitado por disper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7640" y="5516640"/>
            <a:ext cx="144720" cy="576360"/>
          </a:xfrm>
          <a:custGeom>
            <a:avLst/>
            <a:gdLst>
              <a:gd name="textAreaLeft" fmla="*/ 0 w 144720"/>
              <a:gd name="textAreaRight" fmla="*/ 52200 w 144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89480" y="4818240"/>
            <a:ext cx="198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550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a monomodo non-D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1120" y="3378240"/>
            <a:ext cx="94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en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áx:  2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Compensação da Dispersã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Dispersion Compensating Modules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(DC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spositivos com características de dispersão opostas à do li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Fibras com curva dispersão vs. comprimento de onda positiva:  (+D) NZ-DS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Fibras com curva dispersão vs. comprimento de onda negativa:  (-D) NZ-DS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Fibras tipo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Bragg Grating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94800" y="6005520"/>
            <a:ext cx="42116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CF –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ispersion Compensating F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356000" y="5229360"/>
            <a:ext cx="360360" cy="647640"/>
          </a:xfrm>
          <a:prstGeom prst="upArrow">
            <a:avLst>
              <a:gd name="adj1" fmla="val 50000"/>
              <a:gd name="adj2" fmla="val 4493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7400" y="4005360"/>
            <a:ext cx="6501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C 0 0.01968 0 0.03959 0 0.06111 C 0 0.08264 -0.00191 0.10672 0 0.12963 C 0.00191 0.15255 0.00364 0.17662 0.01111 0.19815 C 0.01857 0.21968 0.02899 0.24445 0.04444 0.25926 C 0.05989 0.27408 0.08403 0.28172 0.10416 0.28704 C 0.1243 0.29236 0.14219 0.28982 0.16528 0.29074 C 0.18837 0.29167 0.23003 0.29236 0.24305 0.2926 E">
                                      <p:cBhvr>
                                        <p:cTn id="112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0066"/>
                </a:solidFill>
                <a:latin typeface="Arial"/>
              </a:rPr>
              <a:t>Fibras (-D) NZ-DSF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624720" cy="41814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265400" y="6021360"/>
            <a:ext cx="63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ibra com curva de dispersão negativa “comprime” os pul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0066"/>
                </a:solidFill>
                <a:latin typeface="Arial"/>
              </a:rPr>
              <a:t>Fibras (+D) NZ-DSF e (-D) NZ-DSF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5" name="" descr="Comparison of Single-mode Fiber Types"/>
          <p:cNvPicPr/>
          <p:nvPr/>
        </p:nvPicPr>
        <p:blipFill>
          <a:blip r:embed="rId1"/>
          <a:stretch/>
        </p:blipFill>
        <p:spPr>
          <a:xfrm>
            <a:off x="539640" y="1916280"/>
            <a:ext cx="3811680" cy="3392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Alternating (+D) NZ-DSF Fiber and (-D) NZ-DSF Fiber"/>
          <p:cNvPicPr/>
          <p:nvPr/>
        </p:nvPicPr>
        <p:blipFill>
          <a:blip r:embed="rId2"/>
          <a:stretch/>
        </p:blipFill>
        <p:spPr>
          <a:xfrm>
            <a:off x="4500720" y="1989000"/>
            <a:ext cx="4248000" cy="33465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936320" y="5608800"/>
            <a:ext cx="39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nces alternados de fibras +D e –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persão média bai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Fibras </a:t>
            </a:r>
            <a:r>
              <a:rPr b="1" i="1" lang="pt-BR" sz="3900" spc="-1" strike="noStrike">
                <a:solidFill>
                  <a:srgbClr val="330066"/>
                </a:solidFill>
                <a:latin typeface="Arial"/>
              </a:rPr>
              <a:t>Bragg Grating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esenhos especiais confeccionados na fibra, as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grades de Bragg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, refletem freqüências diferentes em pontos distintos ao longo do comprimento da fib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troduz atrasos diferentes para cada freqüê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Usada geralmente em conjunto com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circulad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567400" y="1557360"/>
            <a:ext cx="2784600" cy="21034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348000" y="191628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348000" y="5732640"/>
            <a:ext cx="4824360" cy="884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2843280" y="4579920"/>
            <a:ext cx="5832360" cy="7365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50360" y="258444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Bragg Gr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1960" y="530064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ircul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-13320" y="6448320"/>
            <a:ext cx="337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ttp://rleweb.mit.edu/Publications/pr144/23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ttp://www.orc.soton.ac.uk/spm/research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Bragg Grating"/>
          <p:cNvPicPr/>
          <p:nvPr/>
        </p:nvPicPr>
        <p:blipFill>
          <a:blip r:embed="rId1"/>
          <a:stretch/>
        </p:blipFill>
        <p:spPr>
          <a:xfrm>
            <a:off x="2122560" y="2060640"/>
            <a:ext cx="4402080" cy="3348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003640" y="3933720"/>
            <a:ext cx="7207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16360" y="3933720"/>
            <a:ext cx="792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Compensação da Dispersão com Fibras </a:t>
            </a:r>
            <a:r>
              <a:rPr b="1" i="1" lang="pt-BR" sz="3900" spc="-1" strike="noStrike">
                <a:solidFill>
                  <a:srgbClr val="330066"/>
                </a:solidFill>
                <a:latin typeface="Arial"/>
              </a:rPr>
              <a:t>Bragg Grating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124000" y="4221000"/>
            <a:ext cx="647640" cy="578160"/>
            <a:chOff x="2124000" y="4221000"/>
            <a:chExt cx="647640" cy="578160"/>
          </a:xfrm>
        </p:grpSpPr>
        <p:sp>
          <p:nvSpPr>
            <p:cNvPr id="282" name=""/>
            <p:cNvSpPr/>
            <p:nvPr/>
          </p:nvSpPr>
          <p:spPr>
            <a:xfrm>
              <a:off x="2124000" y="4221000"/>
              <a:ext cx="503280" cy="289080"/>
            </a:xfrm>
            <a:prstGeom prst="rightArrow">
              <a:avLst>
                <a:gd name="adj1" fmla="val 50000"/>
                <a:gd name="adj2" fmla="val 43524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95640" y="4510080"/>
              <a:ext cx="576000" cy="289080"/>
            </a:xfrm>
            <a:prstGeom prst="rightArrow">
              <a:avLst>
                <a:gd name="adj1" fmla="val 50000"/>
                <a:gd name="adj2" fmla="val 49813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 rot="16200000">
            <a:off x="4033080" y="4185000"/>
            <a:ext cx="502920" cy="288720"/>
          </a:xfrm>
          <a:prstGeom prst="rightArrow">
            <a:avLst>
              <a:gd name="adj1" fmla="val 50000"/>
              <a:gd name="adj2" fmla="val 43547"/>
            </a:avLst>
          </a:prstGeom>
          <a:solidFill>
            <a:srgbClr val="80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6200000">
            <a:off x="4283640" y="407700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572000" y="4221000"/>
            <a:ext cx="503280" cy="576360"/>
            <a:chOff x="4572000" y="4221000"/>
            <a:chExt cx="503280" cy="576360"/>
          </a:xfrm>
        </p:grpSpPr>
        <p:sp>
          <p:nvSpPr>
            <p:cNvPr id="287" name=""/>
            <p:cNvSpPr/>
            <p:nvPr/>
          </p:nvSpPr>
          <p:spPr>
            <a:xfrm>
              <a:off x="4572000" y="4221000"/>
              <a:ext cx="503280" cy="289080"/>
            </a:xfrm>
            <a:prstGeom prst="rightArrow">
              <a:avLst>
                <a:gd name="adj1" fmla="val 50000"/>
                <a:gd name="adj2" fmla="val 43524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72000" y="4510080"/>
              <a:ext cx="503280" cy="287280"/>
            </a:xfrm>
            <a:prstGeom prst="rightArrow">
              <a:avLst>
                <a:gd name="adj1" fmla="val 50000"/>
                <a:gd name="adj2" fmla="val 43797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 rot="5400000">
            <a:off x="4033080" y="339336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80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4284000" y="242028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124000" y="4221000"/>
            <a:ext cx="647640" cy="578160"/>
            <a:chOff x="2124000" y="4221000"/>
            <a:chExt cx="647640" cy="578160"/>
          </a:xfrm>
        </p:grpSpPr>
        <p:sp>
          <p:nvSpPr>
            <p:cNvPr id="292" name=""/>
            <p:cNvSpPr/>
            <p:nvPr/>
          </p:nvSpPr>
          <p:spPr>
            <a:xfrm>
              <a:off x="2124000" y="4221000"/>
              <a:ext cx="503280" cy="289080"/>
            </a:xfrm>
            <a:prstGeom prst="rightArrow">
              <a:avLst>
                <a:gd name="adj1" fmla="val 50000"/>
                <a:gd name="adj2" fmla="val 43524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95640" y="4510080"/>
              <a:ext cx="576000" cy="289080"/>
            </a:xfrm>
            <a:prstGeom prst="rightArrow">
              <a:avLst>
                <a:gd name="adj1" fmla="val 50000"/>
                <a:gd name="adj2" fmla="val 49813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 rot="16200000">
            <a:off x="4033080" y="4185000"/>
            <a:ext cx="502920" cy="288720"/>
          </a:xfrm>
          <a:prstGeom prst="rightArrow">
            <a:avLst>
              <a:gd name="adj1" fmla="val 50000"/>
              <a:gd name="adj2" fmla="val 43547"/>
            </a:avLst>
          </a:prstGeom>
          <a:solidFill>
            <a:srgbClr val="80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4283640" y="407700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0" y="4221000"/>
            <a:ext cx="503280" cy="576360"/>
            <a:chOff x="4572000" y="4221000"/>
            <a:chExt cx="503280" cy="576360"/>
          </a:xfrm>
        </p:grpSpPr>
        <p:sp>
          <p:nvSpPr>
            <p:cNvPr id="297" name=""/>
            <p:cNvSpPr/>
            <p:nvPr/>
          </p:nvSpPr>
          <p:spPr>
            <a:xfrm>
              <a:off x="4572000" y="4221000"/>
              <a:ext cx="503280" cy="289080"/>
            </a:xfrm>
            <a:prstGeom prst="rightArrow">
              <a:avLst>
                <a:gd name="adj1" fmla="val 50000"/>
                <a:gd name="adj2" fmla="val 43524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4510080"/>
              <a:ext cx="503280" cy="287280"/>
            </a:xfrm>
            <a:prstGeom prst="rightArrow">
              <a:avLst>
                <a:gd name="adj1" fmla="val 50000"/>
                <a:gd name="adj2" fmla="val 43797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 rot="5400000">
            <a:off x="4033080" y="339336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80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4284000" y="242028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124000" y="4221000"/>
            <a:ext cx="647640" cy="578160"/>
            <a:chOff x="2124000" y="4221000"/>
            <a:chExt cx="647640" cy="578160"/>
          </a:xfrm>
        </p:grpSpPr>
        <p:sp>
          <p:nvSpPr>
            <p:cNvPr id="302" name=""/>
            <p:cNvSpPr/>
            <p:nvPr/>
          </p:nvSpPr>
          <p:spPr>
            <a:xfrm>
              <a:off x="2124000" y="4221000"/>
              <a:ext cx="503280" cy="289080"/>
            </a:xfrm>
            <a:prstGeom prst="rightArrow">
              <a:avLst>
                <a:gd name="adj1" fmla="val 50000"/>
                <a:gd name="adj2" fmla="val 43524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95640" y="4510080"/>
              <a:ext cx="576000" cy="289080"/>
            </a:xfrm>
            <a:prstGeom prst="rightArrow">
              <a:avLst>
                <a:gd name="adj1" fmla="val 50000"/>
                <a:gd name="adj2" fmla="val 49813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 rot="16200000">
            <a:off x="4033080" y="4185000"/>
            <a:ext cx="502920" cy="288720"/>
          </a:xfrm>
          <a:prstGeom prst="rightArrow">
            <a:avLst>
              <a:gd name="adj1" fmla="val 50000"/>
              <a:gd name="adj2" fmla="val 43547"/>
            </a:avLst>
          </a:prstGeom>
          <a:solidFill>
            <a:srgbClr val="80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4283640" y="407700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5400000">
            <a:off x="4033080" y="339336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80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5400000">
            <a:off x="4284000" y="242028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572000" y="4221000"/>
            <a:ext cx="503280" cy="576360"/>
            <a:chOff x="4572000" y="4221000"/>
            <a:chExt cx="503280" cy="576360"/>
          </a:xfrm>
        </p:grpSpPr>
        <p:sp>
          <p:nvSpPr>
            <p:cNvPr id="309" name=""/>
            <p:cNvSpPr/>
            <p:nvPr/>
          </p:nvSpPr>
          <p:spPr>
            <a:xfrm>
              <a:off x="4572000" y="4221000"/>
              <a:ext cx="503280" cy="289080"/>
            </a:xfrm>
            <a:prstGeom prst="rightArrow">
              <a:avLst>
                <a:gd name="adj1" fmla="val 50000"/>
                <a:gd name="adj2" fmla="val 43524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72000" y="4510080"/>
              <a:ext cx="503280" cy="287280"/>
            </a:xfrm>
            <a:prstGeom prst="rightArrow">
              <a:avLst>
                <a:gd name="adj1" fmla="val 50000"/>
                <a:gd name="adj2" fmla="val 43797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987640" y="2637000"/>
            <a:ext cx="2664000" cy="2162160"/>
            <a:chOff x="2987640" y="2637000"/>
            <a:chExt cx="2664000" cy="2162160"/>
          </a:xfrm>
        </p:grpSpPr>
        <p:grpSp>
          <p:nvGrpSpPr>
            <p:cNvPr id="312" name=""/>
            <p:cNvGrpSpPr/>
            <p:nvPr/>
          </p:nvGrpSpPr>
          <p:grpSpPr>
            <a:xfrm>
              <a:off x="2987640" y="4221000"/>
              <a:ext cx="647640" cy="578160"/>
              <a:chOff x="2987640" y="4221000"/>
              <a:chExt cx="647640" cy="578160"/>
            </a:xfrm>
          </p:grpSpPr>
          <p:sp>
            <p:nvSpPr>
              <p:cNvPr id="313" name=""/>
              <p:cNvSpPr/>
              <p:nvPr/>
            </p:nvSpPr>
            <p:spPr>
              <a:xfrm>
                <a:off x="2987640" y="4221000"/>
                <a:ext cx="503280" cy="289080"/>
              </a:xfrm>
              <a:prstGeom prst="rightArrow">
                <a:avLst>
                  <a:gd name="adj1" fmla="val 50000"/>
                  <a:gd name="adj2" fmla="val 43524"/>
                </a:avLst>
              </a:prstGeom>
              <a:solidFill>
                <a:srgbClr val="800000">
                  <a:alpha val="8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59280" y="4510080"/>
                <a:ext cx="576000" cy="289080"/>
              </a:xfrm>
              <a:prstGeom prst="rightArrow">
                <a:avLst>
                  <a:gd name="adj1" fmla="val 50000"/>
                  <a:gd name="adj2" fmla="val 49813"/>
                </a:avLst>
              </a:prstGeom>
              <a:solidFill>
                <a:srgbClr val="ff6600">
                  <a:alpha val="8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4284720" y="3429000"/>
              <a:ext cx="503280" cy="647640"/>
            </a:xfrm>
            <a:prstGeom prst="uturnArrow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27640" y="2637000"/>
              <a:ext cx="503280" cy="647640"/>
            </a:xfrm>
            <a:prstGeom prst="uturnArrow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5148360" y="4221000"/>
              <a:ext cx="503280" cy="576360"/>
              <a:chOff x="5148360" y="4221000"/>
              <a:chExt cx="503280" cy="576360"/>
            </a:xfrm>
          </p:grpSpPr>
          <p:sp>
            <p:nvSpPr>
              <p:cNvPr id="318" name=""/>
              <p:cNvSpPr/>
              <p:nvPr/>
            </p:nvSpPr>
            <p:spPr>
              <a:xfrm>
                <a:off x="5148360" y="4221000"/>
                <a:ext cx="503280" cy="289080"/>
              </a:xfrm>
              <a:prstGeom prst="rightArrow">
                <a:avLst>
                  <a:gd name="adj1" fmla="val 50000"/>
                  <a:gd name="adj2" fmla="val 43524"/>
                </a:avLst>
              </a:prstGeom>
              <a:solidFill>
                <a:srgbClr val="800000">
                  <a:alpha val="8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148360" y="4510080"/>
                <a:ext cx="503280" cy="287280"/>
              </a:xfrm>
              <a:prstGeom prst="rightArrow">
                <a:avLst>
                  <a:gd name="adj1" fmla="val 50000"/>
                  <a:gd name="adj2" fmla="val 43797"/>
                </a:avLst>
              </a:prstGeom>
              <a:solidFill>
                <a:srgbClr val="ff6600">
                  <a:alpha val="8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L 0.20868 -0.00023 E">
                                      <p:cBhvr>
                                        <p:cTn id="135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evt="end">
                                        <p:tn val="134"/>
                                      </p:cond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2616 L 3.61111E-006 -0.14699 E">
                                      <p:cBhvr>
                                        <p:cTn id="144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evt="end">
                                        <p:tn val="143"/>
                                      </p:cond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4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419 L 0 -0.25208 E">
                                      <p:cBhvr>
                                        <p:cTn id="147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1042 L 0 0.30463 E">
                                      <p:cBhvr>
                                        <p:cTn id="15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40741E-007 L 3.61111E-006 0.14167 E">
                                      <p:cBhvr>
                                        <p:cTn id="159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evt="end">
                                        <p:tn val="158"/>
                                      </p:cond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6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L 0.20868 -0.00023 E">
                                      <p:cBhvr>
                                        <p:cTn id="175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evt="end">
                                        <p:tn val="174"/>
                                      </p:cond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2616 L 3.61111E-006 -0.14699 E">
                                      <p:cBhvr>
                                        <p:cTn id="184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evt="end">
                                        <p:tn val="183"/>
                                      </p:cond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8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419 L 0 -0.25208 E">
                                      <p:cBhvr>
                                        <p:cTn id="187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evt="end">
                                        <p:tn val="186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1042 L 0 0.30463 E">
                                      <p:cBhvr>
                                        <p:cTn id="196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7" dur="1" fill="hold">
                                    <p:stCondLst>
                                      <p:cond evt="end">
                                        <p:tn val="195"/>
                                      </p:cond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40741E-007 L 3.61111E-006 0.14167 E">
                                      <p:cBhvr>
                                        <p:cTn id="199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evt="end">
                                        <p:tn val="198"/>
                                      </p:cond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06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L 0.20868 -0.00023 E">
                                      <p:cBhvr>
                                        <p:cTn id="215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evt="end">
                                        <p:tn val="214"/>
                                      </p:cond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2616 L 3.61111E-006 -0.14699 E">
                                      <p:cBhvr>
                                        <p:cTn id="224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3"/>
                                      </p:cond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419 L 0 -0.25208 E">
                                      <p:cBhvr>
                                        <p:cTn id="227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evt="end">
                                        <p:tn val="226"/>
                                      </p:cond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1042 L 0 0.30463 E">
                                      <p:cBhvr>
                                        <p:cTn id="236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evt="end">
                                        <p:tn val="235"/>
                                      </p:cond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40741E-007 L 3.61111E-006 0.14167 E">
                                      <p:cBhvr>
                                        <p:cTn id="239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8"/>
                                      </p:cond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6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4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Referê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COOMBE, Andrew. 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Optical fiber technology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[online].  Disponível em:  &l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ttp://www.atmforum.com/meetings/Corning.pdf&gt;.  Acesso em:  12 outubro 2003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FORCE, Inc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Effects of Dispersion on High-speed Fiber Optic Data Transmission: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ber Bandwidth isn't Infinit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online].  Disponível em:  &lt;www.fiber-optics.info/articles/dispersion.htm&gt;.  Acesso em:  10 outubro 2003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GIOZZA, William F. et al. 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Fibras Ópticas –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tecnologia e projeto de sistemas. São Paulo:  Makron Books – McGraw-Hill, 1991, p. 117-126, 531-536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NTEGRATED PUBLISHING. 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Chromatic dispersion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[online].  Disponível em:  &l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ttp://www.tpub.com/neets/tm/109-6.htm&gt;.  Acesso em:  12 outubro 2003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RAMASWAMI, Rajiv; SIVARAJAN, Kumar N. 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Optical Networks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– a practical perspective.  2. ed. London:  Academic Press, 2002, p. 283 a 382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Tópicos de Projeto Aborda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Limitaçõ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tenu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spersão Cromá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álculo da dispers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enalidade de dispers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mpensação da Dispers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ódulos de Compensação de Dispersão (DC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Limitações da Fibra Ót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tenuação (dB/K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erda de potência do si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usas principa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bsorç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palhamen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enuação máxima (projeto):  30d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4360" y="4898880"/>
            <a:ext cx="8891640" cy="14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3" name=""/>
          <p:cNvGrpSpPr/>
          <p:nvPr/>
        </p:nvGrpSpPr>
        <p:grpSpPr>
          <a:xfrm>
            <a:off x="3132000" y="5661000"/>
            <a:ext cx="2460600" cy="504720"/>
            <a:chOff x="3132000" y="5661000"/>
            <a:chExt cx="2460600" cy="504720"/>
          </a:xfrm>
        </p:grpSpPr>
        <p:sp>
          <p:nvSpPr>
            <p:cNvPr id="164" name=""/>
            <p:cNvSpPr/>
            <p:nvPr/>
          </p:nvSpPr>
          <p:spPr>
            <a:xfrm>
              <a:off x="3132000" y="5661000"/>
              <a:ext cx="576360" cy="504720"/>
            </a:xfrm>
            <a:prstGeom prst="rightArrow">
              <a:avLst>
                <a:gd name="adj1" fmla="val 50000"/>
                <a:gd name="adj2" fmla="val 28549"/>
              </a:avLst>
            </a:prstGeom>
            <a:solidFill>
              <a:srgbClr val="cccc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80000" y="5686200"/>
              <a:ext cx="504720" cy="432000"/>
            </a:xfrm>
            <a:prstGeom prst="rightArrow">
              <a:avLst>
                <a:gd name="adj1" fmla="val 50000"/>
                <a:gd name="adj2" fmla="val 29208"/>
              </a:avLst>
            </a:prstGeom>
            <a:solidFill>
              <a:srgbClr val="cccc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56000" y="5721120"/>
              <a:ext cx="360360" cy="358920"/>
            </a:xfrm>
            <a:prstGeom prst="rightArrow">
              <a:avLst>
                <a:gd name="adj1" fmla="val 50000"/>
                <a:gd name="adj2" fmla="val 25100"/>
              </a:avLst>
            </a:prstGeom>
            <a:solidFill>
              <a:srgbClr val="cccc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88000" y="5733720"/>
              <a:ext cx="360360" cy="358920"/>
            </a:xfrm>
            <a:prstGeom prst="rightArrow">
              <a:avLst>
                <a:gd name="adj1" fmla="val 50000"/>
                <a:gd name="adj2" fmla="val 25100"/>
              </a:avLst>
            </a:prstGeom>
            <a:solidFill>
              <a:srgbClr val="cccc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45200" y="5792760"/>
              <a:ext cx="347400" cy="264960"/>
            </a:xfrm>
            <a:prstGeom prst="rightArrow">
              <a:avLst>
                <a:gd name="adj1" fmla="val 50000"/>
                <a:gd name="adj2" fmla="val 32779"/>
              </a:avLst>
            </a:prstGeom>
            <a:solidFill>
              <a:srgbClr val="cccc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 repeatCount="5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Limitações da Fibra Ót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persão Cromá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argamento” dos pul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a a quantidade de informação e distância de transmiss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us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ferentes comprimentos de onda viajam a diferentes velocidad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2920" y="5046840"/>
            <a:ext cx="8893080" cy="162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2" name=""/>
          <p:cNvGrpSpPr/>
          <p:nvPr/>
        </p:nvGrpSpPr>
        <p:grpSpPr>
          <a:xfrm>
            <a:off x="2700360" y="5589720"/>
            <a:ext cx="3095640" cy="576000"/>
            <a:chOff x="2700360" y="5589720"/>
            <a:chExt cx="3095640" cy="576000"/>
          </a:xfrm>
        </p:grpSpPr>
        <p:sp>
          <p:nvSpPr>
            <p:cNvPr id="173" name=""/>
            <p:cNvSpPr/>
            <p:nvPr/>
          </p:nvSpPr>
          <p:spPr>
            <a:xfrm>
              <a:off x="2700360" y="558972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00360" y="573408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00360" y="587844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ffcc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00360" y="602136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339966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32000" y="587844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ffcc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558972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03640" y="573408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03640" y="602136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339966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95640" y="558972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80000" y="573408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08360" y="602136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339966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35280" y="587700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ffcc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45080" y="558972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29080" y="573408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7800" y="602136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339966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84720" y="587700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ffcc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64000" y="558972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76720" y="573408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03640" y="602136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339966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32360" y="587700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ffcc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804000" y="472428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8" repeatCount="5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Single-mode Fiber Dispersion"/>
          <p:cNvPicPr/>
          <p:nvPr/>
        </p:nvPicPr>
        <p:blipFill>
          <a:blip r:embed="rId1"/>
          <a:stretch/>
        </p:blipFill>
        <p:spPr>
          <a:xfrm>
            <a:off x="250920" y="1700280"/>
            <a:ext cx="4681440" cy="39114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0066"/>
                </a:solidFill>
                <a:latin typeface="Arial"/>
              </a:rPr>
              <a:t>Dispersão vs. Comprimento de Ond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4080" y="6329520"/>
            <a:ext cx="304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bra Corning SMF-28 CPC3 (monomo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Equation to Calculate Dispersion"/>
          <p:cNvPicPr/>
          <p:nvPr/>
        </p:nvPicPr>
        <p:blipFill>
          <a:blip r:embed="rId2"/>
          <a:stretch/>
        </p:blipFill>
        <p:spPr>
          <a:xfrm>
            <a:off x="4284720" y="5229360"/>
            <a:ext cx="468612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Dispersão:  Penalidade de Potênc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feito na potência recebida causado pela dispersão (d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Função d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Largura espectral da fonte lumino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spersão da fibra [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i="1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inal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primento da fib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ER (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Bit Error Rat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) [10</a:t>
            </a:r>
            <a:r>
              <a:rPr b="0" lang="pt-BR" sz="26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; 10</a:t>
            </a:r>
            <a:r>
              <a:rPr b="0" lang="pt-BR" sz="26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Normalmente, penalidade máxima é da ordem de 2 d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Optical Link Loss Budg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alanço de perdas do link ót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álculo que considera as várias perdas devidas aos componentes da transmiss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ariação de potência da fonte lumino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coplamento ót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ec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tenu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spers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nsibilidade do recep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Optical Link Loss Budg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136000" cy="323388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724680" y="5157720"/>
            <a:ext cx="1966680" cy="1215720"/>
            <a:chOff x="724680" y="5157720"/>
            <a:chExt cx="1966680" cy="1215720"/>
          </a:xfrm>
        </p:grpSpPr>
        <p:sp>
          <p:nvSpPr>
            <p:cNvPr id="205" name=""/>
            <p:cNvSpPr/>
            <p:nvPr/>
          </p:nvSpPr>
          <p:spPr>
            <a:xfrm>
              <a:off x="724680" y="5730840"/>
              <a:ext cx="1966680" cy="642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variação potê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ransmis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48000" y="5157720"/>
              <a:ext cx="142920" cy="503280"/>
            </a:xfrm>
            <a:prstGeom prst="upArrow">
              <a:avLst>
                <a:gd name="adj1" fmla="val 50000"/>
                <a:gd name="adj2" fmla="val 88035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483920" y="5084640"/>
            <a:ext cx="1410480" cy="892440"/>
            <a:chOff x="1483920" y="5084640"/>
            <a:chExt cx="1410480" cy="892440"/>
          </a:xfrm>
        </p:grpSpPr>
        <p:sp>
          <p:nvSpPr>
            <p:cNvPr id="208" name=""/>
            <p:cNvSpPr/>
            <p:nvPr/>
          </p:nvSpPr>
          <p:spPr>
            <a:xfrm>
              <a:off x="1483920" y="5608800"/>
              <a:ext cx="141048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empera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24000" y="5084640"/>
              <a:ext cx="142920" cy="503280"/>
            </a:xfrm>
            <a:prstGeom prst="upArrow">
              <a:avLst>
                <a:gd name="adj1" fmla="val 50000"/>
                <a:gd name="adj2" fmla="val 88035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891880" y="5068800"/>
            <a:ext cx="953280" cy="944640"/>
            <a:chOff x="2891880" y="5068800"/>
            <a:chExt cx="953280" cy="944640"/>
          </a:xfrm>
        </p:grpSpPr>
        <p:sp>
          <p:nvSpPr>
            <p:cNvPr id="211" name=""/>
            <p:cNvSpPr/>
            <p:nvPr/>
          </p:nvSpPr>
          <p:spPr>
            <a:xfrm>
              <a:off x="2891880" y="5645160"/>
              <a:ext cx="95328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vida út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76720" y="5068800"/>
              <a:ext cx="142560" cy="503280"/>
            </a:xfrm>
            <a:prstGeom prst="upArrow">
              <a:avLst>
                <a:gd name="adj1" fmla="val 50000"/>
                <a:gd name="adj2" fmla="val 88258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71800" y="5084640"/>
            <a:ext cx="1485360" cy="1449360"/>
            <a:chOff x="2071800" y="5084640"/>
            <a:chExt cx="1485360" cy="1449360"/>
          </a:xfrm>
        </p:grpSpPr>
        <p:sp>
          <p:nvSpPr>
            <p:cNvPr id="214" name=""/>
            <p:cNvSpPr/>
            <p:nvPr/>
          </p:nvSpPr>
          <p:spPr>
            <a:xfrm>
              <a:off x="2071800" y="6165720"/>
              <a:ext cx="148536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copla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00360" y="5084640"/>
              <a:ext cx="144360" cy="1008360"/>
            </a:xfrm>
            <a:prstGeom prst="upArrow">
              <a:avLst>
                <a:gd name="adj1" fmla="val 50000"/>
                <a:gd name="adj2" fmla="val 174626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357000" y="5068800"/>
            <a:ext cx="1296360" cy="1089000"/>
            <a:chOff x="3357000" y="5068800"/>
            <a:chExt cx="1296360" cy="1089000"/>
          </a:xfrm>
        </p:grpSpPr>
        <p:sp>
          <p:nvSpPr>
            <p:cNvPr id="217" name=""/>
            <p:cNvSpPr/>
            <p:nvPr/>
          </p:nvSpPr>
          <p:spPr>
            <a:xfrm>
              <a:off x="3357000" y="5789520"/>
              <a:ext cx="129636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conect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24360" y="5068800"/>
              <a:ext cx="144000" cy="647640"/>
            </a:xfrm>
            <a:prstGeom prst="upArrow">
              <a:avLst>
                <a:gd name="adj1" fmla="val 50000"/>
                <a:gd name="adj2" fmla="val 112438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860640" y="5068800"/>
            <a:ext cx="1244520" cy="944640"/>
            <a:chOff x="3860640" y="5068800"/>
            <a:chExt cx="1244520" cy="944640"/>
          </a:xfrm>
        </p:grpSpPr>
        <p:sp>
          <p:nvSpPr>
            <p:cNvPr id="220" name=""/>
            <p:cNvSpPr/>
            <p:nvPr/>
          </p:nvSpPr>
          <p:spPr>
            <a:xfrm>
              <a:off x="3860640" y="5645160"/>
              <a:ext cx="124452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tenu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29080" y="5068800"/>
              <a:ext cx="142920" cy="503280"/>
            </a:xfrm>
            <a:prstGeom prst="upArrow">
              <a:avLst>
                <a:gd name="adj1" fmla="val 50000"/>
                <a:gd name="adj2" fmla="val 88035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436640" y="5083200"/>
            <a:ext cx="1410480" cy="1650600"/>
            <a:chOff x="4436640" y="5083200"/>
            <a:chExt cx="1410480" cy="1650600"/>
          </a:xfrm>
        </p:grpSpPr>
        <p:sp>
          <p:nvSpPr>
            <p:cNvPr id="223" name=""/>
            <p:cNvSpPr/>
            <p:nvPr/>
          </p:nvSpPr>
          <p:spPr>
            <a:xfrm>
              <a:off x="4436640" y="6091200"/>
              <a:ext cx="1410480" cy="642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efeitos 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empera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05440" y="5083200"/>
              <a:ext cx="144360" cy="936720"/>
            </a:xfrm>
            <a:prstGeom prst="upArrow">
              <a:avLst>
                <a:gd name="adj1" fmla="val 50000"/>
                <a:gd name="adj2" fmla="val 162219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942080" y="5083200"/>
            <a:ext cx="1485360" cy="1217160"/>
            <a:chOff x="4942080" y="5083200"/>
            <a:chExt cx="1485360" cy="1217160"/>
          </a:xfrm>
        </p:grpSpPr>
        <p:sp>
          <p:nvSpPr>
            <p:cNvPr id="226" name=""/>
            <p:cNvSpPr/>
            <p:nvPr/>
          </p:nvSpPr>
          <p:spPr>
            <a:xfrm>
              <a:off x="4942080" y="5657760"/>
              <a:ext cx="1485360" cy="642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copla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o recep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81440" y="5083200"/>
              <a:ext cx="142920" cy="503280"/>
            </a:xfrm>
            <a:prstGeom prst="upArrow">
              <a:avLst>
                <a:gd name="adj1" fmla="val 50000"/>
                <a:gd name="adj2" fmla="val 88035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661360" y="5084640"/>
            <a:ext cx="2526120" cy="1431720"/>
            <a:chOff x="5661360" y="5084640"/>
            <a:chExt cx="2526120" cy="1431720"/>
          </a:xfrm>
        </p:grpSpPr>
        <p:sp>
          <p:nvSpPr>
            <p:cNvPr id="229" name=""/>
            <p:cNvSpPr/>
            <p:nvPr/>
          </p:nvSpPr>
          <p:spPr>
            <a:xfrm>
              <a:off x="5661360" y="5873760"/>
              <a:ext cx="2526120" cy="642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margem de segurança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eparos, emen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61080" y="5084640"/>
              <a:ext cx="144360" cy="720720"/>
            </a:xfrm>
            <a:prstGeom prst="upArrow">
              <a:avLst>
                <a:gd name="adj1" fmla="val 50000"/>
                <a:gd name="adj2" fmla="val 124813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7742160" y="283212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-5,5d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741800" y="479736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-31,5d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17440" y="375912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6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604360" y="314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604360" y="402912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Exemplos de Limitaçã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551628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Máxima distância a 3.11Gb/s = 85 K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=1550nm =&gt; atenuação ≈ 20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20dB &lt; Máx. (30dB)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1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LINK LIMITADO POR DISPERSÃ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Dispersion with a Normal DFB Laser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0035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642720" y="186516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ser D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89480" y="4818240"/>
            <a:ext cx="198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550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a monomodo non-D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1120" y="3378240"/>
            <a:ext cx="94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en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áx:  2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23:39:23Z</dcterms:created>
  <dc:creator>Marcos Portnoi</dc:creator>
  <dc:description/>
  <dc:language>en-US</dc:language>
  <cp:lastModifiedBy>Marcos Portnoi</cp:lastModifiedBy>
  <dcterms:modified xsi:type="dcterms:W3CDTF">2003-10-14T20:14:09Z</dcterms:modified>
  <cp:revision>46</cp:revision>
  <dc:subject/>
  <dc:title>Fibras Óticas:  aspectos de projeto de sistem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