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13.jpeg" ContentType="image/jpe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75863" cy="7562850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bs.dtu.dk/krogh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8680" y="1158840"/>
            <a:ext cx="86072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Multiple Sequence Allingment</a:t>
            </a:r>
            <a:br>
              <a:rPr sz="4400"/>
            </a:b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Hidden Markov Models</a:t>
            </a:r>
            <a:br>
              <a:rPr sz="4400"/>
            </a:b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(Textbook p273-3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06320" y="2952000"/>
            <a:ext cx="86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CS889: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ch 12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abu Tor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8440" indent="-2912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EP 2: Re-estima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   1      2     3     4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: 0.30 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3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00  0.07  0.23 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: 0.20   0.00  0.00  0.53  0.00 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: 0.24   0.47  0.16  0.32  0.77  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: 0.27   0.21  0.84  0.07  0.00 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.00   1.00  1.00  1.00  1.00  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vious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   1      2     3     4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: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.29 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00  0.20  0.20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: 0.21   0.00  0.00  0.40  0.00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: 0.23   0.60  0.20  0.20  0.80 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: 0.27   0.20  0.80  0.20  0.00 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.00   1.00  1.00  1.00  1.00  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77960" y="4668840"/>
          <a:ext cx="830556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4668840"/>
                    <a:ext cx="83055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M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ME ... Multiple EM for Motif Eli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Univ. of California at San Diego Supercomputing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ocating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one or mor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ungapped patterns 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single or in a seri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of DNA/protein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First choosing a most likely width for each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Then. finding the best EM estimate for that 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ST ... Motif Alignment and Search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erarching through databases for matches to mo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The Gibbs Sam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50"/>
              </a:spcBef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1. Create a frequency table as in the EM Algorithm using N-1 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. Calcula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weigh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r each si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in the leftout sequence using the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. Pick a site based on the w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4. Choose the next sequence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8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o to 1 unless the algorithm conver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34960" y="4506840"/>
          <a:ext cx="65660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506840"/>
                    <a:ext cx="65660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95920" y="5389560"/>
            <a:ext cx="1344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HM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"... we find that it is easier to first think of an HMM as a structure that generates protein sequences by a random process.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                                    </a:t>
            </a: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"Hidden Markov Model in Computational Biology" Krogh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buClr>
                <a:srgbClr val="000000"/>
              </a:buClr>
              <a:buSzPct val="6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There may be three choices for the first element of the seuqn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1. Match    ... Generate an amino acid at the 1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st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 pos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2. Gap        ... Not to generate an amino acid at the 1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st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 pos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3. Insertion ... Generate an amino acid preceding the 1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st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 pos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buClr>
                <a:srgbClr val="000000"/>
              </a:buClr>
              <a:buSzPct val="6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If we choose 1, for example, we again have three cho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1.1. Match    ... Generate an amino acid at the 2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nd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 pos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1.2. Gap        ... Not to generate an amino acid at the 2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nd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 pos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1.3. Insertion ... Generate an amino acid preceding the 2</a:t>
            </a:r>
            <a:r>
              <a:rPr b="0" lang="en-GB" sz="2200" spc="-1" strike="noStrike" baseline="33000">
                <a:solidFill>
                  <a:srgbClr val="333333"/>
                </a:solidFill>
                <a:latin typeface="Times New Roman"/>
              </a:rPr>
              <a:t>nd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HM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very simplified example may b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93920" y="2822400"/>
            <a:ext cx="70563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M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50"/>
              </a:spcBef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iven a transition probability for each arc, this process i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Markov Chai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ecau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17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tate at tim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t+1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) depends only on the state at tim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eref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44520" y="3151080"/>
          <a:ext cx="75898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3151080"/>
                    <a:ext cx="7589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27240" y="4775040"/>
          <a:ext cx="65516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7240" y="4775040"/>
                    <a:ext cx="6551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309760" y="5983200"/>
          <a:ext cx="4775400" cy="102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9760" y="5983200"/>
                    <a:ext cx="477540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M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reov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Because the delete states do not produce any amino acid, N &gt;= L. 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I(t+1)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is an indenx function to match the state and the amino acided produced at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hu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31760" y="2496960"/>
          <a:ext cx="854100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2496960"/>
                    <a:ext cx="854100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06560" y="3341520"/>
          <a:ext cx="561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6560" y="3341520"/>
                    <a:ext cx="561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060560" y="6359400"/>
          <a:ext cx="7607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0560" y="6359400"/>
                    <a:ext cx="7607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MM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4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561"/>
              </a:spcBef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good 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Bef>
                <a:spcPts val="561"/>
              </a:spcBef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 good model may be the one that assigns large probabilities to sequences in a certain protein fami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561"/>
              </a:spcBef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ow can we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y estimating the parameters of an HMM from training sequences using an EM algorithm. i.e., try to 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The forward-backward algorithm / the Baum-Welch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Simulated Annealing 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(insert noise to avoid a local minim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Smoothing/Pseudo Counting, Dirichlet Mix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81240" y="5056200"/>
          <a:ext cx="58597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5056200"/>
                    <a:ext cx="5859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MM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a trained HMM, the best alignment for a sequenc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y be found through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he Viterbi algorith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 dynamic algorithm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rching a Database with an HM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87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LL (Negative Log Likelihood) Score is normalized according to the sequence length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Figure is from Dr. Altman's note on the web, which was originally in Krogh et al '94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179880" y="3005280"/>
          <a:ext cx="240804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9880" y="3005280"/>
                    <a:ext cx="24080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5800" y="5697360"/>
            <a:ext cx="13892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Motif-Based H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3840" y="1953720"/>
            <a:ext cx="86072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Bef>
                <a:spcPts val="561"/>
              </a:spcBef>
              <a:buClr>
                <a:srgbClr val="000000"/>
              </a:buClr>
              <a:buSzPct val="6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 of HMM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spcBef>
                <a:spcPts val="561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training set has to be quite larg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-209160">
              <a:spcBef>
                <a:spcPts val="561"/>
              </a:spcBef>
              <a:buClr>
                <a:srgbClr val="000000"/>
              </a:buClr>
              <a:buSzPct val="49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ior data may be used to avoid this (the Drrichlet mixtur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spcBef>
                <a:spcPts val="561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re are many parameters to be tun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.g. Number and position of insert/delete states, the transition frequencies, the amino acid distribution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spcBef>
                <a:spcPts val="561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problems above are worsened for short sequence frag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spcBef>
                <a:spcPts val="561"/>
              </a:spcBef>
              <a:buClr>
                <a:srgbClr val="000000"/>
              </a:buClr>
              <a:buSzPct val="6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ta MEME (UCSD Super Computing Ce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7720" indent="-278640">
              <a:spcBef>
                <a:spcPts val="561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nd motif in a set of related protein sequences and the spacer regions between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-209160">
              <a:spcAft>
                <a:spcPts val="850"/>
              </a:spcAft>
              <a:buClr>
                <a:srgbClr val="000000"/>
              </a:buClr>
              <a:buSzPct val="49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M algorith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is used to find common subsequ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-209160">
              <a:spcAft>
                <a:spcPts val="850"/>
              </a:spcAft>
              <a:buClr>
                <a:srgbClr val="000000"/>
              </a:buClr>
              <a:buSzPct val="49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simplified HMM with a small number of parameters is produc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&gt; Transition probabilities are 1 between some states in the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istic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xpectation Maximizatino (EM)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Times New Roman"/>
              </a:rPr>
              <a:t>Multiple EM for Motif Elicitation (ME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The Gibbs Sam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iddne Markov Model (H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Motif-based H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Position Specific Sequence Matrices (PSS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Times New Roman"/>
              </a:rPr>
              <a:t>Sequence Lo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PS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SM ... Position Specific Sequence Matr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ogarithmic transformation of the amino acid frequencies at each position in a motif 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Pseudo Coun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quence Log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Graphs that illustrate the amount of information in each colum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Height of each Logo = Uncertainty it contributes to redu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(Figure from "A Gallery of Sequence logo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imes New Roman"/>
              </a:rPr>
              <a:t>" http://www-lmmb.ncifcrf.gov/~toms/sequencelogo.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151760" y="5726160"/>
            <a:ext cx="227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book "Bioinformatics / Sequence and Genome Analysi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vid W. 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"Foundations of Statistical Natural Language Processing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ristopher D. Manning and Hinrich Schut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"Hidden Markov Model in Computational B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 to Protein Modeling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ers Krogh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"Introduction to Hidden Markov Models for Biological Sequence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ers Kro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www.cbs.dtu.dk/krogh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r. Russ Altman's lecture notes on the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2440" y="6127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M Algorith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blem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spcAft>
                <a:spcPts val="112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E.g. Given 5 sequence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CGCTGT</a:t>
            </a:r>
            <a:r>
              <a:rPr b="0" lang="en-GB" sz="26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GTAAGTT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ACG</a:t>
            </a:r>
            <a:r>
              <a:rPr b="0" lang="en-GB" sz="26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GTCGAAGTT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ATGTCC</a:t>
            </a:r>
            <a:r>
              <a:rPr b="0" lang="en-GB" sz="26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GACTGG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AGGCCTGA</a:t>
            </a:r>
            <a:r>
              <a:rPr b="0" lang="en-GB" sz="26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CGACC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AGCATC</a:t>
            </a:r>
            <a:r>
              <a:rPr b="0" lang="en-GB" sz="26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GTACTCG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* In this example, suppose the length of the sequences are the same, and    the length of the subsequence is fix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5440" y="2759040"/>
            <a:ext cx="7874280" cy="942840"/>
          </a:xfrm>
          <a:prstGeom prst="roundRect">
            <a:avLst>
              <a:gd name="adj" fmla="val 1623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iven a set of unaligned protein/DNA sequen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dentify any common sub-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7240" y="1574280"/>
            <a:ext cx="8607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Bef>
                <a:spcPts val="275"/>
              </a:spcBef>
              <a:buClr>
                <a:srgbClr val="000000"/>
              </a:buClr>
              <a:buSzPct val="6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Ide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spcBef>
                <a:spcPts val="561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Build a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model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that underlies the given sequ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Note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: the model calculates the probability of, for exampl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0" lang="en-GB" sz="2200" spc="-1" strike="noStrike">
                <a:solidFill>
                  <a:srgbClr val="333333"/>
                </a:solidFill>
                <a:latin typeface="Courier New"/>
              </a:rPr>
              <a:t>CGCTGT</a:t>
            </a:r>
            <a:r>
              <a:rPr b="0" lang="en-GB" sz="2200" spc="-1" strike="noStrike">
                <a:solidFill>
                  <a:srgbClr val="ff0000"/>
                </a:solidFill>
                <a:latin typeface="Courier New"/>
              </a:rPr>
              <a:t>GACCAT</a:t>
            </a:r>
            <a:r>
              <a:rPr b="0" lang="en-GB" sz="2200" spc="-1" strike="noStrike">
                <a:solidFill>
                  <a:srgbClr val="333333"/>
                </a:solidFill>
                <a:latin typeface="Courier New"/>
              </a:rPr>
              <a:t>TGTAAGT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is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Thus, the probability of this sequence (w/o a subseq position)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2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Therefore, the probability that the given sequences occur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Notice the proper model should maximize the probability abo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440" indent="-272880">
              <a:spcBef>
                <a:spcPts val="1125"/>
              </a:spcBef>
              <a:buClr>
                <a:srgbClr val="000000"/>
              </a:buClr>
              <a:buSzPct val="9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The </a:t>
            </a:r>
            <a:r>
              <a:rPr b="0" i="1" lang="en-GB" sz="2200" spc="-1" strike="noStrike">
                <a:solidFill>
                  <a:srgbClr val="333333"/>
                </a:solidFill>
                <a:latin typeface="Times New Roman"/>
              </a:rPr>
              <a:t>hidden structure</a:t>
            </a: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 in the model is where the subsequence starts... I think : 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33400" y="3505320"/>
          <a:ext cx="7778880" cy="3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3505320"/>
                    <a:ext cx="777888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717560" y="5334120"/>
          <a:ext cx="630108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7560" y="5334120"/>
                    <a:ext cx="6301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920960" y="4276800"/>
          <a:ext cx="690552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0960" y="4276800"/>
                    <a:ext cx="6905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42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Make an initial guess for a 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site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in each sequence, and create a frequency table,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i.e., calculate </a:t>
            </a:r>
            <a:r>
              <a:rPr b="0" i="1" lang="en-GB" sz="2400" spc="-1" strike="noStrike">
                <a:solidFill>
                  <a:srgbClr val="808080"/>
                </a:solidFill>
                <a:latin typeface="Times New Roman"/>
              </a:rPr>
              <a:t>P( . | BG )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808080"/>
                </a:solidFill>
                <a:latin typeface="Times New Roman"/>
              </a:rPr>
              <a:t>P( . | Pos i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Step 1: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Based on the current 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table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, estimate the expected values of the 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hidden structure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i.e., calculate the probabilities of subsequences starting at each position in each sequ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Step 2: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Max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Based on 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the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 hidden structure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, rebuild the </a:t>
            </a: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table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Go to Step 1 unless the algorithm conve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0">
              <a:spcBef>
                <a:spcPts val="112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Algorithm may converge to a local, not global, mi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3120" y="2101680"/>
            <a:ext cx="87487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8440" indent="-2912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itial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.g., looking for a subseq of length 5 in 5 sequ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ff3366"/>
                </a:solidFill>
                <a:latin typeface="Courier New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2345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6789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2345678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 G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T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GTCG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G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A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GGT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TTTTT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GTTA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GG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CT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A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TGG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T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T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G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GGAGA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GG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GC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 C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TTCG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CCG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A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GG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   1      2     3     4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: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0.2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0.00  0.20  0.20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: 0.21   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0.00  0.00  0.40  0.00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: 0.23   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0.60  0.20  0.20  0.80 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: 0.27   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0.20  0.80  0.20  0.00 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.00   </a:t>
            </a: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.00  1.00  1.00  1.00  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0.2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= 22/((20-5)*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=  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3120" y="2101680"/>
            <a:ext cx="8748720" cy="48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EP 1: Estimatio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E.g.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GCACT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GTCGGCGAAATGGTA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G     1      2     3     4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: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0.20  0.00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20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0.00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40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: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6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0.20  0.20  0.80 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: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7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0.20  0.80  0.20  0.00 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6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7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G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CACTG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TCGGCGAAATGG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4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0.2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0.27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7960" y="5045040"/>
          <a:ext cx="132732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7960" y="5045040"/>
                    <a:ext cx="1327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434960" y="6642000"/>
          <a:ext cx="132732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6642000"/>
                    <a:ext cx="1327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imes New Roman"/>
              </a:rPr>
              <a:t>EM Algorithm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6120" y="2048040"/>
            <a:ext cx="874872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EP 1: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E.g.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0" lang="en-GB" sz="1800" spc="-1" strike="noStrike">
                <a:solidFill>
                  <a:srgbClr val="333333"/>
                </a:solidFill>
                <a:latin typeface="Courier New"/>
              </a:rPr>
              <a:t>123456789012345678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333333"/>
                </a:solidFill>
                <a:latin typeface="Courier New"/>
              </a:rPr>
              <a:t>1 GCACTGTCGGCGAAATGG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Also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Times New Roman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98720" y="3917880"/>
          <a:ext cx="47196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3917880"/>
                    <a:ext cx="4719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31960" y="5540400"/>
          <a:ext cx="734040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5540400"/>
                    <a:ext cx="7340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44560" y="6519960"/>
          <a:ext cx="732456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560" y="6519960"/>
                    <a:ext cx="73245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6:08:24Z</dcterms:created>
  <dc:creator/>
  <dc:description/>
  <dc:language>en-US</dc:language>
  <cp:lastModifiedBy> </cp:lastModifiedBy>
  <cp:revision>0</cp:revision>
  <dc:subject/>
  <dc:title/>
</cp:coreProperties>
</file>