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E85C-F161-460C-841B-3A137BA9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C0A5-B7E6-4E69-A377-3EC56B00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BB3D-9D9E-4F89-8026-6C8E6E8E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8734-B980-4FA2-AED8-3BF927D3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C52E-235B-43AF-8872-E5081EB9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85B5-5F2A-4162-9DFE-900134F2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03F8-C6D2-428B-8F0A-699775F8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921-8B0B-43CB-BE7C-2C9A42DE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3565-3110-4FD7-8AF2-37C8EE57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ED2-598F-4B56-BB4D-9A076496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B93-EE15-4032-85DF-00469D67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FBFE-4E82-4697-BD9E-C8A51525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34F0-BEBE-47E3-A5F6-1AC838819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Gene Predic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cey Shindo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15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Quick Review of HMMs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581280" y="1066680"/>
            <a:ext cx="177192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13520" y="533520"/>
            <a:ext cx="37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5 sequences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52480" y="2666880"/>
            <a:ext cx="6096240" cy="2438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52040" y="2286000"/>
            <a:ext cx="78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generate this simple (0th order) hidden Markov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241960"/>
            <a:ext cx="899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 P(ACACATC) = (0.8 * 1)*(0.8*1)*(0.8*0.6)*(0.4*0.6)*(1*1)*(0.8*1)*(0.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            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             A         T         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e would actually use log-odds (sequence S = logP(S) - length(S)*log0.25 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P(nucleotide)/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048120"/>
            <a:ext cx="220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ertion state(highly variable reg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3505320"/>
            <a:ext cx="2043000" cy="228600"/>
          </a:xfrm>
          <a:prstGeom prst="rightArrow">
            <a:avLst>
              <a:gd name="adj1" fmla="val 50000"/>
              <a:gd name="adj2" fmla="val 223425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9240" y="42670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ctually……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5572080" cy="2667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3276720"/>
            <a:ext cx="220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ertion state(highly variable reg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886200"/>
            <a:ext cx="1600200" cy="228600"/>
          </a:xfrm>
          <a:prstGeom prst="rightArrow">
            <a:avLst>
              <a:gd name="adj1" fmla="val 50000"/>
              <a:gd name="adj2" fmla="val 1750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480060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71000" y="44956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266688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160" y="2057400"/>
            <a:ext cx="42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s that don’t match 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.e. when  ‘-’ occurs in some of the sequences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HMMs for Gene Find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represent ‘regular’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for finding genes (but not for, say, RNA folding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 simplified gene grammar rules may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w/ start-codon, end w/ end-co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ngth is divisible by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top-codons in the reading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to consid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nucleotide p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AG is more common than 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cleotides are not necessarily independ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higher order Markov models to express pre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A (simplified) DNA sequence</a:t>
            </a:r>
            <a:br>
              <a:rPr sz="36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362320"/>
            <a:ext cx="91440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moter  StartCodon     CodingRegion     StopCodon      intergenicRegion  Promoter StartCo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23280" y="3352680"/>
            <a:ext cx="35730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on    intron    exon   intron   ex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274320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219320" y="388584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0560" y="4191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or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14600" y="38862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434340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or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33880" y="3809880"/>
            <a:ext cx="2009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A, TAG, T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2819520"/>
            <a:ext cx="10666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31160" y="3352680"/>
            <a:ext cx="704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29600" y="28195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246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0292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idea is to have Markov models for each of these gene regions/signals, and combine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models into one Markov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.e some states in the combined model are themselves Markov mod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Example of dinucleotide preference   (human acceptor sites)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06560" y="1558800"/>
            <a:ext cx="5181480" cy="2548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88520" y="56844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n ends with 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273280" y="1025640"/>
            <a:ext cx="22860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1240" y="53352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or splic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78360" y="79704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27000" y="1330200"/>
            <a:ext cx="5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20960" y="12542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4114800"/>
            <a:ext cx="838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is a preference for AG at the acceptor splice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use conditional probab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.e. what is the probability of  y, given x  P(y |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ead of 4 probabilities at every states, we have 16 (except at the first on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this is a 1st order Markov model (since the probability is conditional on 1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ious nucleot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For codons, we can use higher order models since there is also dependencies bw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ighboring codons  (e.g. three 4th order states for each base in the cod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4971960" cy="1361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63320" y="152280"/>
            <a:ext cx="65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ing the models - a (very) simple gen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752560" y="2438280"/>
            <a:ext cx="6391440" cy="3953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0640" y="198108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ron model for sp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838160" y="320040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762200" y="365760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3657600"/>
            <a:ext cx="1305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7680" y="3124080"/>
            <a:ext cx="20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possible 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= three intron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VEIL (Viterbi Exon-Intron Locator</a:t>
            </a:r>
            <a:br>
              <a:rPr sz="3200"/>
            </a:b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(Henderson et al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320" y="1371600"/>
            <a:ext cx="86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mbined HMMs for exons, introns, intergenic regions, splice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562880" cy="2514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8080" y="4419720"/>
            <a:ext cx="7772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used Expectation Maximization (E-M) to train th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Viterbi algorithm(dyn. Prog) to align new sequen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I.e. finds the most likely sequence of sta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RIMENTAL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correctly located both ends of 53% of coding ex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49% of exons that VEIL predicted were exactly corr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Exon and Stop Codon models in VEIL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7560" y="5451480"/>
            <a:ext cx="860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blank states on either side can output any base (allow alignme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 reading fr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14480" y="1576440"/>
            <a:ext cx="5315040" cy="3705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flipV="1">
            <a:off x="990720" y="3048120"/>
            <a:ext cx="106668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Intron model (VEIL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43120" y="1952640"/>
            <a:ext cx="56577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onor site (5’ splice site)  - VEIL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095880" cy="3133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V="1">
            <a:off x="3429000" y="4571640"/>
            <a:ext cx="91440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5715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on-intron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first order states/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Reading Frames (ORF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karyotic S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structure (functional sites and reg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 for gene recognition in Eukaryotic S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ology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ed probabilist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ur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GENSCAN(Burge and Karlin) </a:t>
            </a:r>
            <a:br>
              <a:rPr sz="3200"/>
            </a:b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- a mixed approach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current models assume input sequence contains exactly one complete 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sequence contains multiple or partial genes, models often don’t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S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and specific compositional properties of distinct functional units in eukaryotic gen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exon, intron, splice site, promoters,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three-periodic (inhomogenous) fifth-order Markov model of coding reg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both DNA st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ces may contain multiple or partial 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al Dependence Composition (MD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ws for dependencies between signal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abilistic model to capture dependencies bw nucleotides at splice 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gorithm - a little complicated for me (see paper in References for detai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43040" y="771480"/>
            <a:ext cx="7657920" cy="5315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0"/>
            <a:ext cx="56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imal Dependence Decomposi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0600" y="22860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54 donor splice sites analy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76212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914400"/>
            <a:ext cx="2666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0920" y="395280"/>
            <a:ext cx="38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57 of them had G at position +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Neural Network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01028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s taken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n Introduction to HMMs for Biological Sequences, A. Krogh(1998) in Computational Methods in Molecular Biology, edited by Salzberg, et 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nding Genes in DNA with a Hidden Markov Model, J. Hendersen et al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urnal of Computational Biology 4:2 (1997), 127-14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served Exon Method for Gene Finding, V. Bafna et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uss Altmans BMI 214 Lecture n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ediction of Complete Gene Structures in Human Genomic DNA, Burge and Karlin (J. Mol. Biol, 1997, 268,78-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oding Regions in Prokaryot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5410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Gene Finding via Open Reading Frame(ORF) Predic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possible OR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s 1,2,and 3 in 5’ to 3’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s 1,2, and 3 in 5’ to 3’ direction of complimentary st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G start co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 codons usually TAA, TAG, T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k of introns in coding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longest reading frame from ATG to stop co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encoding regions will have stop codons, hence short reading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genes overlap in different ORFs??  Textbook says ‘sometime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od, but not perfect, prediction of protein-encoding reg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ually &gt; 300 amino acids in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Basic Eukaryotic Stuctur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5791320" cy="3071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72200" y="4800600"/>
            <a:ext cx="2819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3’ untranslated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4200" y="5791320"/>
            <a:ext cx="69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ons code for proteins, introns are cut out via sp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plic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34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karyotic 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162560" y="1143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29400" y="152388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n begins with 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038480" y="3123720"/>
            <a:ext cx="1524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480" y="33526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n ends with 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Summary- Eukaryotes Gene Identifiers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ion Signals (functional si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TA box (25-30 base-pairs(bps) upstream of st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NA PolyII prom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% pre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 A sit at 3’ 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of adenosine residues  (AATAA + A-rich-sequence 20-30 bps aw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t in 50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moter 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ional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t codons  (AT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zak” signal upstream from ATG start  (Consensus = (GCC)GCCGCCATG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op codons  (TAA TGA, TA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ns and exons (functional region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ns can have stop cod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ns begin with GT,  end with 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ce s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or s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or s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lice site prediction (e.g. GeneSplic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Methods for Identific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logy based (e.g. Procrus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ce similarity with known proteins (need close homolo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ing regions fairly well con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identity at AA level of human and mouse &gt; 8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BLASTX used to find ex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not attempt to find complete gene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.e. doesn’t effectively find actual splice boundar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st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description of gene structure (e.g. splice junctions, coding regions, start/stop cod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ed HMMs and other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al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29:58Z</dcterms:created>
  <dc:creator>stacey</dc:creator>
  <dc:description/>
  <dc:language>en-US</dc:language>
  <cp:lastModifiedBy>stacey</cp:lastModifiedBy>
  <dcterms:modified xsi:type="dcterms:W3CDTF">2002-03-21T20:09:23Z</dcterms:modified>
  <cp:revision>76</cp:revision>
  <dc:subject/>
  <dc:title>Gene Prediction</dc:title>
</cp:coreProperties>
</file>