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嘀攀爀搀愀渀愀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8C8-B518-4CF7-BF13-721DADAE5E79}" type="slidenum">
              <a:rPr b="0" lang="en-US" sz="12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ching positions with functional separations are expected to be additive. In reality N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is assumption is true, but there may be cases where a correlation—which is not just by chance—ex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ifficult, because in proteins we have 20 amino acids. In DNA, there are only 4 nucleotides. More difficult to detect a pattern from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: Transcription of protein-encoding genes by RNA polymerase 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: Transcription of protein-encoding genes by RNA polymerase 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: Transcription of protein-encoding genes by RNA polymerase 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N-GA : Neural netwok-Genetic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moter recognition profile is produced u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nsity of TF sites at least 50 bp apart in known sequences of the EPD (eukaryotic Promoter DB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promoter primate sequences from Genbank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moterSc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ies in consecutive 100-bp upstream regions -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xamer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55B-0153-4C11-836A-0BCF3DD6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BA4-DD84-43F5-BC54-6AA26B17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8CB-B925-4124-96D6-DD0EAA7D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CF3-6CFD-4E51-BC3D-FB1D2FA8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E6C1D-9D07-4619-8CE0-7D823776BB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19F5-0077-4200-8E12-3813B83762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ABC17-C4A9-4B3A-A22B-55B4369031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66A25-7477-48EF-9265-598311E40F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4BAC-91D1-40F0-A03E-646A9290DA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41040"/>
            <a:ext cx="86104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F2A49-8C3F-4051-BFE9-41800B47B0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612F8-BFEA-4442-997F-33BB689200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914-AC1A-44C5-BC32-5531BDD9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C65DF-373D-43C3-B057-DBD5F47639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CDD5C-4EAD-4B52-9004-DB74C5DB69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5EEA8-0D3D-4CD5-B733-83D8D1F362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1FF4A-577C-4A65-A04D-7EDAC9678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187B8-748D-4DB1-9345-1FBC8D05A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0EA0-6D4C-40A2-829C-06940899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F5E-DE3B-4C59-B16B-62051BDA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9C88-8C77-4C1C-B1E6-EBCB1262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1040"/>
            <a:ext cx="861048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AEAC-C0F2-4331-AF9D-ADA490F1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9C37-76FC-488E-96E2-39BD0C5D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735-BE59-406C-A20F-295909C7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4DE-2F40-49CF-977C-C6D0B54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418E-D011-455C-898D-8235B8D3D883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28520"/>
            <a:ext cx="7678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3691-85D0-4FFA-B0BE-BF7E463D3485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嘀攀爀搀愀渀愀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9400" y="1928520"/>
            <a:ext cx="76788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Gene Prediction (cont’d)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352680" y="2860560"/>
            <a:ext cx="51055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For CISC 889 (Bioinformatics)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Ozcan KOC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March 26, 2002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D7E38-A726-4EB8-915D-2A13A3777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610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嘀攀爀搀愀渀愀"/>
              </a:rPr>
              <a:t>A Scoring Matrix for </a:t>
            </a:r>
            <a:r>
              <a:rPr b="0" i="1" lang="en-US" sz="2500" spc="-1" strike="noStrike">
                <a:solidFill>
                  <a:srgbClr val="ffffff"/>
                </a:solidFill>
                <a:latin typeface="嘀攀爀搀愀渀愀"/>
              </a:rPr>
              <a:t>E.Coli</a:t>
            </a:r>
            <a:r>
              <a:rPr b="0" lang="en-US" sz="2500" spc="-1" strike="noStrike">
                <a:solidFill>
                  <a:srgbClr val="ffffff"/>
                </a:solidFill>
                <a:latin typeface="嘀攀爀搀愀渀愀"/>
              </a:rPr>
              <a:t> promoters (-10 position)</a:t>
            </a:r>
            <a:endParaRPr b="0" lang="en-US" sz="25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1695600"/>
          <a:ext cx="4647960" cy="1581120"/>
        </p:xfrm>
        <a:graphic>
          <a:graphicData uri="http://schemas.openxmlformats.org/drawingml/2006/table">
            <a:tbl>
              <a:tblPr/>
              <a:tblGrid>
                <a:gridCol w="1294560"/>
                <a:gridCol w="838080"/>
                <a:gridCol w="838440"/>
                <a:gridCol w="838800"/>
                <a:gridCol w="838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3.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2960" y="3809880"/>
          <a:ext cx="4687920" cy="2766960"/>
        </p:xfrm>
        <a:graphic>
          <a:graphicData uri="http://schemas.openxmlformats.org/drawingml/2006/table">
            <a:tbl>
              <a:tblPr/>
              <a:tblGrid>
                <a:gridCol w="1176120"/>
                <a:gridCol w="878040"/>
                <a:gridCol w="877680"/>
                <a:gridCol w="878040"/>
                <a:gridCol w="8780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Pos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28600" y="7621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嘀攀爀搀愀渀愀"/>
              </a:rPr>
              <a:t>Fraction of each base at each column of the aligned promoters in the –10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352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嘀攀爀搀愀渀愀"/>
              </a:rPr>
              <a:t>Log odds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35053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Log(0.79/0.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1981080"/>
            <a:ext cx="990360" cy="2971800"/>
          </a:xfrm>
          <a:custGeom>
            <a:avLst/>
            <a:gdLst>
              <a:gd name="textAreaLeft" fmla="*/ 132480 w 990360"/>
              <a:gd name="textAreaRight" fmla="*/ 857880 w 99036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695680"/>
            <a:ext cx="327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嘀攀爀搀愀渀愀"/>
              </a:rPr>
              <a:t>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嘀攀爀搀愀渀愀"/>
              </a:rPr>
              <a:t>Freq. Observed        .      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Freq. Expected (bg fre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00100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84B-4224-4C2D-8A00-A19965836C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04920" y="1828800"/>
          <a:ext cx="5182920" cy="5072040"/>
        </p:xfrm>
        <a:graphic>
          <a:graphicData uri="http://schemas.openxmlformats.org/drawingml/2006/table">
            <a:tbl>
              <a:tblPr/>
              <a:tblGrid>
                <a:gridCol w="457200"/>
                <a:gridCol w="533160"/>
                <a:gridCol w="1067040"/>
                <a:gridCol w="990360"/>
                <a:gridCol w="1067040"/>
                <a:gridCol w="106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1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486400" y="2362320"/>
            <a:ext cx="3352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Log odds score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49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4.81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0.8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24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0.56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4.8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-9.6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odds=2</a:t>
            </a:r>
            <a:r>
              <a:rPr b="1" lang="en-US" sz="2200" spc="-1" strike="noStrike" baseline="64000">
                <a:solidFill>
                  <a:srgbClr val="000000"/>
                </a:solidFill>
                <a:latin typeface="嘀攀爀搀愀渀愀"/>
              </a:rPr>
              <a:t>-9.6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1/78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Locating –10 Promoter Sites in E. coli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E39-69CB-418D-AEF3-000D911523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1828800"/>
          <a:ext cx="5182920" cy="4767120"/>
        </p:xfrm>
        <a:graphic>
          <a:graphicData uri="http://schemas.openxmlformats.org/drawingml/2006/table">
            <a:tbl>
              <a:tblPr/>
              <a:tblGrid>
                <a:gridCol w="457200"/>
                <a:gridCol w="533160"/>
                <a:gridCol w="1067040"/>
                <a:gridCol w="990360"/>
                <a:gridCol w="1067040"/>
                <a:gridCol w="106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0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5486400" y="2362320"/>
            <a:ext cx="3352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Log odds score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34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3.2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0.06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0.89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0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-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4.8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-9.30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odds=2</a:t>
            </a:r>
            <a:r>
              <a:rPr b="1" lang="en-US" sz="2200" spc="-1" strike="noStrike" baseline="64000">
                <a:solidFill>
                  <a:srgbClr val="000000"/>
                </a:solidFill>
                <a:latin typeface="嘀攀爀搀愀渀愀"/>
              </a:rPr>
              <a:t>-9.3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1/6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Locating –10 Promoter Sites in E. coli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0DD-BD4D-40F6-B873-875E2D97A9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04920" y="1828800"/>
          <a:ext cx="5182920" cy="4767120"/>
        </p:xfrm>
        <a:graphic>
          <a:graphicData uri="http://schemas.openxmlformats.org/drawingml/2006/table">
            <a:tbl>
              <a:tblPr/>
              <a:tblGrid>
                <a:gridCol w="380880"/>
                <a:gridCol w="609480"/>
                <a:gridCol w="1067040"/>
                <a:gridCol w="990360"/>
                <a:gridCol w="1067040"/>
                <a:gridCol w="106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0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3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4.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1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5486400" y="2362320"/>
            <a:ext cx="3352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Log odds score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67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9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0.8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24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02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+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1.95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</a:t>
            </a:r>
            <a:r>
              <a:rPr b="1" lang="en-US" sz="2200" spc="-1" strike="noStrike">
                <a:solidFill>
                  <a:srgbClr val="9a0000"/>
                </a:solidFill>
                <a:latin typeface="嘀攀爀搀愀渀愀"/>
              </a:rPr>
              <a:t>8.61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 b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odds=2</a:t>
            </a:r>
            <a:r>
              <a:rPr b="1" lang="en-US" sz="2200" spc="-1" strike="noStrike" baseline="64000">
                <a:solidFill>
                  <a:srgbClr val="000000"/>
                </a:solidFill>
                <a:latin typeface="嘀攀爀搀愀渀愀"/>
              </a:rPr>
              <a:t>8.61</a:t>
            </a: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=391/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Locating –10 Promoter Sites in E. coli(3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28B-8ABB-4FF3-9988-5A039CF488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Locating –10 Promoter Sites in E. coli(4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Scoring matrices are applied for regions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–35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 (35bp),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-10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(10bp) and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+1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(12bp) for both strand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Each matrix will provide a distribution of odds score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Matches are examined for spacing characteristics of promoter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Result: log odds score represents an overall likelihood for regions matching characteristics E.coli promoters w/ correct spacing.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7FBD-D06C-4876-9BB0-1686D9480F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blems with Matrix Method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Adds scores for each sequence position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in reality: one pos. in –10 region may play a role in one stage of transcription (I.e. promoter recognition), and another pos. inelongation of mRNA, etc.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Promoters are treated as being in the same class. In reality: different RNA polymerase may have preference for different regions in promoter region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Promoter sequence is treated as a Markov chain(I.e. each position is independent from others). In reality, there may be a correlation between sequence position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352-F4D5-4CB2-AA4B-E9F22AC441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Neural Networks for </a:t>
            </a:r>
            <a:r>
              <a:rPr b="0" i="1" lang="en-US" sz="3200" spc="-1" strike="noStrike">
                <a:solidFill>
                  <a:srgbClr val="ffffff"/>
                </a:solidFill>
                <a:latin typeface="嘀攀爀搀愀渀愀"/>
              </a:rPr>
              <a:t>E.Coli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Promoter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2600" y="1600200"/>
            <a:ext cx="8110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Use a neural nw trained to distinguish E.Coli sequences from non-promoter sequences (Pedersen et. Al ‘96)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Horton and Kanehisa ’92 used a neural network lacking a hidden layer(perceptron)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Scan the sequence to be analyzed using a sliding window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Sequence characters are given a simple identification scheme to avoid any bias (e.g. A is 1000, G is 0100 etc)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Perceptron: No more efficient than matrix method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C99-C6F6-4B92-A341-C7F2E80AA8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04400"/>
            <a:ext cx="914400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嘀攀爀搀愀渀愀"/>
              </a:rPr>
              <a:t>Perceptron Model for Locating </a:t>
            </a:r>
            <a:r>
              <a:rPr b="0" i="1" lang="en-US" sz="2800" spc="-1" strike="noStrike">
                <a:solidFill>
                  <a:srgbClr val="ffffff"/>
                </a:solidFill>
                <a:latin typeface="嘀攀爀搀愀渀愀"/>
              </a:rPr>
              <a:t>E.coli</a:t>
            </a:r>
            <a:r>
              <a:rPr b="0" lang="en-US" sz="2800" spc="-1" strike="noStrike">
                <a:solidFill>
                  <a:srgbClr val="ffffff"/>
                </a:solidFill>
                <a:latin typeface="嘀攀爀搀愀渀愀"/>
              </a:rPr>
              <a:t> promoters</a:t>
            </a:r>
            <a:endParaRPr b="0" lang="en-US" sz="28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14440" y="30477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coring Matrix Equival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95680" y="3657600"/>
          <a:ext cx="4216680" cy="2836800"/>
        </p:xfrm>
        <a:graphic>
          <a:graphicData uri="http://schemas.openxmlformats.org/drawingml/2006/table">
            <a:tbl>
              <a:tblPr/>
              <a:tblGrid>
                <a:gridCol w="436680"/>
                <a:gridCol w="762120"/>
                <a:gridCol w="460080"/>
                <a:gridCol w="492480"/>
                <a:gridCol w="761760"/>
                <a:gridCol w="130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UM=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9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22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9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4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2+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24=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1.0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indicates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57200" y="1066680"/>
            <a:ext cx="365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he Percep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04920" y="1600200"/>
          <a:ext cx="2855880" cy="2733840"/>
        </p:xfrm>
        <a:graphic>
          <a:graphicData uri="http://schemas.openxmlformats.org/drawingml/2006/table">
            <a:tbl>
              <a:tblPr/>
              <a:tblGrid>
                <a:gridCol w="385560"/>
                <a:gridCol w="1235160"/>
                <a:gridCol w="1235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01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10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01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10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10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[0100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124080" y="2743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905120"/>
            <a:ext cx="1295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362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28195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28800" y="2971440"/>
            <a:ext cx="1295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28800" y="3047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3124080"/>
            <a:ext cx="1295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8128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19810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Output of approxim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1 indicates fun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0 indicates no fun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89280" y="1600200"/>
          <a:ext cx="1616040" cy="2514600"/>
        </p:xfrm>
        <a:graphic>
          <a:graphicData uri="http://schemas.openxmlformats.org/drawingml/2006/table">
            <a:tbl>
              <a:tblPr/>
              <a:tblGrid>
                <a:gridCol w="161604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1  weigh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w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1C5-A4E1-4A05-9D2A-15596A2AE4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inding Less-conserved Binding Sites 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810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In E.Coli the sequences could be aligned by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TSS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,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-10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 and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–35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 regions. In many cases, it is not possible to find conserved binding site by aligning the sequences.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Similar to finding patterns common to a set of protein sequences that cannot be aligned. However, more difficult.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spcBef>
                <a:spcPts val="624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Methods: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35480" indent="-282960"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Expectation maximization: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31480" indent="-226080">
              <a:spcBef>
                <a:spcPts val="476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嘀攀爀搀愀渀愀"/>
              </a:rPr>
              <a:t>Guess an initial scoring matrix of estimated length.</a:t>
            </a:r>
            <a:endParaRPr b="0" lang="en-US" sz="19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31480" indent="-226080">
              <a:spcBef>
                <a:spcPts val="476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嘀攀爀搀愀渀愀"/>
              </a:rPr>
              <a:t>Scan each sequence, calculate probability of matches, update (sequence pos. x probability) scoring matrix, then repeat until no change.</a:t>
            </a:r>
            <a:endParaRPr b="0" lang="en-US" sz="19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1B6-BF66-43CD-9B54-E93F92323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inding Less-conserved Binding Sites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嘀攀爀搀愀渀愀"/>
              </a:rPr>
              <a:t>Methods Cont’d:</a:t>
            </a:r>
            <a:endParaRPr b="0" lang="en-US" sz="29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Hidden Markov Model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Statistical Method of Finding Pattern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A dinucleotide analysis performed to reduce background noise. A Gibbs sampling method considering inverted repeats (e.g. for lexA) is applied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Hertz, Stormo and Hartzell Method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Example: how the algorithm compares a fixed window of sequence (4) in a set of sequences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524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Object: find the 4-mer in each sequence that constitutes as nearly as can be found in ALL seq.s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E6F-B492-40D4-BF65-1819E8795A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Evaluation of Gene Prediction Algorithm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Promoter prediction in prokaryot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coring matrices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Prediction of less conserved region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Promoter prediction in eukaryot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Otto (Celera)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0DC-12F6-4F83-A503-88B7EB872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19836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嘀攀爀搀愀渀愀"/>
              </a:rPr>
              <a:t>Hertz, Stormo and Hartzell Method (for DNA-binding Sites)</a:t>
            </a:r>
            <a:endParaRPr b="0" lang="en-US" sz="23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809880" y="914400"/>
          <a:ext cx="2362320" cy="191124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04920"/>
                <a:gridCol w="3045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8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52280" y="2836800"/>
          <a:ext cx="2398680" cy="197640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41280"/>
                <a:gridCol w="3049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 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523880" y="685800"/>
          <a:ext cx="6096240" cy="609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uence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uence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uence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9a0000"/>
                          </a:solidFill>
                          <a:uFillTx/>
                          <a:latin typeface="嘀攀爀搀愀渀愀"/>
                        </a:rPr>
                        <a:t>A C T G</a:t>
                      </a:r>
                      <a:r>
                        <a:rPr b="1" lang="en-US" sz="14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T  A  G  C  </a:t>
                      </a:r>
                      <a:r>
                        <a:rPr b="0" lang="en-US" sz="14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  T  T  G  </a:t>
                      </a:r>
                      <a:r>
                        <a:rPr b="0" lang="en-US" sz="14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173320" y="2819520"/>
          <a:ext cx="2398680" cy="191124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41280"/>
                <a:gridCol w="3045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 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916520" y="2819520"/>
          <a:ext cx="2398680" cy="191124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41280"/>
                <a:gridCol w="3045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 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6821640" y="2836800"/>
          <a:ext cx="2398680" cy="1911240"/>
        </p:xfrm>
        <a:graphic>
          <a:graphicData uri="http://schemas.openxmlformats.org/drawingml/2006/table">
            <a:tbl>
              <a:tblPr/>
              <a:tblGrid>
                <a:gridCol w="304560"/>
                <a:gridCol w="381240"/>
                <a:gridCol w="304560"/>
                <a:gridCol w="341280"/>
                <a:gridCol w="30492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4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5486400" y="2514600"/>
            <a:ext cx="53352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2362320"/>
            <a:ext cx="23623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47560" y="2362320"/>
            <a:ext cx="23619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123720" y="2438280"/>
            <a:ext cx="76212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1219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09480" y="4724280"/>
          <a:ext cx="2398680" cy="218448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41280"/>
                <a:gridCol w="304920"/>
                <a:gridCol w="761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 4.6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40000" y="4724280"/>
          <a:ext cx="2398680" cy="2184480"/>
        </p:xfrm>
        <a:graphic>
          <a:graphicData uri="http://schemas.openxmlformats.org/drawingml/2006/table">
            <a:tbl>
              <a:tblPr/>
              <a:tblGrid>
                <a:gridCol w="304920"/>
                <a:gridCol w="380880"/>
                <a:gridCol w="304920"/>
                <a:gridCol w="341280"/>
                <a:gridCol w="304560"/>
                <a:gridCol w="762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a0000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99cc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eq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l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= 3.0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 flipH="1">
            <a:off x="1828800" y="4267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42670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BD4-369E-4F60-81BA-E0AEBB7588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Eukaryotes 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600" y="14475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Transcriptional Regulation in Eukaryote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39000" indent="-245520">
              <a:lnSpc>
                <a:spcPct val="90000"/>
              </a:lnSpc>
              <a:spcBef>
                <a:spcPts val="575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嘀攀爀搀愀渀愀"/>
              </a:rPr>
              <a:t>Transcription involves the interaction of </a:t>
            </a:r>
            <a:r>
              <a:rPr b="0" lang="en-US" sz="2300" spc="-1" strike="noStrike">
                <a:solidFill>
                  <a:srgbClr val="003366"/>
                </a:solidFill>
                <a:latin typeface="嘀攀爀搀愀渀愀"/>
              </a:rPr>
              <a:t>TFs</a:t>
            </a:r>
            <a:r>
              <a:rPr b="0" lang="en-US" sz="2300" spc="-1" strike="noStrike">
                <a:solidFill>
                  <a:srgbClr val="000000"/>
                </a:solidFill>
                <a:latin typeface="嘀攀爀搀愀渀愀"/>
              </a:rPr>
              <a:t> (Transcription Factors–protein complexes) with</a:t>
            </a:r>
            <a:endParaRPr b="0" lang="en-US" sz="23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ach other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NA-binding sites in the promoter region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Degree of expression of gene is influenced by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the region upstream from transcription start point 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the region downstream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TATA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box is present in most eukaryotes (75% in vertebrates)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 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TATA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box HMM trained for vertebrates has the consensus sequence TATA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WDR 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tarting at 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–17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bp from T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W: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A/T           </a:t>
            </a: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D: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not C             </a:t>
            </a: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R: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G/A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0CC-14DA-445B-89BB-82E404AAA6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Eukaryotes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4475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INR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also influences the start position of transcription.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 loosely defined sequence arou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TS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may be recognized by other protein subunits of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TFII</a:t>
            </a:r>
            <a:r>
              <a:rPr b="1" lang="en-US" sz="2800" spc="-1" strike="noStrike">
                <a:solidFill>
                  <a:srgbClr val="003366"/>
                </a:solidFill>
                <a:latin typeface="嘀攀爀搀愀渀愀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(a TF that recognizes and binds to the promoter DNA)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CCAAT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GC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boxes also discovered arou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TSS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(at variable distances)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Many different TFs may be involved in the regulation of a particular eukaryotic gene. DNA-binding sites for many of these TFs are unknown, which limits promoter pred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F413-00E4-41AF-AD89-BDB8825E83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Eukaryotes (3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4475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Gene expression is also influenced by the region upstream of the core promoter and other enhancer sites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Eukaryotic sequences show variation not only b/w species but also among genes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a species. Hence, a set of promoters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in an organism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that share a common regulatory response is analyzed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The programs can predict 13-54% of the TSSs correctly, but also each program predicted a number of false-positive TSSs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EBE-BB8A-4756-81D2-5B5D30CA50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9917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嘀攀爀搀愀渀愀"/>
              </a:rPr>
              <a:t>Prediction Methods for RNA PolII Promoters (1)</a:t>
            </a:r>
            <a:endParaRPr b="0" lang="en-US" sz="28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Neural nw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trained on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TATA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a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Inr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Sites allowing a variable spacing between sites. NN-GA approach to identify conserved patterns in RNA PolII promoters and conserved spacing among them (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PROMOTER2.0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TATA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box recognition using weight matrix and density analysis of TF sites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071-4AE5-46CD-9BBC-9898316A17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1920" y="104400"/>
            <a:ext cx="899172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嘀攀爀搀愀渀愀"/>
              </a:rPr>
              <a:t>Prediction Methods for RNA PolII Promoters (2)</a:t>
            </a:r>
            <a:endParaRPr b="0" lang="en-US" sz="28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Methods Cont’d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Usage of 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linear 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(TSSD and TSSW)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 /quadratic 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(CorePromoter)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 discriminant function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. The function is based on: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TATA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box scor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Base-pair frequencies around </a:t>
            </a: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TSS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(triplet)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requencies in consecutive 100-bp upstream reg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嘀攀爀搀愀渀愀"/>
              </a:rPr>
              <a:t>TF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 binding site prediction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arches of  </a:t>
            </a:r>
            <a:r>
              <a:rPr b="0" lang="en-US" sz="2400" spc="-1" strike="noStrike">
                <a:solidFill>
                  <a:srgbClr val="003366"/>
                </a:solidFill>
                <a:latin typeface="嘀攀爀搀愀渀愀"/>
              </a:rPr>
              <a:t>weight matrices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for different organism against a test sequence (TFSearch/ TESS). MatInspector and ConInspector allows user-provided limits on type of weight matrix, generation of new matrices etc.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esting for presence of clustered groups (or modules) of TF binding sites </a:t>
            </a: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which are characteristics of a given pattern of gene regulation.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3E3-B407-41B2-9EEC-135313062B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 Expert System: Otto 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 rule-based expert system to identify and characterize genes in human genom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imulates a human annotator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 human annotator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Looks for different patterns, e.g. homology to a number of ESTs and evaluates whether they can be connected into a longer virtual mRNA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Puts different levels of confidence in different types of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trength and contiguity of the match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This type of annotation is used for </a:t>
            </a:r>
            <a:r>
              <a:rPr b="0" i="1" lang="en-US" sz="2800" spc="-1" strike="noStrike">
                <a:solidFill>
                  <a:srgbClr val="000000"/>
                </a:solidFill>
                <a:latin typeface="嘀攀爀搀愀渀愀"/>
              </a:rPr>
              <a:t>Drosophila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genom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D16-90F7-4217-9CA3-A33416EF1E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 Expert System: Otto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Otto can promote an observed evidence to a gene annotation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Either by checking a high-quality match to a known gen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Or evaluating a broad spectrum of evidence and determining whether the evidence is enough for gene annotation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It first partitions the genome to identify likely gene boundaries, using BLAST matches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Partitions are checked for matches against DB sequences and grouped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771-5BA4-4282-B355-B417F1B190B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 Expert System: Otto (3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Next, known genes(exact matches of cDNA to the genome) are identified.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r remaining genes, some complex rules, like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f a RefSeq transcript matched the genome assembly for at least 50% of its length and &gt;%92 identity , then SIM4 alignment of transcript is promoted to a gene.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used.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Otto identified a total of </a:t>
            </a: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6538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genes.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3B13-78F9-43BE-9A8C-137291310F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Summary 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ensitivity, specifity and correlation analyses are performed when evaluating Gene Prediction Algorithm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Promoter prediction is relatively easier in prokaryots than in eukaryo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coring matrices and perceptrons (NN) can be used to predict promoters in prokaryo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inding less-conserved binding sites is more difficult. Expectation max., HMM, statistical methods and Hertz </a:t>
            </a:r>
            <a:r>
              <a:rPr b="0" i="1" lang="en-US" sz="2800" spc="-1" strike="noStrike">
                <a:solidFill>
                  <a:srgbClr val="000000"/>
                </a:solidFill>
                <a:latin typeface="嘀攀爀搀愀渀愀"/>
              </a:rPr>
              <a:t>et. al.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can be employed in this cas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B2D-5460-4D5D-82C0-3D67FE308E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104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Evaluation of Gene Prediction Methods (1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"/>
          <p:cNvSpPr/>
          <p:nvPr/>
        </p:nvSpPr>
        <p:spPr>
          <a:xfrm>
            <a:off x="912960" y="1066680"/>
            <a:ext cx="79261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What to consider when compar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type of analysis (neural nw, linear discriminant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# and types of sequences user for training and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lso, parameters affect the prediction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n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ideal method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shoul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A known set of gene structures (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A different set for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Evaluation is more stringent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Test set includes a gene and neighboring sequence, rather than sequence between the first and the last ex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4F3-47C9-4767-951C-7A756887CC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41040"/>
            <a:ext cx="8991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Summary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990720"/>
            <a:ext cx="8110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 number of methods are available for promoter prediction in eukaryo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NN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Weight matrice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Linear/quadratic discriminat function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Testing for TF binding site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TATA box recognition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Otto is an expert system used to identify genes.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anks!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84A-70FF-4097-AEE3-F7EE909749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314960" y="3276720"/>
          <a:ext cx="460044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14960" y="3276720"/>
                    <a:ext cx="4600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41040"/>
            <a:ext cx="891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Evaluation of Gene Prediction Methods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81104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# of actual positives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AP=TP+FN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# of actual negatives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AN= FP+TN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Predicted # of positives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PP=TP+FP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Predicted # of negatives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PN=TP+FP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Sensitivity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SN = TP/AP=TP/(TP+FN)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Specificity  </a:t>
            </a:r>
            <a:r>
              <a:rPr b="0" lang="en-US" sz="2200" spc="-1" strike="noStrike">
                <a:solidFill>
                  <a:srgbClr val="003366"/>
                </a:solidFill>
                <a:latin typeface="嘀攀爀搀愀渀愀"/>
              </a:rPr>
              <a:t>SP = TP/PP=TP/(TP+FP)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Correlation coeffici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嘀攀爀搀愀渀愀"/>
              </a:rPr>
              <a:t>       [-1,1]</a:t>
            </a: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9200" y="4578480"/>
          <a:ext cx="8912160" cy="1593720"/>
        </p:xfrm>
        <a:graphic>
          <a:graphicData uri="http://schemas.openxmlformats.org/drawingml/2006/table">
            <a:tbl>
              <a:tblPr/>
              <a:tblGrid>
                <a:gridCol w="1676160"/>
                <a:gridCol w="1752840"/>
                <a:gridCol w="1218960"/>
                <a:gridCol w="1219320"/>
                <a:gridCol w="141912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enePar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en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Otto</a:t>
                      </a: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(RefSeq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Otto</a:t>
                      </a:r>
                      <a:r>
                        <a:rPr b="0" lang="en-US" sz="12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(homolog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8-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5-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48-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8-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74-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86-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Corr. Coe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6-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6-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61-.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9D8-AE81-4A2C-BB5D-B00B3F8C14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41040"/>
            <a:ext cx="8915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Evaluation of Gene Prediction Methods (3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97080" y="1905120"/>
          <a:ext cx="5789520" cy="1593720"/>
        </p:xfrm>
        <a:graphic>
          <a:graphicData uri="http://schemas.openxmlformats.org/drawingml/2006/table">
            <a:tbl>
              <a:tblPr/>
              <a:tblGrid>
                <a:gridCol w="1676160"/>
                <a:gridCol w="1752840"/>
                <a:gridCol w="1228680"/>
                <a:gridCol w="1131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Grail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FGENE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66"/>
                          </a:solidFill>
                          <a:latin typeface="嘀攀爀搀愀渀愀"/>
                        </a:rPr>
                        <a:t>MZE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Sensi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Specif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6699"/>
                          </a:solidFill>
                          <a:latin typeface="嘀攀爀搀愀渀愀"/>
                        </a:rPr>
                        <a:t>Corr. Coe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.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912960" y="1066680"/>
            <a:ext cx="792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In a later study (Zhang ‘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3809880"/>
            <a:ext cx="79264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Programs including protein sequence DB searches (GeneID+, GeneParser3) achieved substantially greater accuracy (Burset ’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e prediction programs reliably locate genomic regions, but provide only an approximation of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573-E309-4D7C-82F3-C4271F0EC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136080"/>
            <a:ext cx="9296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嘀攀爀搀愀渀愀"/>
              </a:rPr>
              <a:t>Exons Predicted in an </a:t>
            </a:r>
            <a:r>
              <a:rPr b="0" i="1" lang="en-US" sz="2600" spc="-1" strike="noStrike">
                <a:solidFill>
                  <a:srgbClr val="ffffff"/>
                </a:solidFill>
                <a:latin typeface="嘀攀爀搀愀渀愀"/>
              </a:rPr>
              <a:t>Arabodopsis</a:t>
            </a:r>
            <a:r>
              <a:rPr b="0" lang="en-US" sz="2600" spc="-1" strike="noStrike">
                <a:solidFill>
                  <a:srgbClr val="ffffff"/>
                </a:solidFill>
                <a:latin typeface="嘀攀爀搀愀渀愀"/>
              </a:rPr>
              <a:t> Genomic Sequence</a:t>
            </a:r>
            <a:endParaRPr b="0" lang="en-US" sz="26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2200320"/>
          <a:ext cx="8172360" cy="3514680"/>
        </p:xfrm>
        <a:graphic>
          <a:graphicData uri="http://schemas.openxmlformats.org/drawingml/2006/table">
            <a:tbl>
              <a:tblPr/>
              <a:tblGrid>
                <a:gridCol w="1305000"/>
                <a:gridCol w="1305000"/>
                <a:gridCol w="1393560"/>
                <a:gridCol w="1351080"/>
                <a:gridCol w="1465200"/>
                <a:gridCol w="1352520"/>
              </a:tblGrid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tG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eneMa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Fgen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GeneS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Mze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45-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45-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45-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34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27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290-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290-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290-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124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-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290-1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611-1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611-1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611-1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611-1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611-1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80-2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80-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2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80-2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80-2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80-20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143-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143-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143-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2143-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 – 28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43-3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3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43-3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43-3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39-3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698-39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010-4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010 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010-4220</a:t>
                      </a:r>
                      <a:r>
                        <a:rPr b="0" lang="en-US" sz="1600" spc="-1" strike="noStrike" baseline="42000">
                          <a:solidFill>
                            <a:srgbClr val="003366"/>
                          </a:solidFill>
                          <a:latin typeface="嘀攀爀搀愀渀愀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010- 4220</a:t>
                      </a:r>
                      <a:r>
                        <a:rPr b="0" lang="en-US" sz="1600" spc="-1" strike="noStrike" baseline="42000">
                          <a:solidFill>
                            <a:srgbClr val="003366"/>
                          </a:solidFill>
                          <a:latin typeface="嘀攀爀搀愀渀愀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–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嘀攀爀搀愀渀愀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685800" y="580536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嘀攀爀搀愀渀愀"/>
              </a:rPr>
              <a:t>x:</a:t>
            </a:r>
            <a:r>
              <a:rPr b="0" lang="en-US" sz="1800" spc="-1" strike="noStrike">
                <a:solidFill>
                  <a:srgbClr val="000000"/>
                </a:solidFill>
                <a:latin typeface="嘀攀爀搀愀渀愀"/>
              </a:rPr>
              <a:t> not predicted     </a:t>
            </a:r>
            <a:r>
              <a:rPr b="0" lang="en-US" sz="1800" spc="-1" strike="noStrike" baseline="42000">
                <a:solidFill>
                  <a:srgbClr val="003366"/>
                </a:solidFill>
                <a:latin typeface="嘀攀爀搀愀渀愀"/>
              </a:rPr>
              <a:t>*</a:t>
            </a:r>
            <a:r>
              <a:rPr b="0" lang="en-US" sz="1800" spc="-1" strike="noStrike">
                <a:solidFill>
                  <a:srgbClr val="003366"/>
                </a:solidFill>
                <a:latin typeface="嘀攀爀搀愀渀愀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嘀攀爀搀愀渀愀"/>
              </a:rPr>
              <a:t> includes the termination co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066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嘀攀爀搀愀渀愀"/>
              </a:rPr>
              <a:t>Note: Arabodopsis UVH1 gene (with approx. 250 bp upstream from the first exon and 200 bp downstream from the last exon) used. </a:t>
            </a:r>
            <a:r>
              <a:rPr b="0" lang="en-US" sz="1800" spc="-1" strike="noStrike">
                <a:solidFill>
                  <a:srgbClr val="003366"/>
                </a:solidFill>
                <a:latin typeface="嘀攀爀搀愀渀愀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嘀攀爀搀愀渀愀"/>
              </a:rPr>
              <a:t> to be taken as a measure of reliability of these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8AB-5C86-4C4C-9C74-09F6294EB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</a:t>
            </a:r>
            <a:r>
              <a:rPr b="0" i="1" lang="en-US" sz="3200" spc="-1" strike="noStrike">
                <a:solidFill>
                  <a:srgbClr val="ffffff"/>
                </a:solidFill>
                <a:latin typeface="嘀攀爀搀愀渀愀"/>
              </a:rPr>
              <a:t>E.coli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2600" y="1295280"/>
            <a:ext cx="8110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lign a set of promoter sequences by the position that marks the known TSS (transcription start site)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Search for conserved region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E.coli promoters have 3 conserved sequence feature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6bp region w/ consensus </a:t>
            </a:r>
            <a:r>
              <a:rPr b="0" lang="en-US" sz="2100" spc="-1" strike="noStrike">
                <a:solidFill>
                  <a:srgbClr val="003366"/>
                </a:solidFill>
                <a:latin typeface="嘀攀爀搀愀渀愀"/>
              </a:rPr>
              <a:t>TATAAT</a:t>
            </a: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 (at pos. </a:t>
            </a:r>
            <a:r>
              <a:rPr b="0" lang="en-US" sz="2100" spc="-1" strike="noStrike">
                <a:solidFill>
                  <a:srgbClr val="003366"/>
                </a:solidFill>
                <a:latin typeface="嘀攀爀搀愀渀愀"/>
              </a:rPr>
              <a:t>–10</a:t>
            </a: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6bp region w/ consensus </a:t>
            </a:r>
            <a:r>
              <a:rPr b="0" lang="en-US" sz="2100" spc="-1" strike="noStrike">
                <a:solidFill>
                  <a:srgbClr val="003366"/>
                </a:solidFill>
                <a:latin typeface="嘀攀爀搀愀渀愀"/>
              </a:rPr>
              <a:t>TTGACA</a:t>
            </a: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 (at pos. </a:t>
            </a:r>
            <a:r>
              <a:rPr b="0" lang="en-US" sz="2100" spc="-1" strike="noStrike">
                <a:solidFill>
                  <a:srgbClr val="003366"/>
                </a:solidFill>
                <a:latin typeface="嘀攀爀搀愀渀愀"/>
              </a:rPr>
              <a:t>–35</a:t>
            </a: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17bp distance between them 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 weaker region exists arou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+1 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nd an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AT-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ich region exists around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-35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8CF-85DB-4CBE-AF1A-F0122A6F9B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</a:t>
            </a:r>
            <a:r>
              <a:rPr b="0" i="1" lang="en-US" sz="3200" spc="-1" strike="noStrike">
                <a:solidFill>
                  <a:srgbClr val="ffffff"/>
                </a:solidFill>
                <a:latin typeface="嘀攀爀搀愀渀愀"/>
              </a:rPr>
              <a:t>E.coli (2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600" y="1066680"/>
            <a:ext cx="8110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INDPATTERNS and PatScan can be used to search for matches to consensu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Sequence positions in aligned regions vary to some extent, but some regions are less variable 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lternative: use search features of FINDPATTERNS/PatScan which allows repeats, gaps, inverted repeats etc.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E.g. </a:t>
            </a:r>
            <a:r>
              <a:rPr b="0" lang="en-US" sz="2800" spc="-1" strike="noStrike">
                <a:solidFill>
                  <a:srgbClr val="003366"/>
                </a:solidFill>
                <a:latin typeface="嘀攀爀搀愀渀愀"/>
              </a:rPr>
              <a:t>GAT (TG, T,G) {1,4}</a:t>
            </a: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嘀攀爀搀愀渀愀"/>
              </a:rPr>
              <a:t>(for FINDPATTERNS)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dv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Useful for locating complex regulatory patterns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DisAdv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嘀攀爀搀愀渀愀"/>
              </a:rPr>
              <a:t>No consideration for each residue at each pattern position</a:t>
            </a: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35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0E6F-F007-4D0B-A51C-6BA473AE66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1040"/>
            <a:ext cx="86104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romoter Prediction in </a:t>
            </a:r>
            <a:r>
              <a:rPr b="0" i="1" lang="en-US" sz="3200" spc="-1" strike="noStrike">
                <a:solidFill>
                  <a:srgbClr val="ffffff"/>
                </a:solidFill>
                <a:latin typeface="嘀攀爀搀愀渀愀"/>
              </a:rPr>
              <a:t>E.coli (3)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2600" y="1218960"/>
            <a:ext cx="811044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Use a scoring matrix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Ex: How to prepare the matrix (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嘀攀爀搀愀渀愀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region promoters of </a:t>
            </a:r>
            <a:r>
              <a:rPr b="0" i="1" lang="en-US" sz="3200" spc="-1" strike="noStrike">
                <a:solidFill>
                  <a:srgbClr val="000000"/>
                </a:solidFill>
                <a:latin typeface="嘀攀爀搀愀渀愀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N sequences aligned by their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–10 </a:t>
            </a: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region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Count of each base pair is made and are converted to frequencies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嘀攀爀搀愀渀愀"/>
              </a:rPr>
              <a:t>Frequencies are converted into </a:t>
            </a:r>
            <a:r>
              <a:rPr b="0" lang="en-US" sz="2500" spc="-1" strike="noStrike">
                <a:solidFill>
                  <a:srgbClr val="003366"/>
                </a:solidFill>
                <a:latin typeface="嘀攀爀搀愀渀愀"/>
              </a:rPr>
              <a:t>log odds scores </a:t>
            </a:r>
            <a:endParaRPr b="0" lang="en-US" sz="25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lternative formula (Hertz and Stormo ‘99): 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w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=log[(n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+ P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)/ {(N+1)P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}] =ln(f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+P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n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,j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:count of base </a:t>
            </a:r>
            <a:r>
              <a:rPr b="0" i="1" lang="en-US" sz="2400" spc="-1" strike="noStrike">
                <a:solidFill>
                  <a:srgbClr val="000000"/>
                </a:solidFill>
                <a:latin typeface="嘀攀爀搀愀渀愀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in column </a:t>
            </a:r>
            <a:r>
              <a:rPr b="0" i="1" lang="en-US" sz="2400" spc="-1" strike="noStrike">
                <a:solidFill>
                  <a:srgbClr val="000000"/>
                </a:solidFill>
                <a:latin typeface="嘀攀爀搀愀渀愀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P</a:t>
            </a:r>
            <a:r>
              <a:rPr b="0" lang="en-US" sz="2400" spc="-1" strike="noStrike" baseline="-32000">
                <a:solidFill>
                  <a:srgbClr val="000000"/>
                </a:solidFill>
                <a:latin typeface="嘀攀爀搀愀渀愀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: background freq.           N: total # of pai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4DB-0AF2-4869-8F06-A4042693C3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23:00:43Z</dcterms:created>
  <dc:creator>.</dc:creator>
  <dc:description/>
  <dc:language>en-US</dc:language>
  <cp:lastModifiedBy>Keith Decker</cp:lastModifiedBy>
  <cp:lastPrinted>2009-04-22T19:24:48Z</cp:lastPrinted>
  <dcterms:modified xsi:type="dcterms:W3CDTF">2002-03-26T17:17:03Z</dcterms:modified>
  <cp:revision>19</cp:revision>
  <dc:subject/>
  <dc:title>The Scoring Matrix Used with Aligned Promoter Sequences</dc:title>
</cp:coreProperties>
</file>