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jpeg" ContentType="image/jpeg"/>
  <Override PartName="/ppt/media/image13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20.png" ContentType="image/pn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354C-3C51-4936-A017-C9E31BFF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343-AE5A-4BA4-ACA1-F26075EF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DD01-5543-47B8-A9E1-F7B04045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B95C-7CD7-4AC8-97ED-C4A23A2D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3B52-76F4-4236-92D9-1F90C6AD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742-9C4E-490C-8913-44ACAFA2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E00-B2CA-4FF8-9780-35D2AC8B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1C9-91C2-44E4-8891-9EC716F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6DE-D9C7-4CBD-9580-FD75348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07C-EB01-4D6A-A860-1128619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5ED-62CD-454F-8174-08443EA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D4EB-990F-4C3F-97D6-4EF1D734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BBB5-3F5A-47FE-A8E2-45F424706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Structure and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25146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 J. Schmi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midtc@udel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143000"/>
          <a:ext cx="9144000" cy="31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31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5699160" y="4765680"/>
            <a:ext cx="344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NA Uracil repl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y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of D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atson &amp; Francis Crick (195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Helix of Antiparallel St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d together by Hydrogen bond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ine with Pyrmid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nine - Cyto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enine - Thy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s stack inside the helix - exclude water and stabil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ASEPAIR = 3.4 Angstroms (10 A = 1 n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turn of helix = 34 Angstr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turn contains a Major and Minor Gro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DNAsinglestrand%20copy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3298680" cy="5070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035160" y="422280"/>
            <a:ext cx="301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gle Stra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D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01920" y="1523880"/>
            <a:ext cx="3818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Has direction or po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’ to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ackbone comprised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d Phosphate resid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ugars Linked by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sphodiester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ink the 5 ‘ methyl group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3’ OH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44792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DNAstructure" descr=""/>
          <p:cNvPicPr/>
          <p:nvPr/>
        </p:nvPicPr>
        <p:blipFill>
          <a:blip r:embed="rId1"/>
          <a:stretch/>
        </p:blipFill>
        <p:spPr>
          <a:xfrm>
            <a:off x="533520" y="-23760"/>
            <a:ext cx="8610480" cy="6881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33280" y="6172200"/>
            <a:ext cx="1701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tel &amp; Jone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etic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and Bartle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NAHbonds" descr=""/>
          <p:cNvPicPr/>
          <p:nvPr/>
        </p:nvPicPr>
        <p:blipFill>
          <a:blip r:embed="rId1"/>
          <a:stretch/>
        </p:blipFill>
        <p:spPr>
          <a:xfrm>
            <a:off x="0" y="0"/>
            <a:ext cx="36162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Basepairs%20copy" descr=""/>
          <p:cNvPicPr/>
          <p:nvPr/>
        </p:nvPicPr>
        <p:blipFill>
          <a:blip r:embed="rId2"/>
          <a:stretch/>
        </p:blipFill>
        <p:spPr>
          <a:xfrm>
            <a:off x="3733920" y="1219320"/>
            <a:ext cx="54100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DNAmajorminor" descr=""/>
          <p:cNvPicPr/>
          <p:nvPr/>
        </p:nvPicPr>
        <p:blipFill>
          <a:blip r:embed="rId1"/>
          <a:stretch/>
        </p:blipFill>
        <p:spPr>
          <a:xfrm>
            <a:off x="1219320" y="0"/>
            <a:ext cx="5483160" cy="6629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323760" y="2819520"/>
            <a:ext cx="234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ing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5028840" y="3048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1828800" y="1066680"/>
            <a:ext cx="5018040" cy="5225400"/>
            <a:chOff x="1828800" y="1066680"/>
            <a:chExt cx="5018040" cy="5225400"/>
          </a:xfrm>
        </p:grpSpPr>
        <p:graphicFrame>
          <p:nvGraphicFramePr>
            <p:cNvPr id="182" name=""/>
            <p:cNvGraphicFramePr/>
            <p:nvPr/>
          </p:nvGraphicFramePr>
          <p:xfrm>
            <a:off x="1828800" y="1066680"/>
            <a:ext cx="5018040" cy="4700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1066680"/>
                      <a:ext cx="5018040" cy="470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4267080" y="5410080"/>
              <a:ext cx="457200" cy="4572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03880" y="583236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pr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5320" y="1219320"/>
              <a:ext cx="609480" cy="609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41560" y="1260360"/>
              <a:ext cx="112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pr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karyoti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olymer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ract RNA polymer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site --typically 5’ of coding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on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NA synthesized 5’ to 3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c signals for RNA polymerase to st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</a:rPr>
              <a:t>Types of R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NA - transcribed by RNA polymerase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des prot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RNA -RNA polymerase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riboso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al and functional roles in protein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NAs; 5S rRNA RNA polymerase I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RNA-bring amino acids to ribo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126040" y="38088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NA Polymerase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0958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o 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609480"/>
            <a:ext cx="2514240" cy="1904760"/>
            <a:chOff x="457200" y="609480"/>
            <a:chExt cx="2514240" cy="1904760"/>
          </a:xfrm>
        </p:grpSpPr>
        <p:sp>
          <p:nvSpPr>
            <p:cNvPr id="196" name=""/>
            <p:cNvSpPr/>
            <p:nvPr/>
          </p:nvSpPr>
          <p:spPr>
            <a:xfrm>
              <a:off x="645480" y="609480"/>
              <a:ext cx="2011680" cy="98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8480" y="1531080"/>
              <a:ext cx="2012040" cy="9831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91600" y="1101240"/>
              <a:ext cx="879840" cy="9828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1101240"/>
              <a:ext cx="879840" cy="9828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276720" y="2514600"/>
            <a:ext cx="1218960" cy="1066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5160" y="11430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e Enzy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895480" y="2209680"/>
            <a:ext cx="47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48320" y="27432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ma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3581280"/>
            <a:ext cx="99036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638680" y="3886200"/>
            <a:ext cx="2514600" cy="1905120"/>
            <a:chOff x="5638680" y="3886200"/>
            <a:chExt cx="2514600" cy="1905120"/>
          </a:xfrm>
        </p:grpSpPr>
        <p:sp>
          <p:nvSpPr>
            <p:cNvPr id="206" name=""/>
            <p:cNvSpPr/>
            <p:nvPr/>
          </p:nvSpPr>
          <p:spPr>
            <a:xfrm>
              <a:off x="5827680" y="3886200"/>
              <a:ext cx="2011320" cy="9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89600" y="4808520"/>
              <a:ext cx="2012760" cy="982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73800" y="4378320"/>
              <a:ext cx="879480" cy="9828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38680" y="4378320"/>
              <a:ext cx="879480" cy="982800"/>
            </a:xfrm>
            <a:prstGeom prst="ellipse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29400" y="4038480"/>
              <a:ext cx="1218960" cy="10670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60120" y="167652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440" y="342900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582000" y="5029200"/>
            <a:ext cx="238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44956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39360" y="53352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Central Dog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40160" y="276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09360" y="4473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NA polymerase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r elements -located 5’ to the transcription start s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362320" y="4495680"/>
            <a:ext cx="53337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4648320"/>
            <a:ext cx="1524240" cy="7596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62320" y="41148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40840" y="339408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cription Start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22240" y="5222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mo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46600" y="1600200"/>
            <a:ext cx="6870240" cy="2672640"/>
            <a:chOff x="1146600" y="1600200"/>
            <a:chExt cx="6870240" cy="2672640"/>
          </a:xfrm>
        </p:grpSpPr>
        <p:sp>
          <p:nvSpPr>
            <p:cNvPr id="222" name=""/>
            <p:cNvSpPr/>
            <p:nvPr/>
          </p:nvSpPr>
          <p:spPr>
            <a:xfrm>
              <a:off x="7483680" y="1905120"/>
              <a:ext cx="53316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8840" y="2133720"/>
              <a:ext cx="6324840" cy="685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83680" y="1600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61040" y="3051000"/>
              <a:ext cx="139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6600" y="3051000"/>
              <a:ext cx="141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20760" y="38131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5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40480" y="38131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3880" y="1676520"/>
            <a:ext cx="4724640" cy="12189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19760" y="1752480"/>
            <a:ext cx="1404720" cy="129564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19320" y="2438280"/>
            <a:ext cx="6873840" cy="2672640"/>
            <a:chOff x="1219320" y="2438280"/>
            <a:chExt cx="6873840" cy="2672640"/>
          </a:xfrm>
        </p:grpSpPr>
        <p:grpSp>
          <p:nvGrpSpPr>
            <p:cNvPr id="232" name=""/>
            <p:cNvGrpSpPr/>
            <p:nvPr/>
          </p:nvGrpSpPr>
          <p:grpSpPr>
            <a:xfrm>
              <a:off x="1222920" y="2438280"/>
              <a:ext cx="6870240" cy="2672640"/>
              <a:chOff x="1222920" y="2438280"/>
              <a:chExt cx="6870240" cy="2672640"/>
            </a:xfrm>
          </p:grpSpPr>
          <p:sp>
            <p:nvSpPr>
              <p:cNvPr id="233" name=""/>
              <p:cNvSpPr/>
              <p:nvPr/>
            </p:nvSpPr>
            <p:spPr>
              <a:xfrm>
                <a:off x="7560000" y="2743200"/>
                <a:ext cx="533160" cy="10666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235160" y="2971800"/>
                <a:ext cx="6324840" cy="68580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560000" y="24382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37360" y="388908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ATAA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22920" y="3889080"/>
                <a:ext cx="1413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TGA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297080" y="465120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5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716800" y="4651200"/>
                <a:ext cx="58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219320" y="3276720"/>
              <a:ext cx="6324480" cy="75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514600" y="5334120"/>
            <a:ext cx="36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ed Promote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559640" y="2743200"/>
            <a:ext cx="53352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59640" y="2438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37360" y="388944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TA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22560" y="3889440"/>
            <a:ext cx="141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G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96720" y="46512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16440" y="4651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2895480"/>
            <a:ext cx="8380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2514600"/>
            <a:ext cx="1067040" cy="380880"/>
          </a:xfrm>
          <a:prstGeom prst="line">
            <a:avLst/>
          </a:prstGeom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1600200" y="2514600"/>
            <a:ext cx="403848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715000" y="2971800"/>
            <a:ext cx="990720" cy="53352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676520" y="3505320"/>
            <a:ext cx="403848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33160" y="2514600"/>
            <a:ext cx="1066680" cy="45720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533160" y="3123720"/>
            <a:ext cx="1143000" cy="38124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124080"/>
            <a:ext cx="53352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0" y="2971800"/>
            <a:ext cx="533520" cy="0"/>
          </a:xfrm>
          <a:prstGeom prst="line">
            <a:avLst/>
          </a:prstGeom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2362320"/>
            <a:ext cx="4724280" cy="12189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0"/>
            <a:ext cx="1405080" cy="1295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3720" y="518148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Promote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146600" y="0"/>
            <a:ext cx="6870240" cy="2672640"/>
            <a:chOff x="1146600" y="0"/>
            <a:chExt cx="6870240" cy="2672640"/>
          </a:xfrm>
        </p:grpSpPr>
        <p:sp>
          <p:nvSpPr>
            <p:cNvPr id="263" name=""/>
            <p:cNvSpPr/>
            <p:nvPr/>
          </p:nvSpPr>
          <p:spPr>
            <a:xfrm>
              <a:off x="7483680" y="304920"/>
              <a:ext cx="533160" cy="10666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58840" y="533520"/>
              <a:ext cx="6324840" cy="6858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83680" y="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62120" y="1450800"/>
              <a:ext cx="14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TA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46600" y="1450800"/>
              <a:ext cx="14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TGA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20760" y="221292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5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40480" y="221292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286000" y="2590920"/>
            <a:ext cx="436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ensus 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F10-08B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8028000" cy="2539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838080"/>
            <a:ext cx="632448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F10-11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2778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7120" y="4876920"/>
            <a:ext cx="7783920" cy="137376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RNA is copied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and of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zed in 5’ to 3’ direction -antiparallel to D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nd it is copying into R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51760" y="425520"/>
            <a:ext cx="39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Elongation of 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43000" y="1752480"/>
            <a:ext cx="304920" cy="30492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2133720"/>
            <a:ext cx="304920" cy="304560"/>
          </a:xfrm>
          <a:prstGeom prst="rect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ethods to communicate 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-12" descr=""/>
          <p:cNvPicPr/>
          <p:nvPr/>
        </p:nvPicPr>
        <p:blipFill>
          <a:blip r:embed="rId1"/>
          <a:stretch/>
        </p:blipFill>
        <p:spPr>
          <a:xfrm>
            <a:off x="6400800" y="3276720"/>
            <a:ext cx="2459160" cy="185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915480" y="365760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Hairpin Loop RNA contains GC r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ion followed by run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NA polymerase I &amp;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09480" y="4572000"/>
            <a:ext cx="6762600" cy="492120"/>
            <a:chOff x="609480" y="4572000"/>
            <a:chExt cx="6762600" cy="492120"/>
          </a:xfrm>
        </p:grpSpPr>
        <p:grpSp>
          <p:nvGrpSpPr>
            <p:cNvPr id="287" name=""/>
            <p:cNvGrpSpPr/>
            <p:nvPr/>
          </p:nvGrpSpPr>
          <p:grpSpPr>
            <a:xfrm>
              <a:off x="609480" y="4606920"/>
              <a:ext cx="4876920" cy="457200"/>
              <a:chOff x="609480" y="4606920"/>
              <a:chExt cx="4876920" cy="45720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606920"/>
                <a:ext cx="487692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133720" y="4606920"/>
                <a:ext cx="838080" cy="45720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700960" y="4572000"/>
              <a:ext cx="167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A pol I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09480" y="2666880"/>
            <a:ext cx="6584400" cy="500760"/>
            <a:chOff x="609480" y="2666880"/>
            <a:chExt cx="6584400" cy="500760"/>
          </a:xfrm>
        </p:grpSpPr>
        <p:grpSp>
          <p:nvGrpSpPr>
            <p:cNvPr id="292" name=""/>
            <p:cNvGrpSpPr/>
            <p:nvPr/>
          </p:nvGrpSpPr>
          <p:grpSpPr>
            <a:xfrm>
              <a:off x="609480" y="2666880"/>
              <a:ext cx="4724280" cy="457200"/>
              <a:chOff x="609480" y="2666880"/>
              <a:chExt cx="4724280" cy="457200"/>
            </a:xfrm>
          </p:grpSpPr>
          <p:sp>
            <p:nvSpPr>
              <p:cNvPr id="293" name=""/>
              <p:cNvSpPr/>
              <p:nvPr/>
            </p:nvSpPr>
            <p:spPr>
              <a:xfrm>
                <a:off x="1447560" y="2666880"/>
                <a:ext cx="3886200" cy="457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09480" y="2666880"/>
                <a:ext cx="838080" cy="45720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5624640" y="270792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A pol 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09480" y="3657600"/>
            <a:ext cx="6498360" cy="533520"/>
            <a:chOff x="609480" y="3657600"/>
            <a:chExt cx="6498360" cy="533520"/>
          </a:xfrm>
        </p:grpSpPr>
        <p:grpSp>
          <p:nvGrpSpPr>
            <p:cNvPr id="297" name=""/>
            <p:cNvGrpSpPr/>
            <p:nvPr/>
          </p:nvGrpSpPr>
          <p:grpSpPr>
            <a:xfrm>
              <a:off x="609480" y="3657600"/>
              <a:ext cx="4800600" cy="533520"/>
              <a:chOff x="609480" y="3657600"/>
              <a:chExt cx="4800600" cy="533520"/>
            </a:xfrm>
          </p:grpSpPr>
          <p:sp>
            <p:nvSpPr>
              <p:cNvPr id="298" name=""/>
              <p:cNvSpPr/>
              <p:nvPr/>
            </p:nvSpPr>
            <p:spPr>
              <a:xfrm>
                <a:off x="1371600" y="3657600"/>
                <a:ext cx="4038480" cy="533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09480" y="3657600"/>
                <a:ext cx="846000" cy="45720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5640840" y="365760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NA pol 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7391520" y="365760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90440" y="457200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6400800"/>
            <a:ext cx="17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ukaryotic Tran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olymerase I - synthesizes r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olymerase II - synthesizes m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polymerase III -synthesize tRNA;snR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080" y="6400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F10-14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911920" cy="5715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443600" y="380880"/>
            <a:ext cx="659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ukaryotic RNA processing: nucl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080" y="6400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V="1">
            <a:off x="2286000" y="2362320"/>
            <a:ext cx="1066680" cy="16761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60120" y="167652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6440" y="342900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000" y="5029200"/>
            <a:ext cx="238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44956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9360" y="53352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Central Dog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40160" y="276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09360" y="4473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440" y="190512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5’ C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-7 methylguanos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olyA t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run of adenosine residues at 3’end of transcri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plic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Removal of sequences from internal portions of R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80" y="6400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990720" y="457200"/>
            <a:ext cx="7238880" cy="5842080"/>
            <a:chOff x="990720" y="457200"/>
            <a:chExt cx="7238880" cy="5842080"/>
          </a:xfrm>
        </p:grpSpPr>
        <p:pic>
          <p:nvPicPr>
            <p:cNvPr id="315" name="F10-15C" descr=""/>
            <p:cNvPicPr/>
            <p:nvPr/>
          </p:nvPicPr>
          <p:blipFill>
            <a:blip r:embed="rId1"/>
            <a:stretch/>
          </p:blipFill>
          <p:spPr>
            <a:xfrm>
              <a:off x="990720" y="533520"/>
              <a:ext cx="7238880" cy="151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F10-15D" descr=""/>
            <p:cNvPicPr/>
            <p:nvPr/>
          </p:nvPicPr>
          <p:blipFill>
            <a:blip r:embed="rId2"/>
            <a:stretch/>
          </p:blipFill>
          <p:spPr>
            <a:xfrm>
              <a:off x="1143000" y="2514600"/>
              <a:ext cx="6224760" cy="17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F10-15E" descr=""/>
            <p:cNvPicPr/>
            <p:nvPr/>
          </p:nvPicPr>
          <p:blipFill>
            <a:blip r:embed="rId3"/>
            <a:stretch/>
          </p:blipFill>
          <p:spPr>
            <a:xfrm>
              <a:off x="1143000" y="4724280"/>
              <a:ext cx="6681960" cy="15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90720" y="457200"/>
              <a:ext cx="457200" cy="510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1080" y="6400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ons and Int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A sequences are not always contiguous with DNA sequences from which they were transcribed. In Eukaryotes, this is true of most m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124080"/>
            <a:ext cx="800100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276720"/>
            <a:ext cx="800100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486400"/>
            <a:ext cx="6705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2200" y="34290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 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10920" y="4114800"/>
            <a:ext cx="8075520" cy="916920"/>
            <a:chOff x="610920" y="4114800"/>
            <a:chExt cx="8075520" cy="916920"/>
          </a:xfrm>
        </p:grpSpPr>
        <p:grpSp>
          <p:nvGrpSpPr>
            <p:cNvPr id="327" name=""/>
            <p:cNvGrpSpPr/>
            <p:nvPr/>
          </p:nvGrpSpPr>
          <p:grpSpPr>
            <a:xfrm>
              <a:off x="761760" y="4114800"/>
              <a:ext cx="7924680" cy="0"/>
              <a:chOff x="761760" y="4114800"/>
              <a:chExt cx="7924680" cy="0"/>
            </a:xfrm>
          </p:grpSpPr>
          <p:sp>
            <p:nvSpPr>
              <p:cNvPr id="328" name=""/>
              <p:cNvSpPr/>
              <p:nvPr/>
            </p:nvSpPr>
            <p:spPr>
              <a:xfrm>
                <a:off x="761760" y="4114800"/>
                <a:ext cx="792468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28440" y="4114800"/>
                <a:ext cx="12193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"/>
            <p:cNvSpPr/>
            <p:nvPr/>
          </p:nvSpPr>
          <p:spPr>
            <a:xfrm>
              <a:off x="1905480" y="4572000"/>
              <a:ext cx="92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tr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285640" y="4191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0920" y="45720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o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84480" y="4572000"/>
              <a:ext cx="10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on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990360" y="4267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410080" y="426708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8839080" y="3429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839080" y="4495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13600" y="5562720"/>
            <a:ext cx="743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product has Intron removed and Exons 1 and 2 jo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69320" y="41911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tran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80" y="64008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karyo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F10-18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799400" cy="54370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599040" y="5791320"/>
            <a:ext cx="835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opomyosin gene under goes complex alternative splicing giv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fferent protein products following trans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F10-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spli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8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V="1">
            <a:off x="2286000" y="2362320"/>
            <a:ext cx="1066680" cy="167616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93040 h 1676160"/>
              <a:gd name="textAreaBottom" fmla="*/ 121536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60120" y="167652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6440" y="3429000"/>
            <a:ext cx="1788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N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2000" y="5029200"/>
            <a:ext cx="238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819520"/>
            <a:ext cx="0" cy="60948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44956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39360" y="533520"/>
            <a:ext cx="43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Central Dogm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40160" y="2762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09360" y="4473720"/>
            <a:ext cx="203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-1440" y="1905120"/>
            <a:ext cx="23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62720" y="1828800"/>
            <a:ext cx="1676160" cy="76212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4800" y="121932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A is genetic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A is the genetic material of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ome viruses (HIV) RNA is 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Nucleosideparts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2014560" cy="6477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59960" y="7621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1188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240" y="5638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581280" y="160020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8480" y="14479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H group in ribonucleot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ibonucleoside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639040" cy="4443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01120" y="510552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bonucleo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286000" y="3124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96360" y="419112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hosph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215800" y="0"/>
            <a:ext cx="3651120" cy="2362320"/>
            <a:chOff x="2215800" y="0"/>
            <a:chExt cx="3651120" cy="2362320"/>
          </a:xfrm>
        </p:grpSpPr>
        <p:graphicFrame>
          <p:nvGraphicFramePr>
            <p:cNvPr id="86" name=""/>
            <p:cNvGraphicFramePr/>
            <p:nvPr/>
          </p:nvGraphicFramePr>
          <p:xfrm>
            <a:off x="3273480" y="0"/>
            <a:ext cx="2593440" cy="2362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73480" y="0"/>
                      <a:ext cx="25934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3275280" y="11559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32480" y="1065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74040" y="1300680"/>
              <a:ext cx="19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896560" y="897120"/>
              <a:ext cx="66600" cy="216720"/>
              <a:chOff x="2896560" y="897120"/>
              <a:chExt cx="66600" cy="216720"/>
            </a:xfrm>
          </p:grpSpPr>
          <p:sp>
            <p:nvSpPr>
              <p:cNvPr id="92" name=""/>
              <p:cNvSpPr/>
              <p:nvPr/>
            </p:nvSpPr>
            <p:spPr>
              <a:xfrm>
                <a:off x="2896560" y="897120"/>
                <a:ext cx="0" cy="2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63160" y="897120"/>
                <a:ext cx="0" cy="2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2809800" y="4831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40840" y="1517400"/>
              <a:ext cx="0" cy="21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4120" y="171180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41960" y="1300680"/>
              <a:ext cx="26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15800" y="113328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301400" y="2666880"/>
            <a:ext cx="4489560" cy="1828800"/>
            <a:chOff x="1301400" y="2666880"/>
            <a:chExt cx="4489560" cy="1828800"/>
          </a:xfrm>
        </p:grpSpPr>
        <p:graphicFrame>
          <p:nvGraphicFramePr>
            <p:cNvPr id="100" name=""/>
            <p:cNvGraphicFramePr/>
            <p:nvPr/>
          </p:nvGraphicFramePr>
          <p:xfrm>
            <a:off x="3321720" y="2666880"/>
            <a:ext cx="2469240" cy="1828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321720" y="2666880"/>
                      <a:ext cx="246924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2" name=""/>
            <p:cNvSpPr/>
            <p:nvPr/>
          </p:nvSpPr>
          <p:spPr>
            <a:xfrm>
              <a:off x="3260880" y="35618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38240" y="3490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68280" y="3673800"/>
              <a:ext cx="1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899440" y="3361320"/>
              <a:ext cx="63000" cy="167760"/>
              <a:chOff x="2899440" y="3361320"/>
              <a:chExt cx="63000" cy="167760"/>
            </a:xfrm>
          </p:grpSpPr>
          <p:sp>
            <p:nvSpPr>
              <p:cNvPr id="106" name=""/>
              <p:cNvSpPr/>
              <p:nvPr/>
            </p:nvSpPr>
            <p:spPr>
              <a:xfrm>
                <a:off x="2899440" y="3361320"/>
                <a:ext cx="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962440" y="3361320"/>
                <a:ext cx="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2816280" y="30409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941560" y="3841560"/>
              <a:ext cx="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20960" y="39920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61760" y="3673800"/>
              <a:ext cx="25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301400" y="3012840"/>
              <a:ext cx="1354320" cy="1410480"/>
              <a:chOff x="1301400" y="3012840"/>
              <a:chExt cx="1354320" cy="1410480"/>
            </a:xfrm>
          </p:grpSpPr>
          <p:sp>
            <p:nvSpPr>
              <p:cNvPr id="113" name=""/>
              <p:cNvSpPr/>
              <p:nvPr/>
            </p:nvSpPr>
            <p:spPr>
              <a:xfrm>
                <a:off x="2310480" y="353376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888200" y="3461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18240" y="3645360"/>
                <a:ext cx="189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"/>
              <p:cNvGrpSpPr/>
              <p:nvPr/>
            </p:nvGrpSpPr>
            <p:grpSpPr>
              <a:xfrm>
                <a:off x="1949760" y="3332880"/>
                <a:ext cx="63000" cy="167760"/>
                <a:chOff x="1949760" y="3332880"/>
                <a:chExt cx="63000" cy="1677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949760" y="3332880"/>
                  <a:ext cx="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12760" y="3332880"/>
                  <a:ext cx="0" cy="167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1868400" y="30128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991880" y="3813120"/>
                <a:ext cx="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873080" y="39636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12080" y="3645360"/>
                <a:ext cx="25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301400" y="35161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24" name=""/>
          <p:cNvGraphicFramePr/>
          <p:nvPr/>
        </p:nvGraphicFramePr>
        <p:xfrm>
          <a:off x="3625920" y="4495680"/>
          <a:ext cx="246996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5920" y="4495680"/>
                    <a:ext cx="24699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3565800" y="5391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43520" y="531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73560" y="55022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203640" y="5191200"/>
            <a:ext cx="63360" cy="166680"/>
            <a:chOff x="3203640" y="5191200"/>
            <a:chExt cx="63360" cy="166680"/>
          </a:xfrm>
        </p:grpSpPr>
        <p:sp>
          <p:nvSpPr>
            <p:cNvPr id="130" name=""/>
            <p:cNvSpPr/>
            <p:nvPr/>
          </p:nvSpPr>
          <p:spPr>
            <a:xfrm>
              <a:off x="3203640" y="51912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67000" y="519120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121200" y="487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46480" y="567072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25880" y="58212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67040" y="55022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15040" y="53625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92760" y="529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422440" y="5475240"/>
            <a:ext cx="1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54320" y="5162400"/>
            <a:ext cx="63360" cy="168480"/>
            <a:chOff x="2254320" y="5162400"/>
            <a:chExt cx="63360" cy="168480"/>
          </a:xfrm>
        </p:grpSpPr>
        <p:sp>
          <p:nvSpPr>
            <p:cNvPr id="140" name=""/>
            <p:cNvSpPr/>
            <p:nvPr/>
          </p:nvSpPr>
          <p:spPr>
            <a:xfrm>
              <a:off x="2254320" y="516240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7680" y="516240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73680" y="4842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97160" y="5643720"/>
            <a:ext cx="0" cy="1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8000" y="579276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16280" y="54752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52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615960" y="4800600"/>
            <a:ext cx="1353240" cy="1410840"/>
            <a:chOff x="615960" y="4800600"/>
            <a:chExt cx="1353240" cy="1410840"/>
          </a:xfrm>
        </p:grpSpPr>
        <p:sp>
          <p:nvSpPr>
            <p:cNvPr id="148" name=""/>
            <p:cNvSpPr/>
            <p:nvPr/>
          </p:nvSpPr>
          <p:spPr>
            <a:xfrm>
              <a:off x="1623960" y="532152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1680" y="5249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32080" y="5433480"/>
              <a:ext cx="18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263600" y="5121000"/>
              <a:ext cx="63000" cy="167760"/>
              <a:chOff x="1263600" y="5121000"/>
              <a:chExt cx="63000" cy="167760"/>
            </a:xfrm>
          </p:grpSpPr>
          <p:sp>
            <p:nvSpPr>
              <p:cNvPr id="152" name=""/>
              <p:cNvSpPr/>
              <p:nvPr/>
            </p:nvSpPr>
            <p:spPr>
              <a:xfrm>
                <a:off x="1263600" y="5121000"/>
                <a:ext cx="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26600" y="5121000"/>
                <a:ext cx="0" cy="16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1182240" y="48006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05720" y="5601240"/>
              <a:ext cx="0" cy="16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86920" y="575172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5920" y="543348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15960" y="5304240"/>
              <a:ext cx="40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8640" y="51814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3429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42880" y="12603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G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6120" y="32004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9440" y="50292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Nucleotides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807696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0T20:29:52Z</dcterms:created>
  <dc:creator>Carl J. Schmidt</dc:creator>
  <dc:description/>
  <dc:language>en-US</dc:language>
  <cp:lastModifiedBy>Carl J. Schmidt</cp:lastModifiedBy>
  <cp:lastPrinted>2001-03-11T23:59:30Z</cp:lastPrinted>
  <dcterms:modified xsi:type="dcterms:W3CDTF">2002-02-07T19:32:48Z</dcterms:modified>
  <cp:revision>27</cp:revision>
  <dc:subject/>
  <dc:title>DNA Structure and Function</dc:title>
</cp:coreProperties>
</file>