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0058400" cy="7315200"/>
  <p:notesSz cx="73152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3FD-C5A7-4463-85EB-17E637FF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8548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01760" y="4445640"/>
            <a:ext cx="8548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64A-CA28-44BF-BCD8-1B61C6A6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0176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8224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2A2A-E807-43F8-A92B-78017DAE8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2200" y="215280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083000" y="215280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01760" y="444564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92200" y="444564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083000" y="444564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9AB-34E5-4FD2-8538-EDB1D698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2C8A-29E4-4482-8E80-2361ED42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01760" y="2152800"/>
            <a:ext cx="8548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A166-58F4-48CE-8350-D2C29C97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854856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295-EB09-4E52-B943-0EE60F5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51EF-35C4-4D18-AB10-E82531ED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039E-8936-4859-9A1A-011025FF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66840" y="658440"/>
            <a:ext cx="8570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A3AB-185F-4836-A74F-9EBF0E7E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0176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492B-6120-436C-B328-25125383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01760" y="2152800"/>
            <a:ext cx="8548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825-B6AD-4E52-B8EF-470D4E29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8224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3832-D5CC-475F-B9BA-26A9F3B9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01760" y="4445640"/>
            <a:ext cx="8548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BF5B-964C-41CC-B56F-907CE99E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8548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01760" y="4445640"/>
            <a:ext cx="8548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E472-F135-4428-97D0-0EF70832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0176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68224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500F-D452-44BB-A719-0674A2BC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92200" y="215280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083000" y="215280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01760" y="444564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192200" y="444564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7083000" y="4445640"/>
            <a:ext cx="2752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7DE44-1206-42D8-9E3E-ED4A210C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854856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7F1-7C35-43DF-BBAC-822364DE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889-5B72-44BC-AB88-03EBF71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51C5-9342-4DF2-920A-97986CD0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66840" y="658440"/>
            <a:ext cx="85708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574-6BC5-41D8-8F84-4EA0D68F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0176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03A8-046A-4EF2-A933-A5B17415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82240" y="444564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696-8E2A-471F-8279-7AAC9DF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0176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2240" y="2152800"/>
            <a:ext cx="417168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01760" y="4445640"/>
            <a:ext cx="8548560" cy="2093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B63-A0EE-4C7B-B7FA-D4E9322C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8640" y="1171440"/>
            <a:ext cx="482760" cy="5065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9480" y="1171440"/>
            <a:ext cx="361800" cy="5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5440" y="1622520"/>
            <a:ext cx="465120" cy="506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01880" y="1622520"/>
            <a:ext cx="406080" cy="50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9680" y="1544760"/>
            <a:ext cx="615960" cy="45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1057320"/>
            <a:ext cx="34920" cy="11224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49680" bIns="49680" anchor="ctr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506520" y="1950840"/>
            <a:ext cx="9551880" cy="48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-720" bIns="-720" anchor="ctr" rot="10800000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301760" y="2152800"/>
            <a:ext cx="854856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7000"/>
          </a:bodyPr>
          <a:p>
            <a:pPr marL="361440" indent="-36144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81920" indent="-300240">
              <a:spcBef>
                <a:spcPts val="87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03840" indent="-241560">
              <a:spcBef>
                <a:spcPts val="8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684440" indent="-240120">
              <a:spcBef>
                <a:spcPts val="876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166120" indent="-239760">
              <a:spcBef>
                <a:spcPts val="876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166120" indent="-23976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166120" indent="-239760">
              <a:spcBef>
                <a:spcPts val="876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006200" y="6746760"/>
            <a:ext cx="209556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87840" y="6746760"/>
            <a:ext cx="318600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459200" y="6746760"/>
            <a:ext cx="2095560" cy="4874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AA643EB2-89FB-4B36-984E-5A728625A8CA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18960" y="2716200"/>
            <a:ext cx="782280" cy="506520"/>
            <a:chOff x="318960" y="2716200"/>
            <a:chExt cx="782280" cy="506520"/>
          </a:xfrm>
        </p:grpSpPr>
        <p:sp>
          <p:nvSpPr>
            <p:cNvPr id="49" name=""/>
            <p:cNvSpPr/>
            <p:nvPr/>
          </p:nvSpPr>
          <p:spPr>
            <a:xfrm>
              <a:off x="318960" y="2716200"/>
              <a:ext cx="481320" cy="5065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0160" y="2716200"/>
              <a:ext cx="361080" cy="506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55760" y="3166920"/>
            <a:ext cx="812520" cy="506520"/>
            <a:chOff x="455760" y="3166920"/>
            <a:chExt cx="812520" cy="506520"/>
          </a:xfrm>
        </p:grpSpPr>
        <p:sp>
          <p:nvSpPr>
            <p:cNvPr id="52" name=""/>
            <p:cNvSpPr/>
            <p:nvPr/>
          </p:nvSpPr>
          <p:spPr>
            <a:xfrm>
              <a:off x="455760" y="3166920"/>
              <a:ext cx="464040" cy="50652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61840" y="3166920"/>
              <a:ext cx="406440" cy="506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089160"/>
            <a:ext cx="615960" cy="449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8400" y="2600280"/>
            <a:ext cx="34920" cy="112392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8640" y="1951200"/>
            <a:ext cx="855036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108864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771720" y="6664320"/>
            <a:ext cx="31842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5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7543440" y="6664320"/>
            <a:ext cx="209556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  <a:defRPr b="0" lang="en-US" sz="15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fld id="{62E29492-A2B6-40D7-AE54-C7720F51881D}" type="slidenum">
              <a:rPr b="0" lang="en-US" sz="15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47760" y="3481920"/>
            <a:ext cx="9551880" cy="4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360" rIns="99360" tIns="-360" bIns="-360" anchor="ctr" rot="10800000">
            <a:noAutofit/>
          </a:bodyPr>
          <a:p>
            <a:pPr algn="ctr"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502920" y="1711440"/>
            <a:ext cx="90522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76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496800" indent="0" algn="ctr">
              <a:spcBef>
                <a:spcPts val="751"/>
              </a:spcBef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2160" algn="ctr">
              <a:spcBef>
                <a:spcPts val="6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88960" algn="ctr">
              <a:spcBef>
                <a:spcPts val="5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86120" algn="ctr">
              <a:spcBef>
                <a:spcPts val="5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98612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98612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redictioncenter.llnl.gov/casp3/results/access.cgi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-lmmb.ncifcrf.gov/~nicka/123D.html" TargetMode="External"/><Relationship Id="rId2" Type="http://schemas.openxmlformats.org/officeDocument/2006/relationships/hyperlink" Target="http://www.bmm.icnet.uk/~3dpssm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mi.stanford.edu/projects/helix/bmi214/5-17-01a-c2.pdf" TargetMode="External"/><Relationship Id="rId2" Type="http://schemas.openxmlformats.org/officeDocument/2006/relationships/hyperlink" Target="http://www.smi.stanford.edu/projects/helix/bmi214/5-17-01a-c2.pdf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8640" y="1951200"/>
            <a:ext cx="8550360" cy="1218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4300" spc="-1" strike="noStrike">
                <a:solidFill>
                  <a:srgbClr val="333399"/>
                </a:solidFill>
                <a:latin typeface="Georgia"/>
              </a:rPr>
              <a:t>Protein Structure Predictions II</a:t>
            </a:r>
            <a:br>
              <a:rPr sz="4300"/>
            </a:br>
            <a:r>
              <a:rPr b="0" lang="en-US" sz="3500" spc="-1" strike="noStrike">
                <a:solidFill>
                  <a:srgbClr val="333399"/>
                </a:solidFill>
                <a:latin typeface="Georgia"/>
              </a:rPr>
              <a:t>(Three-dimensional Structure)</a:t>
            </a:r>
            <a:endParaRPr b="0" lang="en-US" sz="35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3809520"/>
            <a:ext cx="7042320" cy="2281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IS889: Bioinforma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pril 18, 20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uizhong (Harry) 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Dynamic Programming (DP)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2152800"/>
            <a:ext cx="924084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eorgi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instead of aligning a seq. to a seq., align a seq. to a string of descriptors that describe the 3-D environ. of the target str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.e., DP with environ. st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a target struct. is found to have a significantly high score, the new seq. is predicted to have a fold similar to that of the target c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DP Threading - Advantage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152800"/>
            <a:ext cx="939312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vironmental proclivities may be more accurate than simple AA simil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uctur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oca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ny other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F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retty good performan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DP Threading - Disadvantage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52800"/>
            <a:ext cx="939312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share some problems of DP in general (e.g., independence assumption from col. to col., gap penalty choice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umes “average” AA preferences over all similar protein-family envi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ssumes that the environ. is relatively constant, and that only AA detail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Residue Pair Preference Profile (R3P)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iginal profile undergoes sharp transitions in values as the struct. environ.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3P: improvement in the profile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akes into account AA neighbors, main-chain conform., and secondary struct. of each residue in the str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ow often does 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helix interact with 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in 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tr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25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. of such interaction in a spec. struct. conf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core ’= 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q. of finding a and b interacting in any conf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R3P - Calculation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8000"/>
          </a:bodyPr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ir preference log odds score S (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 (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) = ln [ P (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) / P (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 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4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031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: freq. of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having properties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nd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031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 (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, 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: freq. of finding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nd a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5400" indent="-3654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core for position 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S (a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 (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) =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 S (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i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aa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, c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) /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 w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Georgia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200" indent="-3031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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:  weight representing the compatibility of the environ. Residue w/ its own local envi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Determination of Neighbor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2152800"/>
            <a:ext cx="924084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ease see the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Contact Potential Method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Georgi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each structural core is represented as a 2-D contact matrix.      Similar to the distance matrix method of DALI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st AAs in the struct. across the rows and down the colum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each matrix position, the dist. btwn the corresponding pair of AAs in the struct. is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bjective: superimpose sets of AA pairs in the query seq. on to the distance matrix of the core (as in D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Contact Potential Calculation - 1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teraction  energy between 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E(interaction) = -KT ln(frequency of inte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K: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: temperature (in K, 273K = 0 º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requency of interaction: measured in database of known str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re frequ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ore fav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Contact Potential Calculation - 2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tac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Georgia"/>
              </a:rPr>
              <a:t>abs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(r) =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Georgia"/>
              </a:rPr>
              <a:t>abs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(r) -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: AA typ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: AA typ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: separation in seq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m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 for each pair a&amp;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conformation stability of the predic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Limitation of Contact Potential Method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energy associated with an isolated AA pair is assumed to be similar to that found in known protein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dification: the conformation energy of groups of AAs larger than 2 may provide a more reliabl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ill, the method is not as popular as the struct. profil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Outlin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52800"/>
            <a:ext cx="924084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tructural profile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ntact potential meth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valuating the success of structure predi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tructural mod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Evaluating the Prediction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SP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tica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sess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uctu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diction)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Georgia"/>
                <a:hlinkClick r:id="rId1"/>
              </a:rPr>
              <a:t>http://predictioncenter.llnl.gov/casp3/results/access.c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dictions are compared with the newly determined stru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ASP2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2 groups, 369 predictions on 15 different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q. identity of target seq. to a known struct.: 20-8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reshold observed: 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reading improvement: using a set of multiply aligned seq. instead of a single s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Useful Resource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b sites for structure mode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208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3124080"/>
          <a:ext cx="8686800" cy="3305160"/>
        </p:xfrm>
        <a:graphic>
          <a:graphicData uri="http://schemas.openxmlformats.org/drawingml/2006/table">
            <a:tbl>
              <a:tblPr/>
              <a:tblGrid>
                <a:gridCol w="2743200"/>
                <a:gridCol w="594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b 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ttp://guitar.rockefeller.edu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deller/modeller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iss-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ttp://www.expasy.ch/swissmod/SWISS-MODEL.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ttp://www.cmbi.kun.nl/whatif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77208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143000"/>
          <a:ext cx="8610480" cy="5899320"/>
        </p:xfrm>
        <a:graphic>
          <a:graphicData uri="http://schemas.openxmlformats.org/drawingml/2006/table">
            <a:tbl>
              <a:tblPr/>
              <a:tblGrid>
                <a:gridCol w="861048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3D         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  <a:hlinkClick r:id="rId1"/>
                        </a:rPr>
                        <a:t>http://www-lmmb.ncifcrf.gov/~nicka/123D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D-PSSM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Georgia"/>
                          <a:hlinkClick r:id="rId2"/>
                        </a:rPr>
                        <a:t>http://www.bmm.icnet.uk/~3dps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nig lab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honiglab.cpmc.columbia.edu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ibra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www.ddbj.nig.ac.jp/htmls/E-mail/libra/LIBRA_I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CBI structure site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www.ncbi.nlm.nih.gov/Structure/RESEARCH/threading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ofit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lore.came.sbg.ac.at/home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reader 2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insulin.brunel.ac.uk/threader/threader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PITS</a:t>
                      </a: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www.embl-heidelberg.de/predictprotein/doc/help_05.html#P5_adv_prd_top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CLA-DOE structure prediction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92160"/>
                          <a:tab algn="l" pos="1984320"/>
                          <a:tab algn="l" pos="2976480"/>
                          <a:tab algn="l" pos="3968640"/>
                          <a:tab algn="l" pos="4960800"/>
                          <a:tab algn="l" pos="5952960"/>
                          <a:tab algn="l" pos="6945480"/>
                          <a:tab algn="l" pos="7937640"/>
                          <a:tab algn="l" pos="8929800"/>
                          <a:tab algn="l" pos="9921960"/>
                          <a:tab algn="l" pos="10914120"/>
                        </a:tabLst>
                      </a:pPr>
                      <a:r>
                        <a:rPr b="0" lang="en-US" sz="1600" spc="-1" strike="noStrike">
                          <a:solidFill>
                            <a:srgbClr val="40778e"/>
                          </a:solidFill>
                          <a:latin typeface="Georgia"/>
                        </a:rPr>
                        <a:t>http://www.doe-mbi.ucla.edu/people/frsvr/frsvr.ht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62080" y="3808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reading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Threading servers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RYESLFAQLKERKEGAFVPFVTLGDPGIEQSLKIIDTLIEAGADA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Summary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st approach for protein struct. prediction: locate a link by seq. analysis btwn a new protein and a protein of known str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atabases  organizing proteins into clusters and families with link to known protein struct. are valuable re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thods for secondary struct. and threading analysis can provide useful pred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alysis of genomes offers an additional opportunity for protein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5248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Introduction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9219960" cy="48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9000"/>
          </a:bodyPr>
          <a:p>
            <a:pPr marL="369000" indent="-369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ucture 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-306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put: a string of char from 20 (AA)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-306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Output: XYZ coordinates in protein’s 3-D folded shape for each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9000" indent="-369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appr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-306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rect approach, based on atomic force fields and mechanics, seeks folded conformation with minimum fre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arch space: &g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50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ded conformation for mid-siz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), N: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toms with surrounding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imulation time: &gt;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eorgi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CPU-years at current supercomputer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ccessful for smaller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120" indent="-3063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ternative approach, uses info contained in already-known protein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imited # of protein structural families, 1,000 - 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structures serve as spatial folding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28680" indent="-246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lign AA seq. to the set of positions in one such cor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Introduction (cont’d)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52800"/>
            <a:ext cx="939312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4000"/>
          </a:bodyPr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ld recognition: given a seq. and a library of backbones, find the backbone accommodating the seq.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500+ common structural folds in the domain of 12,500+ three-dimensional 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9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fferent sequences adopt the same f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9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ny combinations of AA can fit into the same three-dimensional co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7800" indent="-29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 new sequence may possess an already identified f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q. align. : presumably a similar three-dimensional  str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databases link seq. families to the known 3-D  struct. of a family 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uct. of a remote family or superfamily member can be predicted through such seq. align.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Introduction (cont’d)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f seq. align. fails, other methods may be employed, e.g., seq. threading (Lithrop et al.,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Threadi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given a backbone, find the best way to “mount” the seq. on the backbone (w/ gaps) to maximize good interactions.  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(The methods examine the seq. of a protein for compatibility of the side groups with a known protein 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methods for deciding seq. compatibil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Georgia"/>
              </a:rPr>
              <a:t>structural profile (environmental templ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tac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Structural Profile Method - 1 (Environmental Template)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6000"/>
          </a:bodyPr>
          <a:p>
            <a:pPr marL="357840" indent="-357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hat are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 Environment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000" indent="-297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ceptually, superimpose multiple structures and look at the statistically conserved features around each 3D xyz position.  It may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2390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AA buried/partially buried or expos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2390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f buried/partially buried, how polar is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2390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at kind of secondary struct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1600" indent="-2390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(Buried status, polarity and secondary struc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840" indent="-357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Sequence profile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predicts which AA might be able to fit into a given structu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4000" indent="-2970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ssumption: if the query protein folds the same way as a target struct., the environs. of the AAs will be in the same linear order as they are in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Structural Profile Method - 2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52800"/>
            <a:ext cx="939312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 fontScale="95000"/>
          </a:bodyPr>
          <a:p>
            <a:pPr marL="3542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w to compute Environ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6080" indent="-29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ign proteins with similar 3-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6080" indent="-29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lign homologous proteins by seq. al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6080" indent="-29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r each position in protein, identify what environment it is by computing the local properties of interest (e.g., buried status, polarity, and secondary stru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6080" indent="-2941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unt frequencies of diff. AAs (within multiple align.) in diff. envi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s creates a </a:t>
            </a:r>
            <a:r>
              <a:rPr b="0" lang="en-US" sz="2400" spc="-1" strike="noStrike">
                <a:solidFill>
                  <a:srgbClr val="3333cc"/>
                </a:solidFill>
                <a:latin typeface="Georgia"/>
              </a:rPr>
              <a:t>Match Matri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tructural 3-D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4240" indent="-3542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18 classes of environ.: 6 representing increasing levels of residue burial and fraction of surface covered by polar atoms combined with 3 classes of secondary struct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helix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trand, and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6840" y="658440"/>
            <a:ext cx="8570880" cy="12193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3900" spc="-1" strike="noStrike">
                <a:solidFill>
                  <a:srgbClr val="333399"/>
                </a:solidFill>
                <a:latin typeface="Georgia"/>
              </a:rPr>
              <a:t>Match Matrix &amp; Structural Profile</a:t>
            </a:r>
            <a:endParaRPr b="0" lang="en-US" sz="39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52800"/>
            <a:ext cx="9316800" cy="438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Georgia"/>
                <a:hlinkClick r:id="rId1"/>
              </a:rPr>
              <a:t>http://www.smi.stanford.edu/projects/helix/bmi214/5-17-01a-c2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eorgia"/>
                <a:hlinkClick r:id="rId2"/>
              </a:rPr>
              <a:t>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ructural prof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w: each AA position in the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umn: each possible AA substitution at tha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09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cores: reflect the suitability of a given AA for that particula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92160"/>
                <a:tab algn="l" pos="1984320"/>
                <a:tab algn="l" pos="2976480"/>
                <a:tab algn="l" pos="3968640"/>
                <a:tab algn="l" pos="4960800"/>
                <a:tab algn="l" pos="5952960"/>
                <a:tab algn="l" pos="6945480"/>
                <a:tab algn="l" pos="7937640"/>
                <a:tab algn="l" pos="8929800"/>
                <a:tab algn="l" pos="9921960"/>
                <a:tab algn="l" pos="10914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2:21:19Z</dcterms:created>
  <dc:creator>User Services</dc:creator>
  <dc:description/>
  <dc:language>en-US</dc:language>
  <cp:lastModifiedBy>116 Pearson Hall</cp:lastModifiedBy>
  <cp:lastPrinted>2002-04-17T04:17:01Z</cp:lastPrinted>
  <dcterms:modified xsi:type="dcterms:W3CDTF">2002-04-17T16:26:17Z</dcterms:modified>
  <cp:revision>57</cp:revision>
  <dc:subject/>
  <dc:title>Protein Structure Predictions IV (Three-dimensional Structure)</dc:title>
</cp:coreProperties>
</file>