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wmf" ContentType="image/x-wmf"/>
  <Override PartName="/ppt/media/image9.wmf" ContentType="image/x-wmf"/>
  <Override PartName="/ppt/media/image14.png" ContentType="image/png"/>
  <Override PartName="/ppt/media/image29.png" ContentType="image/png"/>
  <Override PartName="/ppt/media/image15.wmf" ContentType="image/x-wmf"/>
  <Override PartName="/ppt/media/image7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10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5AF-7763-48BF-B670-9A871215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1C8-55D5-438A-97E1-6A6581F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551-23D5-41AD-AB1D-E4D1C88E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B6F-F939-4FFC-85F8-A37C7353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3C5-74DE-48FB-97F5-3113B537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504-B020-4291-9991-79E88C8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F650-D555-4000-A3D0-C1F4B2A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2B79-F017-49EE-97A6-96448363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E72-0617-47E1-AE8B-8E8C1D52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5CC-DC62-478F-91E8-2D525431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866-069A-44BF-87E8-A8A1E160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36A-2551-4B5C-B23E-1378D7FB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CA26-FA39-4153-8C9B-1D9AC8A74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dkfz-heidelberg.de/abt0840/whuber/mamovie.html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Microarray analysis II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 Whole-genome expression analysi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889: Bioinfor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.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ebal K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1828800"/>
          <a:ext cx="3368520" cy="119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33685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4572000" y="1828800"/>
            <a:ext cx="3371760" cy="1047600"/>
            <a:chOff x="4572000" y="1828800"/>
            <a:chExt cx="3371760" cy="1047600"/>
          </a:xfrm>
        </p:grpSpPr>
        <p:graphicFrame>
          <p:nvGraphicFramePr>
            <p:cNvPr id="92" name=""/>
            <p:cNvGraphicFramePr/>
            <p:nvPr/>
          </p:nvGraphicFramePr>
          <p:xfrm>
            <a:off x="5105520" y="1828800"/>
            <a:ext cx="2838240" cy="1047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828800"/>
                      <a:ext cx="28382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4572000" y="220968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105520" y="2819520"/>
            <a:ext cx="2962080" cy="1904760"/>
            <a:chOff x="5105520" y="2819520"/>
            <a:chExt cx="2962080" cy="1904760"/>
          </a:xfrm>
        </p:grpSpPr>
        <p:sp>
          <p:nvSpPr>
            <p:cNvPr id="96" name=""/>
            <p:cNvSpPr/>
            <p:nvPr/>
          </p:nvSpPr>
          <p:spPr>
            <a:xfrm>
              <a:off x="6400800" y="28195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105520" y="3200400"/>
              <a:ext cx="2962080" cy="1523880"/>
              <a:chOff x="5105520" y="3200400"/>
              <a:chExt cx="2962080" cy="152388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5105520" y="3200400"/>
              <a:ext cx="2962080" cy="885960"/>
            </p:xfrm>
            <a:graphic>
              <a:graphicData uri="http://schemas.openxmlformats.org/presentationml/2006/ole">
                <p:oleObj progId="Word.Document.12" r:id="rId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105520" y="3200400"/>
                        <a:ext cx="2962080" cy="88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6553080" y="411480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861560" y="3429000"/>
            <a:ext cx="5977440" cy="2682720"/>
            <a:chOff x="1861560" y="3429000"/>
            <a:chExt cx="5977440" cy="2682720"/>
          </a:xfrm>
        </p:grpSpPr>
        <p:graphicFrame>
          <p:nvGraphicFramePr>
            <p:cNvPr id="102" name=""/>
            <p:cNvGraphicFramePr/>
            <p:nvPr/>
          </p:nvGraphicFramePr>
          <p:xfrm>
            <a:off x="5334120" y="4876920"/>
            <a:ext cx="2504880" cy="123480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4120" y="4876920"/>
                      <a:ext cx="2504880" cy="12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4" name=""/>
            <p:cNvGrpSpPr/>
            <p:nvPr/>
          </p:nvGrpSpPr>
          <p:grpSpPr>
            <a:xfrm>
              <a:off x="1981080" y="3429000"/>
              <a:ext cx="1371600" cy="2437920"/>
              <a:chOff x="1981080" y="3429000"/>
              <a:chExt cx="1371600" cy="24379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981080" y="3504960"/>
                <a:ext cx="457200" cy="2361600"/>
                <a:chOff x="1981080" y="3504960"/>
                <a:chExt cx="457200" cy="23616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981080" y="533340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38280" y="533340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209680" y="3504960"/>
                  <a:ext cx="0" cy="182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981080" y="5333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895480" y="4495680"/>
                <a:ext cx="457200" cy="1371240"/>
                <a:chOff x="2895480" y="4495680"/>
                <a:chExt cx="457200" cy="1371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95480" y="4495680"/>
                  <a:ext cx="0" cy="137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52680" y="4495680"/>
                  <a:ext cx="0" cy="137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895480" y="44956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666880" y="4038480"/>
                <a:ext cx="457200" cy="1828440"/>
                <a:chOff x="2666880" y="4038480"/>
                <a:chExt cx="457200" cy="1828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666880" y="4038480"/>
                  <a:ext cx="0" cy="182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666880" y="4038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3124080" y="40384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09680" y="35049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19520" y="35049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14600" y="34290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861560" y="5802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18760" y="5802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7360" y="5791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960" y="5791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33160" y="5791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5181480"/>
              <a:ext cx="304920" cy="228600"/>
            </a:xfrm>
            <a:prstGeom prst="leftArrow">
              <a:avLst>
                <a:gd name="adj1" fmla="val 50000"/>
                <a:gd name="adj2" fmla="val 333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905120"/>
            <a:ext cx="79250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differs from the hierarchical clustering in many ways. In particul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re is no hierarchy, the data are partitioned. You will be presented only with the final cluster membership for each c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re is no role for the dendrogram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ans cluste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ou must supply the number of cluste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to which the data are to be grou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720" y="175248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Transform n (genes) * m (experiments) matrix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genes) * n(genes) dista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114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Cluster genes based on a k-means cluster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895480"/>
          <a:ext cx="3122640" cy="6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3122640" cy="669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419720" y="31240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797360" y="2892600"/>
          <a:ext cx="2487600" cy="66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7360" y="2892600"/>
                    <a:ext cx="2487600" cy="66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3048120" cy="1063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1440" y="1828800"/>
            <a:ext cx="77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the n*m matrix into n*n matrix, use a simila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stance) met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82800" y="266688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vazoie et al. Nature Genetics. 1999 Jul;22(3):281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68720" y="380988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clidea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2280" y="480060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ny two ge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ed ov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438280" y="2057400"/>
            <a:ext cx="4317840" cy="1155600"/>
            <a:chOff x="2438280" y="2057400"/>
            <a:chExt cx="4317840" cy="1155600"/>
          </a:xfrm>
        </p:grpSpPr>
        <p:graphicFrame>
          <p:nvGraphicFramePr>
            <p:cNvPr id="145" name=""/>
            <p:cNvGraphicFramePr/>
            <p:nvPr/>
          </p:nvGraphicFramePr>
          <p:xfrm>
            <a:off x="2438280" y="2057400"/>
            <a:ext cx="4317840" cy="1155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057400"/>
                      <a:ext cx="431784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sroot" descr=""/>
            <p:cNvPicPr/>
            <p:nvPr/>
          </p:nvPicPr>
          <p:blipFill>
            <a:blip r:embed="rId3"/>
            <a:stretch/>
          </p:blipFill>
          <p:spPr>
            <a:xfrm>
              <a:off x="3657240" y="2971800"/>
              <a:ext cx="2383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sroot" descr=""/>
            <p:cNvPicPr/>
            <p:nvPr/>
          </p:nvPicPr>
          <p:blipFill>
            <a:blip r:embed="rId4"/>
            <a:stretch/>
          </p:blipFill>
          <p:spPr>
            <a:xfrm>
              <a:off x="4495680" y="2743200"/>
              <a:ext cx="2379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049200" y="3352680"/>
            <a:ext cx="2557800" cy="3050280"/>
            <a:chOff x="3049200" y="3352680"/>
            <a:chExt cx="2557800" cy="3050280"/>
          </a:xfrm>
        </p:grpSpPr>
        <p:grpSp>
          <p:nvGrpSpPr>
            <p:cNvPr id="150" name=""/>
            <p:cNvGrpSpPr/>
            <p:nvPr/>
          </p:nvGrpSpPr>
          <p:grpSpPr>
            <a:xfrm>
              <a:off x="3049200" y="3962520"/>
              <a:ext cx="2557800" cy="2440440"/>
              <a:chOff x="3049200" y="3962520"/>
              <a:chExt cx="2557800" cy="2440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21000" y="5562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21000" y="510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40320" y="59436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06800" y="59436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97320" y="3962520"/>
                <a:ext cx="2209680" cy="2057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30480" y="50292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64000" y="50292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64000" y="54864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30480" y="54864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5600" y="4724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88760" y="4724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55600" y="5562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88760" y="5562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87280" y="6095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20800" y="6095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93480" y="54100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9200" y="4952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343400" y="335268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 algorithm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800" y="1981080"/>
            <a:ext cx="3429000" cy="2362320"/>
            <a:chOff x="685800" y="1981080"/>
            <a:chExt cx="3429000" cy="2362320"/>
          </a:xfrm>
        </p:grpSpPr>
        <p:sp>
          <p:nvSpPr>
            <p:cNvPr id="171" name=""/>
            <p:cNvSpPr/>
            <p:nvPr/>
          </p:nvSpPr>
          <p:spPr>
            <a:xfrm>
              <a:off x="685800" y="198108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85640" y="2590560"/>
              <a:ext cx="694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35200" y="25905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5320" y="35049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65360" y="28954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4880" y="33526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5200" y="365760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5240" y="274320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84960" y="31240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4640" y="28954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95000" y="32763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94840" y="30477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57800" y="4114800"/>
            <a:ext cx="3429000" cy="2362320"/>
            <a:chOff x="5257800" y="4114800"/>
            <a:chExt cx="3429000" cy="2362320"/>
          </a:xfrm>
        </p:grpSpPr>
        <p:sp>
          <p:nvSpPr>
            <p:cNvPr id="184" name=""/>
            <p:cNvSpPr/>
            <p:nvPr/>
          </p:nvSpPr>
          <p:spPr>
            <a:xfrm>
              <a:off x="5257800" y="411480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8000" y="47246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7200" y="4724640"/>
              <a:ext cx="6984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28040" y="56390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3736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7600" y="5486400"/>
              <a:ext cx="69840" cy="763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7560" y="5791320"/>
              <a:ext cx="6984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46880" y="487692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56600" y="5257800"/>
              <a:ext cx="712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772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67720" y="54104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67560" y="5181840"/>
              <a:ext cx="7020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840" y="4800600"/>
              <a:ext cx="609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480060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179240" y="2106720"/>
            <a:ext cx="486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Suppose distance of genes ex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are positioned on a two dimens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 based a distance matr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5640" y="4800600"/>
            <a:ext cx="491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The first cluster center(red) is cho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ly and then subsequent centers are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the data point farthest from the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 chosen. In this example, k=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009920" y="55627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 algorithm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828800"/>
            <a:ext cx="3429000" cy="2362320"/>
            <a:chOff x="457200" y="1828800"/>
            <a:chExt cx="3429000" cy="2362320"/>
          </a:xfrm>
        </p:grpSpPr>
        <p:sp>
          <p:nvSpPr>
            <p:cNvPr id="203" name=""/>
            <p:cNvSpPr/>
            <p:nvPr/>
          </p:nvSpPr>
          <p:spPr>
            <a:xfrm>
              <a:off x="457200" y="182880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7400" y="24382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6600" y="2438280"/>
              <a:ext cx="6984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27080" y="33526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6760" y="2743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6640" y="3200400"/>
              <a:ext cx="69840" cy="763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6600" y="3505320"/>
              <a:ext cx="7020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2640" y="259092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56000" y="2971800"/>
              <a:ext cx="712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7120" y="2743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66760" y="31240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66960" y="28954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342900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19520" y="297180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2413080"/>
              <a:ext cx="165240" cy="177840"/>
            </a:xfrm>
            <a:custGeom>
              <a:avLst/>
              <a:gdLst/>
              <a:ahLst/>
              <a:rect l="l" t="t" r="r" b="b"/>
              <a:pathLst>
                <a:path w="104" h="112">
                  <a:moveTo>
                    <a:pt x="48" y="112"/>
                  </a:moveTo>
                  <a:cubicBezTo>
                    <a:pt x="76" y="72"/>
                    <a:pt x="104" y="32"/>
                    <a:pt x="96" y="16"/>
                  </a:cubicBezTo>
                  <a:cubicBezTo>
                    <a:pt x="88" y="0"/>
                    <a:pt x="44" y="8"/>
                    <a:pt x="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410080" y="4114800"/>
            <a:ext cx="3429000" cy="2362320"/>
            <a:chOff x="5410080" y="4114800"/>
            <a:chExt cx="3429000" cy="2362320"/>
          </a:xfrm>
        </p:grpSpPr>
        <p:sp>
          <p:nvSpPr>
            <p:cNvPr id="219" name=""/>
            <p:cNvSpPr/>
            <p:nvPr/>
          </p:nvSpPr>
          <p:spPr>
            <a:xfrm>
              <a:off x="5410080" y="411480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0280" y="47246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9480" y="4724640"/>
              <a:ext cx="6984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9960" y="5639040"/>
              <a:ext cx="6984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964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59520" y="5486400"/>
              <a:ext cx="69840" cy="763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9480" y="5791320"/>
              <a:ext cx="7020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35520" y="4876920"/>
              <a:ext cx="6984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08880" y="5257800"/>
              <a:ext cx="712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5000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9640" y="54104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9840" y="5181840"/>
              <a:ext cx="69840" cy="759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4800600"/>
              <a:ext cx="76320" cy="76320"/>
            </a:xfrm>
            <a:custGeom>
              <a:avLst/>
              <a:gdLst>
                <a:gd name="textAreaLeft" fmla="*/ 17280 w 76320"/>
                <a:gd name="textAreaRight" fmla="*/ 59040 w 76320"/>
                <a:gd name="textAreaTop" fmla="*/ 17280 h 76320"/>
                <a:gd name="textAreaBottom" fmla="*/ 590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2400" y="5334120"/>
              <a:ext cx="75960" cy="76320"/>
            </a:xfrm>
            <a:custGeom>
              <a:avLst/>
              <a:gdLst>
                <a:gd name="textAreaLeft" fmla="*/ 17280 w 75960"/>
                <a:gd name="textAreaRight" fmla="*/ 58680 w 75960"/>
                <a:gd name="textAreaTop" fmla="*/ 17280 h 76320"/>
                <a:gd name="textAreaBottom" fmla="*/ 590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5715000"/>
              <a:ext cx="76320" cy="76320"/>
            </a:xfrm>
            <a:custGeom>
              <a:avLst/>
              <a:gdLst>
                <a:gd name="textAreaLeft" fmla="*/ 17280 w 76320"/>
                <a:gd name="textAreaRight" fmla="*/ 59040 w 76320"/>
                <a:gd name="textAreaTop" fmla="*/ 17280 h 76320"/>
                <a:gd name="textAreaBottom" fmla="*/ 590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028760" y="1981080"/>
            <a:ext cx="51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Each point is assigned to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d with the closest representative ce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7800" y="4648320"/>
            <a:ext cx="47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Minimizes the within-cluster sum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ared distances from the cluster mea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the centroid (star points), tha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a new cluster represent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 algorithm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038480"/>
            <a:ext cx="3429000" cy="236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7200" y="1828800"/>
            <a:ext cx="3429000" cy="2361960"/>
            <a:chOff x="457200" y="1828800"/>
            <a:chExt cx="3429000" cy="2361960"/>
          </a:xfrm>
        </p:grpSpPr>
        <p:grpSp>
          <p:nvGrpSpPr>
            <p:cNvPr id="239" name=""/>
            <p:cNvGrpSpPr/>
            <p:nvPr/>
          </p:nvGrpSpPr>
          <p:grpSpPr>
            <a:xfrm>
              <a:off x="457200" y="1828800"/>
              <a:ext cx="3429000" cy="2361960"/>
              <a:chOff x="457200" y="1828800"/>
              <a:chExt cx="3429000" cy="2361960"/>
            </a:xfrm>
          </p:grpSpPr>
          <p:sp>
            <p:nvSpPr>
              <p:cNvPr id="240" name=""/>
              <p:cNvSpPr/>
              <p:nvPr/>
            </p:nvSpPr>
            <p:spPr>
              <a:xfrm>
                <a:off x="457200" y="1828800"/>
                <a:ext cx="3429000" cy="23619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57400" y="2438280"/>
                <a:ext cx="6984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506600" y="2438280"/>
                <a:ext cx="69840" cy="75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352680"/>
                <a:ext cx="69840" cy="756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36760" y="2742840"/>
                <a:ext cx="69840" cy="7596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906640" y="3200040"/>
                <a:ext cx="69840" cy="7596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36600" y="3504960"/>
                <a:ext cx="70200" cy="759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82640" y="2590560"/>
                <a:ext cx="69840" cy="75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556000" y="2971440"/>
                <a:ext cx="71280" cy="7596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97120" y="2742840"/>
                <a:ext cx="69840" cy="7596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066760" y="3124080"/>
                <a:ext cx="6984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66960" y="2895480"/>
                <a:ext cx="69840" cy="7560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00200" y="2514240"/>
                <a:ext cx="76320" cy="75960"/>
              </a:xfrm>
              <a:custGeom>
                <a:avLst/>
                <a:gdLst>
                  <a:gd name="textAreaLeft" fmla="*/ 17280 w 76320"/>
                  <a:gd name="textAreaRight" fmla="*/ 59040 w 76320"/>
                  <a:gd name="textAreaTop" fmla="*/ 17280 h 75960"/>
                  <a:gd name="textAreaBottom" fmla="*/ 586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19520" y="3047760"/>
                <a:ext cx="75960" cy="75960"/>
              </a:xfrm>
              <a:custGeom>
                <a:avLst/>
                <a:gdLst>
                  <a:gd name="textAreaLeft" fmla="*/ 17280 w 75960"/>
                  <a:gd name="textAreaRight" fmla="*/ 58680 w 75960"/>
                  <a:gd name="textAreaTop" fmla="*/ 17280 h 75960"/>
                  <a:gd name="textAreaBottom" fmla="*/ 586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057400" y="3428640"/>
                <a:ext cx="76320" cy="75960"/>
              </a:xfrm>
              <a:custGeom>
                <a:avLst/>
                <a:gdLst>
                  <a:gd name="textAreaLeft" fmla="*/ 17280 w 76320"/>
                  <a:gd name="textAreaRight" fmla="*/ 59040 w 76320"/>
                  <a:gd name="textAreaTop" fmla="*/ 17280 h 75960"/>
                  <a:gd name="textAreaBottom" fmla="*/ 586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13372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90920" y="304776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524240" y="25905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38680" y="4495680"/>
            <a:ext cx="76212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29400" y="4648320"/>
            <a:ext cx="6984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4876920"/>
            <a:ext cx="76176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78640" y="5410080"/>
            <a:ext cx="6984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28000" y="5181480"/>
            <a:ext cx="7128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69120" y="4952880"/>
            <a:ext cx="6984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8960" y="5105520"/>
            <a:ext cx="69840" cy="759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5257800"/>
            <a:ext cx="76320" cy="76320"/>
          </a:xfrm>
          <a:custGeom>
            <a:avLst/>
            <a:gdLst>
              <a:gd name="textAreaLeft" fmla="*/ 17280 w 76320"/>
              <a:gd name="textAreaRight" fmla="*/ 59040 w 7632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52578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99080" y="5562720"/>
            <a:ext cx="69840" cy="75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8600" y="5715000"/>
            <a:ext cx="7020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38760" y="5334120"/>
            <a:ext cx="69840" cy="75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5562720"/>
            <a:ext cx="76320" cy="75960"/>
          </a:xfrm>
          <a:custGeom>
            <a:avLst/>
            <a:gdLst>
              <a:gd name="textAreaLeft" fmla="*/ 17280 w 76320"/>
              <a:gd name="textAreaRight" fmla="*/ 59040 w 76320"/>
              <a:gd name="textAreaTop" fmla="*/ 17280 h 75960"/>
              <a:gd name="textAreaBottom" fmla="*/ 5868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78600" y="4648320"/>
            <a:ext cx="6984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08760" y="4952880"/>
            <a:ext cx="6984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54640" y="4800600"/>
            <a:ext cx="6984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4800600"/>
            <a:ext cx="76320" cy="76320"/>
          </a:xfrm>
          <a:custGeom>
            <a:avLst/>
            <a:gdLst>
              <a:gd name="textAreaLeft" fmla="*/ 17280 w 76320"/>
              <a:gd name="textAreaRight" fmla="*/ 59040 w 7632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9520" y="4586400"/>
            <a:ext cx="38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step 3, 4 and 5 until no fur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occur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1280" y="1828800"/>
            <a:ext cx="42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peat step 3 and 4 with a n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rincipal component analysis (PCA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5360" y="2438280"/>
            <a:ext cx="782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 is a variable reduction procedure. It is useful w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obtained data on a large number of variables, and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re is some redundancy in thos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436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9680" y="1870200"/>
            <a:ext cx="821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hole genome expression analy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ierarchical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-means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incipal compon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lf organizing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ort vect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utomatic discovery of regulatory patterns in promoter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ayesian network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400800" cy="5068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971800" y="4876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952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905120"/>
            <a:ext cx="809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tems 1-4 are collapsed into a single new variable that reflects the employees’ satisfaction with supervision, and items 5-7 are collapsed into a single new variable that reflects satisfaction with p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120" y="3505320"/>
            <a:ext cx="85701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 form for the formula to compute scores on the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…….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the subject’s score on principal compon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regression coefficient(or weight) for observed variable 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used in creating principal compon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subject’s score on observed variable 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905120"/>
            <a:ext cx="83059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you could determine each subject’s score on principal component 1 (satisfaction with supervision) and principal component 2 (satisfaction with pa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.44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40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47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32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.02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1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3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.01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4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2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2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.48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31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39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0800" y="525780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eights can be calculated using special type of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gen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92" name="cellcycle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514600" cy="2252520"/>
          </a:xfrm>
          <a:prstGeom prst="rect">
            <a:avLst/>
          </a:prstGeom>
          <a:ln w="0">
            <a:noFill/>
          </a:ln>
        </p:spPr>
      </p:pic>
      <p:pic>
        <p:nvPicPr>
          <p:cNvPr id="293" name="aigenarray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2065320" cy="3352680"/>
          </a:xfrm>
          <a:prstGeom prst="rect">
            <a:avLst/>
          </a:prstGeom>
          <a:ln w="0">
            <a:noFill/>
          </a:ln>
        </p:spPr>
      </p:pic>
      <p:pic>
        <p:nvPicPr>
          <p:cNvPr id="294" name="aigenarray1" descr=""/>
          <p:cNvPicPr/>
          <p:nvPr/>
        </p:nvPicPr>
        <p:blipFill>
          <a:blip r:embed="rId3"/>
          <a:stretch/>
        </p:blipFill>
        <p:spPr>
          <a:xfrm>
            <a:off x="5867280" y="2362320"/>
            <a:ext cx="1754280" cy="3276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35920" y="1600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t al., P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00, 97(18) 10101-101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97" name="eigengene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3915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elf organizing maps (SOM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828800"/>
            <a:ext cx="784836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data visualization technique invented by Professor Teuvo Kohonen which reduce the dimensions of data through the use of self-organizing neural networ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method for producing ordered low-dimensional representations of an input data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ypically such input data is complex and high-dimensional with data elements being related to each other in a nonlinear fash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01" name="neuron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1967040" cy="3124440"/>
          </a:xfrm>
          <a:prstGeom prst="rect">
            <a:avLst/>
          </a:prstGeom>
          <a:ln w="0">
            <a:noFill/>
          </a:ln>
        </p:spPr>
      </p:pic>
      <p:pic>
        <p:nvPicPr>
          <p:cNvPr id="302" name="neuron2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38098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04" name="neuron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3200400" cy="1913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3520" y="3733920"/>
            <a:ext cx="830556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erebral cortex of the brain is arranged as a two-dimensional plane of neurons and spatial mappings are used to model complex data struc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opological relationships in external stimuli are preserved and complex multi-dimensional data can be represented in a lower (usually two) dimensional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286000"/>
            <a:ext cx="586728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ne chooses a geometry of "nodes"for example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× 2 gr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nodes are mapp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mensional space, initiall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random, and then iteratively adjus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ach iterat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s randomly selecting a data point P and moving the nod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irection of 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7320" y="152388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may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1999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6:2907-2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som1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23623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2133720"/>
            <a:ext cx="525780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closest no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ved the most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as other nodes are moved by smaller amounts depending 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distance from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initial geomet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 this fashion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ing points in the initial geometry tend to be mapped t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by 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mensional space. The process continues f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,000-50,000 it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som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3623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What  is whole genome expression analysis?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central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407988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0480" y="2057400"/>
            <a:ext cx="407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enger RNA is onl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of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14" name="som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410080" cy="4722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715000" y="1676520"/>
            <a:ext cx="30481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Cell Cycle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828 genes that passed the variation filter were grouped into 30 clus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Beyond cluste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upport vector machine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657600" cy="2495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135080" y="4495680"/>
            <a:ext cx="67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classification of genes according t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hoose positive and negative examples (lable +/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ransform input space to featur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Construct maximum margin hype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Classify new genes as members /non-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upport vector machine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27432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ing the class definitions made by the MIPS yeast genome database, SVMs were trained to recognize six functional classes: tricarboxylic acid (TCA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, respiration, cytoplasmic ribosomes, proteasome, histones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lix-turn-helix prote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720" y="15652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rown et al., 2000 PNAS 97(1), 262-26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upport vector machine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828800"/>
            <a:ext cx="87631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 of predicted functional classifications for previously unannotated genes by the S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u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en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C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HR188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erved in worm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hizosaccharomyces pom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hum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L039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TM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jor transport facilitator family; likely integral membrane protein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R016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highly conserved, possible homolog i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om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R046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nvincing homolog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b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L056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olog of translationally controlled tumor protein, abundant, finger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NL053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SG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in-tyrosine phosphatase, bypasses growth arrest by mating fa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DR330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biquitin regulatory domain protei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om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homolo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JL036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er of sorting nexin famil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DL053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nvincing homolog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LR387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ee C2H2 zinc fingers, similar YBR267W not coregul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Automatic discovery of regulatory patterns in promoter reg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52840" y="2590920"/>
            <a:ext cx="5676480" cy="1676160"/>
            <a:chOff x="1752840" y="2590920"/>
            <a:chExt cx="5676480" cy="1676160"/>
          </a:xfrm>
        </p:grpSpPr>
        <p:sp>
          <p:nvSpPr>
            <p:cNvPr id="328" name=""/>
            <p:cNvSpPr/>
            <p:nvPr/>
          </p:nvSpPr>
          <p:spPr>
            <a:xfrm>
              <a:off x="1996920" y="3276720"/>
              <a:ext cx="41148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68320" y="2590920"/>
              <a:ext cx="56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 6269 ORFs : up and downstream 200 b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39920" y="3276720"/>
              <a:ext cx="17528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5520" y="3276720"/>
              <a:ext cx="609840" cy="152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73640" y="3276720"/>
              <a:ext cx="609480" cy="152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96920" y="4114800"/>
              <a:ext cx="41148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2840" y="3622680"/>
              <a:ext cx="40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97 ORFs : upstream 500 bp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73440" y="4114800"/>
              <a:ext cx="17524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54120" y="4114800"/>
              <a:ext cx="1219320" cy="152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298160" y="21337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66200" y="4724280"/>
            <a:ext cx="70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 chip : 91 data sets. These data sets consis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bp upstream regions and the red-green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86760" y="167652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uhl and Knudsen, 2000 Bioinformatics, 16:326-3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Automatic discovery of regulatory patterns in promoter region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9400" y="2362320"/>
            <a:ext cx="74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quence patterns correlated to whole cell express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by Kolmogorov-Smirnov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5280" y="3733920"/>
            <a:ext cx="802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ory elements were identified by systematic calculations of the significance of correlation between words found in functional annotation of genes and DNA words occuring in their promoter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Bayesian networks analysi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794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6040" y="2819520"/>
            <a:ext cx="847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raph-based model of joint multi-varia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model can captures properties of conditional indepen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n describe complex stocha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ide clear methodologies for learning from (noisy)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5160" y="1752480"/>
            <a:ext cx="61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iedman et al. 2000 J. Comp. Biol., 7:601-6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Bayesian networks analysi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509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35049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Bayesian networks analysi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45241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634640" y="2133720"/>
            <a:ext cx="451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6 gene expression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6177 yeast ORF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00 genes whose exp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d over cell-cycle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earned networks whos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the expression level of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se 800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What  is whole genome expression analysis?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hybrid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4286160" cy="487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51440" y="217476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measure m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9280" y="2098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6760" y="274320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dkfz-heidelberg.de/abt0840/whuber/mamovi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What  is whole genome expression analysis?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3" name="northen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18259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2286000" y="1981080"/>
            <a:ext cx="3429000" cy="4399200"/>
            <a:chOff x="2286000" y="1981080"/>
            <a:chExt cx="3429000" cy="4399200"/>
          </a:xfrm>
        </p:grpSpPr>
        <p:pic>
          <p:nvPicPr>
            <p:cNvPr id="55" name="nilon" descr=""/>
            <p:cNvPicPr/>
            <p:nvPr/>
          </p:nvPicPr>
          <p:blipFill>
            <a:blip r:embed="rId2"/>
            <a:stretch/>
          </p:blipFill>
          <p:spPr>
            <a:xfrm>
              <a:off x="2590920" y="4191120"/>
              <a:ext cx="3124080" cy="21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nilon2" descr=""/>
            <p:cNvPicPr/>
            <p:nvPr/>
          </p:nvPicPr>
          <p:blipFill>
            <a:blip r:embed="rId3"/>
            <a:stretch/>
          </p:blipFill>
          <p:spPr>
            <a:xfrm>
              <a:off x="2590920" y="1981080"/>
              <a:ext cx="30477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286000" y="388620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15000" y="2590920"/>
            <a:ext cx="3076560" cy="2657520"/>
            <a:chOff x="5715000" y="2590920"/>
            <a:chExt cx="3076560" cy="265752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095880" y="2590920"/>
              <a:ext cx="269568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715000" y="380988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ustering algorith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4038480"/>
            <a:ext cx="7524720" cy="2511720"/>
            <a:chOff x="838080" y="4038480"/>
            <a:chExt cx="7524720" cy="2511720"/>
          </a:xfrm>
        </p:grpSpPr>
        <p:sp>
          <p:nvSpPr>
            <p:cNvPr id="65" name=""/>
            <p:cNvSpPr/>
            <p:nvPr/>
          </p:nvSpPr>
          <p:spPr>
            <a:xfrm>
              <a:off x="838080" y="4191120"/>
              <a:ext cx="346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ep 2: Cluster genes based on distance matrix and draw a dendrogram until single node rema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29200" y="4038480"/>
              <a:ext cx="3333600" cy="251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753840" y="1828800"/>
            <a:ext cx="6531120" cy="1736640"/>
            <a:chOff x="753840" y="1828800"/>
            <a:chExt cx="6531120" cy="1736640"/>
          </a:xfrm>
        </p:grpSpPr>
        <p:sp>
          <p:nvSpPr>
            <p:cNvPr id="68" name=""/>
            <p:cNvSpPr/>
            <p:nvPr/>
          </p:nvSpPr>
          <p:spPr>
            <a:xfrm>
              <a:off x="753840" y="1828800"/>
              <a:ext cx="639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ep 1: Transform genes * experiments matrix i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s * genes distance matr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990720" y="2895480"/>
            <a:ext cx="3122640" cy="669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90720" y="2895480"/>
                      <a:ext cx="3122640" cy="6699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4419720" y="31240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4797360" y="2892600"/>
            <a:ext cx="2487600" cy="6696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97360" y="2892600"/>
                      <a:ext cx="2487600" cy="6696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9760" y="1600200"/>
            <a:ext cx="766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the genes*exp matrix into genes*genes matrix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gene similarity met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isen et al. 1998 PNAS 95:14863-148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etics1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5257800" cy="638280"/>
          </a:xfrm>
          <a:prstGeom prst="rect">
            <a:avLst/>
          </a:prstGeom>
          <a:ln w="0">
            <a:noFill/>
          </a:ln>
        </p:spPr>
      </p:pic>
      <p:pic>
        <p:nvPicPr>
          <p:cNvPr id="77" name="metrics2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2895840" cy="75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876920"/>
            <a:ext cx="8016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qual the (log-transformed) primary data f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ond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any two ge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ed ov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offset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et to 0, corresponding to fluorescence ratio of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048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0" y="2743200"/>
            <a:ext cx="27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ly 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arsons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der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3886200"/>
            <a:ext cx="990720" cy="1905120"/>
          </a:xfrm>
          <a:custGeom>
            <a:avLst/>
            <a:gdLst/>
            <a:ahLst/>
            <a:rect l="l" t="t" r="r" b="b"/>
            <a:pathLst>
              <a:path w="944" h="1200">
                <a:moveTo>
                  <a:pt x="0" y="0"/>
                </a:moveTo>
                <a:cubicBezTo>
                  <a:pt x="344" y="92"/>
                  <a:pt x="688" y="184"/>
                  <a:pt x="816" y="384"/>
                </a:cubicBezTo>
                <a:cubicBezTo>
                  <a:pt x="944" y="584"/>
                  <a:pt x="856" y="892"/>
                  <a:pt x="768" y="12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earson1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047760" cy="1842840"/>
          </a:xfrm>
          <a:prstGeom prst="rect">
            <a:avLst/>
          </a:prstGeom>
          <a:ln w="0">
            <a:noFill/>
          </a:ln>
        </p:spPr>
      </p:pic>
      <p:pic>
        <p:nvPicPr>
          <p:cNvPr id="84" name="pearson2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200400" cy="1879560"/>
          </a:xfrm>
          <a:prstGeom prst="rect">
            <a:avLst/>
          </a:prstGeom>
          <a:ln w="0">
            <a:noFill/>
          </a:ln>
        </p:spPr>
      </p:pic>
      <p:pic>
        <p:nvPicPr>
          <p:cNvPr id="85" name="pearson3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2819520" cy="20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83200" y="4800600"/>
            <a:ext cx="44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f genome expression is clu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d on negative correlation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800" y="16765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rsons correlatio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7T03:34:04Z</dcterms:created>
  <dc:creator>Marlene G. Emara</dc:creator>
  <dc:description/>
  <dc:language>en-US</dc:language>
  <cp:lastModifiedBy>Marlene G. Emara</cp:lastModifiedBy>
  <dcterms:modified xsi:type="dcterms:W3CDTF">2002-05-02T15:26:29Z</dcterms:modified>
  <cp:revision>17</cp:revision>
  <dc:subject/>
  <dc:title>Microarray analysis II Whole-genome expression analysis</dc:title>
</cp:coreProperties>
</file>