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wmf" ContentType="image/x-wmf"/>
  <Override PartName="/ppt/media/image9.wmf" ContentType="image/x-wmf"/>
  <Override PartName="/ppt/media/image14.png" ContentType="image/png"/>
  <Override PartName="/ppt/media/image29.png" ContentType="image/png"/>
  <Override PartName="/ppt/media/image15.wmf" ContentType="image/x-wmf"/>
  <Override PartName="/ppt/media/image7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3.png" ContentType="image/png"/>
  <Override PartName="/ppt/media/image30.png" ContentType="image/png"/>
  <Override PartName="/ppt/media/image10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8.wmf" ContentType="image/x-wmf"/>
  <Override PartName="/ppt/media/image20.wmf" ContentType="image/x-wmf"/>
  <Override PartName="/ppt/media/image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docx" ContentType="application/vnd.openxmlformats-officedocument.wordprocessingml.documen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803-4DE2-4DF1-ABFE-6592A10D3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9F96-81CA-493D-AE1E-02FEEA06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CED6-6208-43E8-9DBD-B0A864CF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22D0-E936-4A84-B525-F125CB879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9A6-529C-431C-9DBF-79080D73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290-E0EE-4AA1-88B6-A50DB957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F9F-F652-4467-BB13-460EE63C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FC3-AC9A-446D-B782-7AB2547E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4B5-1145-47BB-A2A8-FFB29321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8C8C-13D1-418D-9018-AF3B6FDC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AF2-0C50-44F4-AB98-B4EDDD7A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BC50-4634-46F7-84BF-53128E9B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C5BD-E298-47A3-90A0-5BDF3E4F4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dkfz-heidelberg.de/abt0840/whuber/mamovie.html" TargetMode="External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Microarray analysis II</a:t>
            </a:r>
            <a:br>
              <a:rPr sz="3600"/>
            </a:b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 Whole-genome expression analysis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889: Bioinforma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2.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ebal K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ierarchical clustering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4400" y="1828800"/>
          <a:ext cx="3368520" cy="119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828800"/>
                    <a:ext cx="336852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" name=""/>
          <p:cNvGrpSpPr/>
          <p:nvPr/>
        </p:nvGrpSpPr>
        <p:grpSpPr>
          <a:xfrm>
            <a:off x="4572000" y="1828800"/>
            <a:ext cx="3371760" cy="1047600"/>
            <a:chOff x="4572000" y="1828800"/>
            <a:chExt cx="3371760" cy="1047600"/>
          </a:xfrm>
        </p:grpSpPr>
        <p:graphicFrame>
          <p:nvGraphicFramePr>
            <p:cNvPr id="92" name=""/>
            <p:cNvGraphicFramePr/>
            <p:nvPr/>
          </p:nvGraphicFramePr>
          <p:xfrm>
            <a:off x="5105520" y="1828800"/>
            <a:ext cx="2838240" cy="10476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05520" y="1828800"/>
                      <a:ext cx="283824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" name=""/>
            <p:cNvSpPr/>
            <p:nvPr/>
          </p:nvSpPr>
          <p:spPr>
            <a:xfrm>
              <a:off x="4572000" y="220968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105520" y="2819520"/>
            <a:ext cx="2962080" cy="1904760"/>
            <a:chOff x="5105520" y="2819520"/>
            <a:chExt cx="2962080" cy="1904760"/>
          </a:xfrm>
        </p:grpSpPr>
        <p:sp>
          <p:nvSpPr>
            <p:cNvPr id="96" name=""/>
            <p:cNvSpPr/>
            <p:nvPr/>
          </p:nvSpPr>
          <p:spPr>
            <a:xfrm>
              <a:off x="6400800" y="2819520"/>
              <a:ext cx="228600" cy="2286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105520" y="3200400"/>
              <a:ext cx="2962080" cy="1523880"/>
              <a:chOff x="5105520" y="3200400"/>
              <a:chExt cx="2962080" cy="1523880"/>
            </a:xfrm>
          </p:grpSpPr>
          <p:graphicFrame>
            <p:nvGraphicFramePr>
              <p:cNvPr id="98" name=""/>
              <p:cNvGraphicFramePr/>
              <p:nvPr/>
            </p:nvGraphicFramePr>
            <p:xfrm>
              <a:off x="5105520" y="3200400"/>
              <a:ext cx="2962080" cy="885960"/>
            </p:xfrm>
            <a:graphic>
              <a:graphicData uri="http://schemas.openxmlformats.org/presentationml/2006/ole">
                <p:oleObj progId="Word.Document.12" r:id="rId5" spid="">
                  <p:embed/>
                  <p:pic>
                    <p:nvPicPr>
                      <p:cNvPr id="99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105520" y="3200400"/>
                        <a:ext cx="2962080" cy="885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0" name=""/>
              <p:cNvSpPr/>
              <p:nvPr/>
            </p:nvSpPr>
            <p:spPr>
              <a:xfrm>
                <a:off x="6553080" y="4114800"/>
                <a:ext cx="0" cy="6094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" name=""/>
          <p:cNvGrpSpPr/>
          <p:nvPr/>
        </p:nvGrpSpPr>
        <p:grpSpPr>
          <a:xfrm>
            <a:off x="1861560" y="3429000"/>
            <a:ext cx="5977440" cy="2682720"/>
            <a:chOff x="1861560" y="3429000"/>
            <a:chExt cx="5977440" cy="2682720"/>
          </a:xfrm>
        </p:grpSpPr>
        <p:graphicFrame>
          <p:nvGraphicFramePr>
            <p:cNvPr id="102" name=""/>
            <p:cNvGraphicFramePr/>
            <p:nvPr/>
          </p:nvGraphicFramePr>
          <p:xfrm>
            <a:off x="5334120" y="4876920"/>
            <a:ext cx="2504880" cy="1234800"/>
          </p:xfrm>
          <a:graphic>
            <a:graphicData uri="http://schemas.openxmlformats.org/presentationml/2006/ole">
              <p:oleObj progId="Word.Document.12" r:id="rId7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34120" y="4876920"/>
                      <a:ext cx="2504880" cy="12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04" name=""/>
            <p:cNvGrpSpPr/>
            <p:nvPr/>
          </p:nvGrpSpPr>
          <p:grpSpPr>
            <a:xfrm>
              <a:off x="1981080" y="3429000"/>
              <a:ext cx="1371600" cy="2437920"/>
              <a:chOff x="1981080" y="3429000"/>
              <a:chExt cx="1371600" cy="243792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1981080" y="3504960"/>
                <a:ext cx="457200" cy="2361600"/>
                <a:chOff x="1981080" y="3504960"/>
                <a:chExt cx="457200" cy="23616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981080" y="533340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438280" y="5333400"/>
                  <a:ext cx="0" cy="533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209680" y="3504960"/>
                  <a:ext cx="0" cy="182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1981080" y="533340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895480" y="4495680"/>
                <a:ext cx="457200" cy="1371240"/>
                <a:chOff x="2895480" y="4495680"/>
                <a:chExt cx="457200" cy="13712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895480" y="4495680"/>
                  <a:ext cx="0" cy="137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352680" y="4495680"/>
                  <a:ext cx="0" cy="137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895480" y="44956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2666880" y="4038480"/>
                <a:ext cx="457200" cy="1828440"/>
                <a:chOff x="2666880" y="4038480"/>
                <a:chExt cx="457200" cy="18284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2666880" y="4038480"/>
                  <a:ext cx="0" cy="182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666880" y="403848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3124080" y="4038480"/>
                <a:ext cx="0" cy="45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09680" y="35049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19520" y="350496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14600" y="342900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1861560" y="5802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18760" y="5802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7360" y="5791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960" y="5791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33160" y="5791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5181480"/>
              <a:ext cx="304920" cy="228600"/>
            </a:xfrm>
            <a:prstGeom prst="leftArrow">
              <a:avLst>
                <a:gd name="adj1" fmla="val 50000"/>
                <a:gd name="adj2" fmla="val 33346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905120"/>
            <a:ext cx="79250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differs from the hierarchical clustering in many ways. In particula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re is no hierarchy, the data are partitioned. You will be presented only with the final cluster membership for each c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re is no role for the dendrogram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eans cluste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You must supply the number of cluster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to which the data are to be group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720" y="1752480"/>
            <a:ext cx="73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1: Transform n (genes) * m (experiments) matrix i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genes) * n(genes) dista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11480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 2: Cluster genes based on a k-means cluster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90720" y="2895480"/>
          <a:ext cx="3122640" cy="66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3122640" cy="669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4419720" y="3124080"/>
            <a:ext cx="228600" cy="152640"/>
          </a:xfrm>
          <a:prstGeom prst="rightArrow">
            <a:avLst>
              <a:gd name="adj1" fmla="val 50000"/>
              <a:gd name="adj2" fmla="val 374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797360" y="2892600"/>
          <a:ext cx="2487600" cy="669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97360" y="2892600"/>
                    <a:ext cx="2487600" cy="66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14800" y="3505320"/>
            <a:ext cx="3048120" cy="1063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1440" y="1828800"/>
            <a:ext cx="778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the n*m matrix into n*n matrix, use a similar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istance) metr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82800" y="2666880"/>
            <a:ext cx="69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avazoie et al. Nature Genetics. 1999 Jul;22(3):281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68720" y="380988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clidean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2280" y="4800600"/>
            <a:ext cx="69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any two gen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ed ov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438280" y="2057400"/>
            <a:ext cx="4317840" cy="1155600"/>
            <a:chOff x="2438280" y="2057400"/>
            <a:chExt cx="4317840" cy="1155600"/>
          </a:xfrm>
        </p:grpSpPr>
        <p:graphicFrame>
          <p:nvGraphicFramePr>
            <p:cNvPr id="145" name=""/>
            <p:cNvGraphicFramePr/>
            <p:nvPr/>
          </p:nvGraphicFramePr>
          <p:xfrm>
            <a:off x="2438280" y="2057400"/>
            <a:ext cx="4317840" cy="1155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8280" y="2057400"/>
                      <a:ext cx="4317840" cy="115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47" name="sroot" descr=""/>
            <p:cNvPicPr/>
            <p:nvPr/>
          </p:nvPicPr>
          <p:blipFill>
            <a:blip r:embed="rId3"/>
            <a:stretch/>
          </p:blipFill>
          <p:spPr>
            <a:xfrm>
              <a:off x="3657240" y="2971800"/>
              <a:ext cx="2383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sroot" descr=""/>
            <p:cNvPicPr/>
            <p:nvPr/>
          </p:nvPicPr>
          <p:blipFill>
            <a:blip r:embed="rId4"/>
            <a:stretch/>
          </p:blipFill>
          <p:spPr>
            <a:xfrm>
              <a:off x="4495680" y="2743200"/>
              <a:ext cx="23796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3049200" y="3352680"/>
            <a:ext cx="2557800" cy="3050280"/>
            <a:chOff x="3049200" y="3352680"/>
            <a:chExt cx="2557800" cy="3050280"/>
          </a:xfrm>
        </p:grpSpPr>
        <p:grpSp>
          <p:nvGrpSpPr>
            <p:cNvPr id="150" name=""/>
            <p:cNvGrpSpPr/>
            <p:nvPr/>
          </p:nvGrpSpPr>
          <p:grpSpPr>
            <a:xfrm>
              <a:off x="3049200" y="3962520"/>
              <a:ext cx="2557800" cy="2440440"/>
              <a:chOff x="3049200" y="3962520"/>
              <a:chExt cx="2557800" cy="2440440"/>
            </a:xfrm>
          </p:grpSpPr>
          <p:sp>
            <p:nvSpPr>
              <p:cNvPr id="151" name=""/>
              <p:cNvSpPr/>
              <p:nvPr/>
            </p:nvSpPr>
            <p:spPr>
              <a:xfrm>
                <a:off x="3321000" y="55623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21000" y="51051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40320" y="59436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06800" y="5943600"/>
                <a:ext cx="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397320" y="3962520"/>
                <a:ext cx="2209680" cy="20570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30480" y="5029200"/>
                <a:ext cx="7632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64000" y="5029200"/>
                <a:ext cx="7632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64000" y="5486400"/>
                <a:ext cx="7632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30480" y="5486400"/>
                <a:ext cx="7632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55600" y="4724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88760" y="47242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55600" y="5562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88760" y="5562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887280" y="60958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20800" y="60958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93480" y="54100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49200" y="49528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4343400" y="3352680"/>
              <a:ext cx="228600" cy="381240"/>
            </a:xfrm>
            <a:prstGeom prst="downArrow">
              <a:avLst>
                <a:gd name="adj1" fmla="val 50000"/>
                <a:gd name="adj2" fmla="val 4169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 algorithm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85800" y="1981080"/>
            <a:ext cx="3429000" cy="2362320"/>
            <a:chOff x="685800" y="1981080"/>
            <a:chExt cx="3429000" cy="2362320"/>
          </a:xfrm>
        </p:grpSpPr>
        <p:sp>
          <p:nvSpPr>
            <p:cNvPr id="171" name=""/>
            <p:cNvSpPr/>
            <p:nvPr/>
          </p:nvSpPr>
          <p:spPr>
            <a:xfrm>
              <a:off x="685800" y="1981080"/>
              <a:ext cx="342900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85640" y="2590560"/>
              <a:ext cx="6948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35200" y="259056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5320" y="350496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65360" y="28954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134880" y="33526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65200" y="365760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5240" y="274320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84960" y="31240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24640" y="28954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95000" y="327636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94840" y="304776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257800" y="4114800"/>
            <a:ext cx="3429000" cy="2362320"/>
            <a:chOff x="5257800" y="4114800"/>
            <a:chExt cx="3429000" cy="2362320"/>
          </a:xfrm>
        </p:grpSpPr>
        <p:sp>
          <p:nvSpPr>
            <p:cNvPr id="184" name=""/>
            <p:cNvSpPr/>
            <p:nvPr/>
          </p:nvSpPr>
          <p:spPr>
            <a:xfrm>
              <a:off x="5257800" y="4114800"/>
              <a:ext cx="342900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58000" y="47246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7200" y="4724640"/>
              <a:ext cx="6984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28040" y="56390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37360" y="5029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07600" y="5486400"/>
              <a:ext cx="69840" cy="763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937560" y="5791320"/>
              <a:ext cx="6984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46880" y="487692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56600" y="5257800"/>
              <a:ext cx="7128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97720" y="5029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67720" y="54104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67560" y="5181840"/>
              <a:ext cx="7020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24840" y="4800600"/>
              <a:ext cx="6094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00800" y="4800600"/>
              <a:ext cx="12956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179240" y="2106720"/>
            <a:ext cx="486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1: Suppose distance of genes expr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s are positioned on a two dimens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 based a distance matr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5640" y="4800600"/>
            <a:ext cx="4917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2: The first cluster center(red) is chos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ly and then subsequent centers are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ing the data point farthest from the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ready chosen. In this example, k=3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009920" y="55627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 algorithm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1828800"/>
            <a:ext cx="3429000" cy="2362320"/>
            <a:chOff x="457200" y="1828800"/>
            <a:chExt cx="3429000" cy="2362320"/>
          </a:xfrm>
        </p:grpSpPr>
        <p:sp>
          <p:nvSpPr>
            <p:cNvPr id="203" name=""/>
            <p:cNvSpPr/>
            <p:nvPr/>
          </p:nvSpPr>
          <p:spPr>
            <a:xfrm>
              <a:off x="457200" y="1828800"/>
              <a:ext cx="342900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57400" y="24382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06600" y="2438280"/>
              <a:ext cx="6984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27080" y="33526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36760" y="2743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06640" y="3200400"/>
              <a:ext cx="69840" cy="763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36600" y="3505320"/>
              <a:ext cx="7020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82640" y="259092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56000" y="2971800"/>
              <a:ext cx="7128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97120" y="2743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66760" y="31240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66960" y="289548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81080" y="342900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19520" y="297180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00200" y="2413080"/>
              <a:ext cx="165240" cy="177840"/>
            </a:xfrm>
            <a:custGeom>
              <a:avLst/>
              <a:gdLst/>
              <a:ahLst/>
              <a:rect l="l" t="t" r="r" b="b"/>
              <a:pathLst>
                <a:path w="104" h="112">
                  <a:moveTo>
                    <a:pt x="48" y="112"/>
                  </a:moveTo>
                  <a:cubicBezTo>
                    <a:pt x="76" y="72"/>
                    <a:pt x="104" y="32"/>
                    <a:pt x="96" y="16"/>
                  </a:cubicBezTo>
                  <a:cubicBezTo>
                    <a:pt x="88" y="0"/>
                    <a:pt x="44" y="8"/>
                    <a:pt x="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410080" y="4114800"/>
            <a:ext cx="3429000" cy="2362320"/>
            <a:chOff x="5410080" y="4114800"/>
            <a:chExt cx="3429000" cy="2362320"/>
          </a:xfrm>
        </p:grpSpPr>
        <p:sp>
          <p:nvSpPr>
            <p:cNvPr id="219" name=""/>
            <p:cNvSpPr/>
            <p:nvPr/>
          </p:nvSpPr>
          <p:spPr>
            <a:xfrm>
              <a:off x="5410080" y="4114800"/>
              <a:ext cx="3429000" cy="236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0280" y="47246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59480" y="4724640"/>
              <a:ext cx="69840" cy="75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79960" y="5639040"/>
              <a:ext cx="6984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89640" y="5029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859520" y="5486400"/>
              <a:ext cx="69840" cy="7632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089480" y="5791320"/>
              <a:ext cx="7020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35520" y="4876920"/>
              <a:ext cx="69840" cy="763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08880" y="5257800"/>
              <a:ext cx="7128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50000" y="5029200"/>
              <a:ext cx="69840" cy="7632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9640" y="5410440"/>
              <a:ext cx="69840" cy="75960"/>
            </a:xfrm>
            <a:prstGeom prst="ellipse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9840" y="5181840"/>
              <a:ext cx="69840" cy="759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53080" y="4800600"/>
              <a:ext cx="76320" cy="76320"/>
            </a:xfrm>
            <a:custGeom>
              <a:avLst/>
              <a:gdLst>
                <a:gd name="textAreaLeft" fmla="*/ 17280 w 76320"/>
                <a:gd name="textAreaRight" fmla="*/ 59040 w 76320"/>
                <a:gd name="textAreaTop" fmla="*/ 17280 h 76320"/>
                <a:gd name="textAreaBottom" fmla="*/ 5904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2400" y="5334120"/>
              <a:ext cx="75960" cy="76320"/>
            </a:xfrm>
            <a:custGeom>
              <a:avLst/>
              <a:gdLst>
                <a:gd name="textAreaLeft" fmla="*/ 17280 w 75960"/>
                <a:gd name="textAreaRight" fmla="*/ 58680 w 75960"/>
                <a:gd name="textAreaTop" fmla="*/ 17280 h 76320"/>
                <a:gd name="textAreaBottom" fmla="*/ 5904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10280" y="5715000"/>
              <a:ext cx="76320" cy="76320"/>
            </a:xfrm>
            <a:custGeom>
              <a:avLst/>
              <a:gdLst>
                <a:gd name="textAreaLeft" fmla="*/ 17280 w 76320"/>
                <a:gd name="textAreaRight" fmla="*/ 59040 w 76320"/>
                <a:gd name="textAreaTop" fmla="*/ 17280 h 76320"/>
                <a:gd name="textAreaBottom" fmla="*/ 5904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4028760" y="1981080"/>
            <a:ext cx="511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3: Each point is assigned to th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ed with the closest representative cen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7800" y="4648320"/>
            <a:ext cx="4730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4: Minimizes the within-cluster sum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uared distances from the cluster mean b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the centroid (star points), that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ing a new cluster represent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K-means clustering algorithm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29200" y="4038480"/>
            <a:ext cx="3429000" cy="2362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457200" y="1828800"/>
            <a:ext cx="3429000" cy="2361960"/>
            <a:chOff x="457200" y="1828800"/>
            <a:chExt cx="3429000" cy="2361960"/>
          </a:xfrm>
        </p:grpSpPr>
        <p:grpSp>
          <p:nvGrpSpPr>
            <p:cNvPr id="239" name=""/>
            <p:cNvGrpSpPr/>
            <p:nvPr/>
          </p:nvGrpSpPr>
          <p:grpSpPr>
            <a:xfrm>
              <a:off x="457200" y="1828800"/>
              <a:ext cx="3429000" cy="2361960"/>
              <a:chOff x="457200" y="1828800"/>
              <a:chExt cx="3429000" cy="2361960"/>
            </a:xfrm>
          </p:grpSpPr>
          <p:sp>
            <p:nvSpPr>
              <p:cNvPr id="240" name=""/>
              <p:cNvSpPr/>
              <p:nvPr/>
            </p:nvSpPr>
            <p:spPr>
              <a:xfrm>
                <a:off x="457200" y="1828800"/>
                <a:ext cx="3429000" cy="23619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157400" y="2438280"/>
                <a:ext cx="6984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506600" y="2438280"/>
                <a:ext cx="69840" cy="75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927080" y="3352680"/>
                <a:ext cx="69840" cy="7560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436760" y="2742840"/>
                <a:ext cx="69840" cy="7596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906640" y="3200040"/>
                <a:ext cx="69840" cy="7596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136600" y="3504960"/>
                <a:ext cx="70200" cy="75960"/>
              </a:xfrm>
              <a:prstGeom prst="ellipse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682640" y="2590560"/>
                <a:ext cx="69840" cy="75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556000" y="2971440"/>
                <a:ext cx="71280" cy="7596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697120" y="2742840"/>
                <a:ext cx="69840" cy="7596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066760" y="3124080"/>
                <a:ext cx="69840" cy="75600"/>
              </a:xfrm>
              <a:prstGeom prst="ellipse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766960" y="2895480"/>
                <a:ext cx="69840" cy="75600"/>
              </a:xfrm>
              <a:prstGeom prst="ellipse">
                <a:avLst/>
              </a:pr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600200" y="2514240"/>
                <a:ext cx="76320" cy="75960"/>
              </a:xfrm>
              <a:custGeom>
                <a:avLst/>
                <a:gdLst>
                  <a:gd name="textAreaLeft" fmla="*/ 17280 w 76320"/>
                  <a:gd name="textAreaRight" fmla="*/ 59040 w 76320"/>
                  <a:gd name="textAreaTop" fmla="*/ 17280 h 75960"/>
                  <a:gd name="textAreaBottom" fmla="*/ 586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19520" y="3047760"/>
                <a:ext cx="75960" cy="75960"/>
              </a:xfrm>
              <a:custGeom>
                <a:avLst/>
                <a:gdLst>
                  <a:gd name="textAreaLeft" fmla="*/ 17280 w 75960"/>
                  <a:gd name="textAreaRight" fmla="*/ 58680 w 75960"/>
                  <a:gd name="textAreaTop" fmla="*/ 17280 h 75960"/>
                  <a:gd name="textAreaBottom" fmla="*/ 586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cc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057400" y="3428640"/>
                <a:ext cx="76320" cy="75960"/>
              </a:xfrm>
              <a:custGeom>
                <a:avLst/>
                <a:gdLst>
                  <a:gd name="textAreaLeft" fmla="*/ 17280 w 76320"/>
                  <a:gd name="textAreaRight" fmla="*/ 59040 w 76320"/>
                  <a:gd name="textAreaTop" fmla="*/ 17280 h 75960"/>
                  <a:gd name="textAreaBottom" fmla="*/ 5868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104" y="13909"/>
                    </a:lnTo>
                    <a:lnTo>
                      <a:pt x="3163" y="18437"/>
                    </a:lnTo>
                    <a:lnTo>
                      <a:pt x="7557" y="18440"/>
                    </a:lnTo>
                    <a:lnTo>
                      <a:pt x="10800" y="21600"/>
                    </a:lnTo>
                    <a:lnTo>
                      <a:pt x="13909" y="18496"/>
                    </a:lnTo>
                    <a:lnTo>
                      <a:pt x="18437" y="18437"/>
                    </a:lnTo>
                    <a:lnTo>
                      <a:pt x="18440" y="14043"/>
                    </a:lnTo>
                    <a:lnTo>
                      <a:pt x="21600" y="10800"/>
                    </a:lnTo>
                    <a:lnTo>
                      <a:pt x="18496" y="7691"/>
                    </a:lnTo>
                    <a:lnTo>
                      <a:pt x="18437" y="3163"/>
                    </a:lnTo>
                    <a:lnTo>
                      <a:pt x="14043" y="3160"/>
                    </a:lnTo>
                    <a:lnTo>
                      <a:pt x="10800" y="0"/>
                    </a:lnTo>
                    <a:lnTo>
                      <a:pt x="7691" y="3104"/>
                    </a:lnTo>
                    <a:lnTo>
                      <a:pt x="3163" y="3163"/>
                    </a:lnTo>
                    <a:lnTo>
                      <a:pt x="3160" y="755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2133720" y="320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90920" y="3047760"/>
              <a:ext cx="228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1524240" y="259056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638680" y="4495680"/>
            <a:ext cx="762120" cy="6858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29400" y="4648320"/>
            <a:ext cx="6984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4320" y="4876920"/>
            <a:ext cx="761760" cy="7617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78640" y="5410080"/>
            <a:ext cx="69840" cy="763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128000" y="5181480"/>
            <a:ext cx="71280" cy="763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69120" y="4952880"/>
            <a:ext cx="69840" cy="7632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338960" y="5105520"/>
            <a:ext cx="69840" cy="759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38880" y="5257800"/>
            <a:ext cx="76320" cy="76320"/>
          </a:xfrm>
          <a:custGeom>
            <a:avLst/>
            <a:gdLst>
              <a:gd name="textAreaLeft" fmla="*/ 17280 w 76320"/>
              <a:gd name="textAreaRight" fmla="*/ 59040 w 7632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5257800"/>
            <a:ext cx="60984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99080" y="5562720"/>
            <a:ext cx="69840" cy="75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8600" y="5715000"/>
            <a:ext cx="7020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38760" y="5334120"/>
            <a:ext cx="69840" cy="75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629400" y="5562720"/>
            <a:ext cx="76320" cy="75960"/>
          </a:xfrm>
          <a:custGeom>
            <a:avLst/>
            <a:gdLst>
              <a:gd name="textAreaLeft" fmla="*/ 17280 w 76320"/>
              <a:gd name="textAreaRight" fmla="*/ 59040 w 76320"/>
              <a:gd name="textAreaTop" fmla="*/ 17280 h 75960"/>
              <a:gd name="textAreaBottom" fmla="*/ 5868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78600" y="4648320"/>
            <a:ext cx="69840" cy="759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08760" y="4952880"/>
            <a:ext cx="6984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54640" y="4800600"/>
            <a:ext cx="6984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4800600"/>
            <a:ext cx="76320" cy="76320"/>
          </a:xfrm>
          <a:custGeom>
            <a:avLst/>
            <a:gdLst>
              <a:gd name="textAreaLeft" fmla="*/ 17280 w 76320"/>
              <a:gd name="textAreaRight" fmla="*/ 59040 w 76320"/>
              <a:gd name="textAreaTop" fmla="*/ 17280 h 76320"/>
              <a:gd name="textAreaBottom" fmla="*/ 5904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040" bIns="-5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59520" y="4586400"/>
            <a:ext cx="382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step 3, 4 and 5 until no fur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occur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1280" y="1828800"/>
            <a:ext cx="420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ep 5: Repeat step 3 and 4 with a ne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rincipal component analysis (PCA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5360" y="2438280"/>
            <a:ext cx="782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 is a variable reduction procedure. It is useful w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obtained data on a large number of variables, and beli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there is some redundancy in thos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Format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8436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39680" y="1870200"/>
            <a:ext cx="8213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whole genome expression analy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ing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ierarchical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K-means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incipal component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lf organizing ma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yond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upport vecto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utomatic discovery of regulatory patterns in promoter reg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ayesian network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400800" cy="5068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971800" y="4876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49528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905120"/>
            <a:ext cx="809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tems 1-4 are collapsed into a single new variable that reflects the employees’ satisfaction with supervision, and items 5-7 are collapsed into a single new variable that reflects satisfaction with p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2120" y="3505320"/>
            <a:ext cx="857016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eneral form for the formula to compute scores on the fir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…….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the subject’s score on principal compon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regression coefficient(or weight) for observed variable 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used in creating principal compon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he subject’s score on observed variable 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380880" y="1905120"/>
            <a:ext cx="830592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you could determine each subject’s score on principal component 1 (satisfaction with supervision) and principal component 2 (satisfaction with pa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.44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40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47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32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.02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1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3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.01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4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2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02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.48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31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.39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0800" y="5257800"/>
            <a:ext cx="79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eights can be calculated using special type of eq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d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igeneq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292" name="cellcycle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514600" cy="2252520"/>
          </a:xfrm>
          <a:prstGeom prst="rect">
            <a:avLst/>
          </a:prstGeom>
          <a:ln w="0">
            <a:noFill/>
          </a:ln>
        </p:spPr>
      </p:pic>
      <p:pic>
        <p:nvPicPr>
          <p:cNvPr id="293" name="aigenarray" descr=""/>
          <p:cNvPicPr/>
          <p:nvPr/>
        </p:nvPicPr>
        <p:blipFill>
          <a:blip r:embed="rId2"/>
          <a:stretch/>
        </p:blipFill>
        <p:spPr>
          <a:xfrm>
            <a:off x="3657600" y="2286000"/>
            <a:ext cx="2065320" cy="3352680"/>
          </a:xfrm>
          <a:prstGeom prst="rect">
            <a:avLst/>
          </a:prstGeom>
          <a:ln w="0">
            <a:noFill/>
          </a:ln>
        </p:spPr>
      </p:pic>
      <p:pic>
        <p:nvPicPr>
          <p:cNvPr id="294" name="aigenarray1" descr=""/>
          <p:cNvPicPr/>
          <p:nvPr/>
        </p:nvPicPr>
        <p:blipFill>
          <a:blip r:embed="rId3"/>
          <a:stretch/>
        </p:blipFill>
        <p:spPr>
          <a:xfrm>
            <a:off x="5867280" y="2362320"/>
            <a:ext cx="1754280" cy="32763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835920" y="1600200"/>
            <a:ext cx="60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t al., P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00, 97(18) 10101-101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PCA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297" name="eigengene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3915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elf organizing maps (SOM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62120" y="1828800"/>
            <a:ext cx="784836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 data visualization technique invented by Professor Teuvo Kohonen which reduce the dimensions of data through the use of self-organizing neural networ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 method for producing ordered low-dimensional representations of an input data 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ypically such input data is complex and high-dimensional with data elements being related to each other in a nonlinear fash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01" name="neuron" descr=""/>
          <p:cNvPicPr/>
          <p:nvPr/>
        </p:nvPicPr>
        <p:blipFill>
          <a:blip r:embed="rId1"/>
          <a:stretch/>
        </p:blipFill>
        <p:spPr>
          <a:xfrm>
            <a:off x="1066680" y="2438280"/>
            <a:ext cx="1967040" cy="3124440"/>
          </a:xfrm>
          <a:prstGeom prst="rect">
            <a:avLst/>
          </a:prstGeom>
          <a:ln w="0">
            <a:noFill/>
          </a:ln>
        </p:spPr>
      </p:pic>
      <p:pic>
        <p:nvPicPr>
          <p:cNvPr id="302" name="neuron2" descr=""/>
          <p:cNvPicPr/>
          <p:nvPr/>
        </p:nvPicPr>
        <p:blipFill>
          <a:blip r:embed="rId2"/>
          <a:stretch/>
        </p:blipFill>
        <p:spPr>
          <a:xfrm>
            <a:off x="3886200" y="2362320"/>
            <a:ext cx="38098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04" name="neuron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3200400" cy="19130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33520" y="3733920"/>
            <a:ext cx="8305560" cy="24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erebral cortex of the brain is arranged as a two-dimensional plane of neurons and spatial mappings are used to model complex data struc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opological relationships in external stimuli are preserved and complex multi-dimensional data can be represented in a lower (usually two) dimensional spa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286000"/>
            <a:ext cx="586728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One chooses a geometry of "nodes"for example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× 2 gri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nodes are mapp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mensional space, initiall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random, and then iteratively adjus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ach iterati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olves randomly selecting a data point P and moving the node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direction of 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7320" y="1523880"/>
            <a:ext cx="54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amay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, 1999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N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6:2907-29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som1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23623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52680" y="2133720"/>
            <a:ext cx="5257800" cy="36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closest node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moved the most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as other nodes are moved by smaller amounts depending 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distance from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initial geomet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 this fashion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ing points in the initial geometry tend to be mapped t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by 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dimensional space. The process continues f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,000-50,000 it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som1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236232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What  is whole genome expression analysis?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7" name="central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4079880" cy="4876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100480" y="2057400"/>
            <a:ext cx="407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enger RNA is only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of gen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OM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14" name="som2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5410080" cy="47228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715000" y="1676520"/>
            <a:ext cx="3048120" cy="24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st Cell Cycle S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828 genes that passed the variation filter were grouped into 30 cluste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Beyond cluster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upport vector machines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3657600" cy="24955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135080" y="4495680"/>
            <a:ext cx="672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for classification of genes according to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hoose positive and negative examples (lable +/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Transform input space to featur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Construct maximum margin hyper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Classify new genes as members /non-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upport vector machines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274320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Using the class definitions made by the MIPS yeast genome database, SVMs were trained to recognize six functional classes: tricarboxylic acid (TCA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e, respiration, cytoplasmic ribosomes, proteasome, histones,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lix-turn-helix protei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4720" y="1565280"/>
            <a:ext cx="54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rown et al., 2000 PNAS 97(1), 262-26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Support vector machines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1828800"/>
            <a:ext cx="87631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 of predicted functional classifications for previously unannotated genes by the SV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en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cu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ents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C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HR188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erved in worm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chizosaccharomyces pom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hum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KL039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TM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jor transport facilitator family; likely integral membrane protein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KR016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highly conserved, possible homolog i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om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KR046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nvincing homolog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b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KL056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molog of translationally controlled tumor protein, abundant, finger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NL053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SG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in-tyrosine phosphatase, bypasses growth arrest by mating fact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DR330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biquitin regulatory domain protei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. pomb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homolo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JL036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ber of sorting nexin famil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DL053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nvincing homolog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LR387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ee C2H2 zinc fingers, similar YBR267W not coregul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Automatic discovery of regulatory patterns in promoter region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752840" y="2590920"/>
            <a:ext cx="5676480" cy="1676160"/>
            <a:chOff x="1752840" y="2590920"/>
            <a:chExt cx="5676480" cy="1676160"/>
          </a:xfrm>
        </p:grpSpPr>
        <p:sp>
          <p:nvSpPr>
            <p:cNvPr id="328" name=""/>
            <p:cNvSpPr/>
            <p:nvPr/>
          </p:nvSpPr>
          <p:spPr>
            <a:xfrm>
              <a:off x="1996920" y="3276720"/>
              <a:ext cx="41148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68320" y="2590920"/>
              <a:ext cx="566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ll 6269 ORFs : up and downstream 200 bp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39920" y="3276720"/>
              <a:ext cx="175284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25520" y="3276720"/>
              <a:ext cx="609840" cy="1522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73640" y="3276720"/>
              <a:ext cx="609480" cy="1522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96920" y="4114800"/>
              <a:ext cx="4114800" cy="1522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52840" y="3622680"/>
              <a:ext cx="400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97 ORFs : upstream 500 bp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73440" y="4114800"/>
              <a:ext cx="1752480" cy="1522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54120" y="4114800"/>
              <a:ext cx="1219320" cy="152280"/>
            </a:xfrm>
            <a:prstGeom prst="rect">
              <a:avLst/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298160" y="213372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G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366200" y="4724280"/>
            <a:ext cx="700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A chip : 91 data sets. These data sets consists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 bp upstream regions and the red-green rat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86760" y="1676520"/>
            <a:ext cx="68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Juhl and Knudsen, 2000 Bioinformatics, 16:326-3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Automatic discovery of regulatory patterns in promoter region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99400" y="2362320"/>
            <a:ext cx="749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quence patterns correlated to whole cell express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by Kolmogorov-Smirnov t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65280" y="3733920"/>
            <a:ext cx="802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gulatory elements were identified by systematic calculations of the significance of correlation between words found in functional annotation of genes and DNA words occuring in their promoter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Bayesian networks analysis</a:t>
            </a: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79440" y="18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6040" y="2819520"/>
            <a:ext cx="847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Graph-based model of joint multi-variate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model can captures properties of conditional independ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ween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an describe complex stochastic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ovide clear methodologies for learning from (noisy) obser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5160" y="1752480"/>
            <a:ext cx="616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riedman et al. 2000 J. Comp. Biol., 7:601-6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Bayesian networks analysis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25095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2590920" y="4724280"/>
            <a:ext cx="350496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Bayesian networks analysis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45241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4634640" y="2133720"/>
            <a:ext cx="451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6 gene expression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6177 yeast ORF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800 genes whose expre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d over cell-cycle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sel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Learned networks whos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the expression level of 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se 800 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What  is whole genome expression analysis?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0" name="hybrid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4286160" cy="4876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851440" y="2174760"/>
            <a:ext cx="29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measure mR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99280" y="209880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46760" y="2743200"/>
            <a:ext cx="78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dkfz-heidelberg.de/abt0840/whuber/mamovi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What  is whole genome expression analysis?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3" name="northen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18259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2286000" y="1981080"/>
            <a:ext cx="3429000" cy="4399200"/>
            <a:chOff x="2286000" y="1981080"/>
            <a:chExt cx="3429000" cy="4399200"/>
          </a:xfrm>
        </p:grpSpPr>
        <p:pic>
          <p:nvPicPr>
            <p:cNvPr id="55" name="nilon" descr=""/>
            <p:cNvPicPr/>
            <p:nvPr/>
          </p:nvPicPr>
          <p:blipFill>
            <a:blip r:embed="rId2"/>
            <a:stretch/>
          </p:blipFill>
          <p:spPr>
            <a:xfrm>
              <a:off x="2590920" y="4191120"/>
              <a:ext cx="3124080" cy="21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nilon2" descr=""/>
            <p:cNvPicPr/>
            <p:nvPr/>
          </p:nvPicPr>
          <p:blipFill>
            <a:blip r:embed="rId3"/>
            <a:stretch/>
          </p:blipFill>
          <p:spPr>
            <a:xfrm>
              <a:off x="2590920" y="1981080"/>
              <a:ext cx="3047760" cy="21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286000" y="388620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5715000" y="2590920"/>
            <a:ext cx="3076560" cy="2657520"/>
            <a:chOff x="5715000" y="2590920"/>
            <a:chExt cx="3076560" cy="2657520"/>
          </a:xfrm>
        </p:grpSpPr>
        <p:pic>
          <p:nvPicPr>
            <p:cNvPr id="59" name="" descr=""/>
            <p:cNvPicPr/>
            <p:nvPr/>
          </p:nvPicPr>
          <p:blipFill>
            <a:blip r:embed="rId4"/>
            <a:stretch/>
          </p:blipFill>
          <p:spPr>
            <a:xfrm>
              <a:off x="6095880" y="2590920"/>
              <a:ext cx="269568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715000" y="3809880"/>
              <a:ext cx="228600" cy="304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ustering algorith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ierarchical clustering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38080" y="4038480"/>
            <a:ext cx="7524720" cy="2511720"/>
            <a:chOff x="838080" y="4038480"/>
            <a:chExt cx="7524720" cy="2511720"/>
          </a:xfrm>
        </p:grpSpPr>
        <p:sp>
          <p:nvSpPr>
            <p:cNvPr id="65" name=""/>
            <p:cNvSpPr/>
            <p:nvPr/>
          </p:nvSpPr>
          <p:spPr>
            <a:xfrm>
              <a:off x="838080" y="4191120"/>
              <a:ext cx="3461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ep 2: Cluster genes based on distance matrix and draw a dendrogram until single node remai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5029200" y="4038480"/>
              <a:ext cx="3333600" cy="251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753840" y="1828800"/>
            <a:ext cx="6531120" cy="1736640"/>
            <a:chOff x="753840" y="1828800"/>
            <a:chExt cx="6531120" cy="1736640"/>
          </a:xfrm>
        </p:grpSpPr>
        <p:sp>
          <p:nvSpPr>
            <p:cNvPr id="68" name=""/>
            <p:cNvSpPr/>
            <p:nvPr/>
          </p:nvSpPr>
          <p:spPr>
            <a:xfrm>
              <a:off x="753840" y="1828800"/>
              <a:ext cx="6398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tep 1: Transform genes * experiments matrix in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enes * genes distance matri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9" name=""/>
            <p:cNvGraphicFramePr/>
            <p:nvPr/>
          </p:nvGraphicFramePr>
          <p:xfrm>
            <a:off x="990720" y="2895480"/>
            <a:ext cx="3122640" cy="66996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90720" y="2895480"/>
                      <a:ext cx="3122640" cy="66996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71" name=""/>
            <p:cNvSpPr/>
            <p:nvPr/>
          </p:nvSpPr>
          <p:spPr>
            <a:xfrm>
              <a:off x="4419720" y="3124080"/>
              <a:ext cx="228600" cy="152640"/>
            </a:xfrm>
            <a:prstGeom prst="rightArrow">
              <a:avLst>
                <a:gd name="adj1" fmla="val 50000"/>
                <a:gd name="adj2" fmla="val 3744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2" name=""/>
            <p:cNvGraphicFramePr/>
            <p:nvPr/>
          </p:nvGraphicFramePr>
          <p:xfrm>
            <a:off x="4797360" y="2892600"/>
            <a:ext cx="2487600" cy="66960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797360" y="2892600"/>
                      <a:ext cx="2487600" cy="66960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ierarchical clustering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9760" y="1600200"/>
            <a:ext cx="766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form the genes*exp matrix into genes*genes matrix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gene similarity metr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isen et al. 1998 PNAS 95:14863-1486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etics1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5257800" cy="638280"/>
          </a:xfrm>
          <a:prstGeom prst="rect">
            <a:avLst/>
          </a:prstGeom>
          <a:ln w="0">
            <a:noFill/>
          </a:ln>
        </p:spPr>
      </p:pic>
      <p:pic>
        <p:nvPicPr>
          <p:cNvPr id="77" name="metrics2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2895840" cy="757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09480" y="4876920"/>
            <a:ext cx="8016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qual the (log-transformed) primary data fo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condi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For any two gen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served ov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s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offset</a:t>
            </a:r>
            <a:r>
              <a:rPr b="0" lang="en-US" sz="24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et to 0, corresponding to fluorescence ratio of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304812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0" y="2743200"/>
            <a:ext cx="279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ly same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arsons corre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under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96080" y="3886200"/>
            <a:ext cx="990720" cy="1905120"/>
          </a:xfrm>
          <a:custGeom>
            <a:avLst/>
            <a:gdLst/>
            <a:ahLst/>
            <a:rect l="l" t="t" r="r" b="b"/>
            <a:pathLst>
              <a:path w="944" h="1200">
                <a:moveTo>
                  <a:pt x="0" y="0"/>
                </a:moveTo>
                <a:cubicBezTo>
                  <a:pt x="344" y="92"/>
                  <a:pt x="688" y="184"/>
                  <a:pt x="816" y="384"/>
                </a:cubicBezTo>
                <a:cubicBezTo>
                  <a:pt x="944" y="584"/>
                  <a:pt x="856" y="892"/>
                  <a:pt x="768" y="12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00"/>
                </a:solidFill>
                <a:latin typeface="Times New Roman"/>
              </a:rPr>
              <a:t>Hierarchical clustering (continued)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3" name="pearson1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047760" cy="1842840"/>
          </a:xfrm>
          <a:prstGeom prst="rect">
            <a:avLst/>
          </a:prstGeom>
          <a:ln w="0">
            <a:noFill/>
          </a:ln>
        </p:spPr>
      </p:pic>
      <p:pic>
        <p:nvPicPr>
          <p:cNvPr id="84" name="pearson2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3200400" cy="1879560"/>
          </a:xfrm>
          <a:prstGeom prst="rect">
            <a:avLst/>
          </a:prstGeom>
          <a:ln w="0">
            <a:noFill/>
          </a:ln>
        </p:spPr>
      </p:pic>
      <p:pic>
        <p:nvPicPr>
          <p:cNvPr id="85" name="pearson3" descr=""/>
          <p:cNvPicPr/>
          <p:nvPr/>
        </p:nvPicPr>
        <p:blipFill>
          <a:blip r:embed="rId3"/>
          <a:stretch/>
        </p:blipFill>
        <p:spPr>
          <a:xfrm>
            <a:off x="1066680" y="4419720"/>
            <a:ext cx="2819520" cy="2058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183200" y="4800600"/>
            <a:ext cx="44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f genome expression is clust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d on negative correlation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800" y="1676520"/>
            <a:ext cx="37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arsons correlation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7T03:34:04Z</dcterms:created>
  <dc:creator>Marlene G. Emara</dc:creator>
  <dc:description/>
  <dc:language>en-US</dc:language>
  <cp:lastModifiedBy>Marlene G. Emara</cp:lastModifiedBy>
  <dcterms:modified xsi:type="dcterms:W3CDTF">2002-05-02T15:26:29Z</dcterms:modified>
  <cp:revision>17</cp:revision>
  <dc:subject/>
  <dc:title>Microarray analysis II Whole-genome expression analysis</dc:title>
</cp:coreProperties>
</file>