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C81F-90B0-4057-8856-A040F06CB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0304-C5DF-418C-B338-8AEF8AB4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71EF-4DB3-4968-9A24-A844BB549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C0C0-D2B5-437A-A2B0-48C6E8AA0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AA37-C20D-44C9-835F-9D519DFB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5F94-2899-4C44-979D-AF8EF9EB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9FA5-2F83-45DA-B6FA-D75B29D0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135D-FC77-4F4D-BFB4-88515210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54B1-D5BE-44F2-B287-86BC4DCB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93EF-108D-4E02-A13A-83779F3E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0148-70B2-4053-872B-70BE33B9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E1B6-35EF-4404-BAB7-0CCF7642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310F-BB38-47AC-984B-2F839F46A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 Introduction To Multiple Sequence Alignment (M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680" y="51811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sente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nald R. William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ISC 889  Bioinformatics   March 7,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me Problems with the SP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ider column  1  of our example ie  A,A,A,C  for this colu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 get  SP(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 =  SP(A,A,A,C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 1 + 1 + (-1) + 1 + (-1) + (-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as if we had  A,A,A,A we get a scor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(A,A,A,A)  =  1+1+1+1+1+1  =  6  ,  thus we get a differenc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 for what could be explained by a single mut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P method tends to overweight the influence of mu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 implied earlier and will see shortly the major problem with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 method is that finding the optimal MSA is 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um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alysis of the SP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 before we assume that we have   N  sequence each of length   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ider the case where  N = L = 2 , such 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1 = AT , S2 = CG  ,  then we have the following possible matr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we assume no column can contain all ga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 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A -  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A T -    A T -    A -  T    A T -  -     - A T    - A T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  G     C G -    C - G    -  C G   -  C G    -  - C G   C G -    C -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  - A T          =  (2 + 1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atr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 G -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alysis of  SP  -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general for a  MSA of  N  sequences each of length  L,  with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umption that no column can contain all gaps, there 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L + 1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N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ssible  MSA  matr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  was done in pairwise alignment we can assume that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quences are perfectly aligned up to the last column.  Thus 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ly need to consider the last column to differentiate betwe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SA matr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each sequence there are  2  possible (a letter or a gap) in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st character position, since we do not allow a column with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aps,  there are 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  1  possible matri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alysis of  SP -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 also use the reasonable assumption that it takes  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time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ute a SP column score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us the time complexity for finding the optimal MSA using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 method will be of the order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L + 1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 1)(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 ,  which for large  N, L  we may write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L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  =  O[(2L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Space complexity we get  O(L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early, for most real cases involving long sequences  and/or 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 number of sequences, the SP method is too time consu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ead most MSA packages use heuristics based on pai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ignment to find non-optimal  MSA’a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TAR Alignment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ing a pairwise alignment method (DP,etc) find the sequence 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 most similar to all the other seque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ing this “best”  sequence as the center (of a star, hence the nam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ign the other sequences  following the once a gap always a 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ule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example consider the following set of sequ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T T G C C A T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T G G C C A T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T C C A A  T T T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T C T T C T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C T G A C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R Alignment -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w Consider the following similarity matrix for the pai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ring of the seque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SUM sim(Si, Sj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/=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            7             -2            0            -3                    2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2     7             -              -2           0            -4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3      -2          -2             -             0            -7                    -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4      0             0              0           -             -3                    -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5      -3          -4             -7          -3             -                     -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 this example S1 is the center of the STA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R Alignment -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xt we get the best alignment between S1 and the other sequences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1 |  A T T G C C A T 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1 |  A T T G C C A T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2 |  A T G G C C A T T           S5 |  A C T G A C C  -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1 |  A T T G C C A T T  -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3 |  A T C  -  C A A T T T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1 |  A T T G C C A T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4 |  A T C T T C  -  T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R Alignment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xt to build the MSA we start with  S1 &amp; S2 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T T G C C A T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T G G C C A T T   adding S3 using once a gap always a 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T T G C C A T T   -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T G G C C A T T  -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 T C   -  C A A T T T T   continuing in this fashion we obt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our  MSA of all the sequ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r Alignment 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T T G C C A T T  -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T G G C C A T T  -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T C  -  C A A T T T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T C T T C  -   T T -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C T G A C C  -  -  -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early, using the STAR method the time complexity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minated by computing the pairwise alignment which again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  sequences we have  O(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 pairs. We consider each pai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ignment to take  L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time where again L is the length of 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qu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R Alignment -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us the time complexity for computing all pairwise align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ll be  O[(NL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 still have to consider the time it takes to merge the sequences into a MSA . If  Lmax  is the upper bound of the alignment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n it will take  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max) time to merge the sequences into a M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us the time complexity for STAR is  O( 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+  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max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early for large  N, L  this is less than the time complexity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 which is  O[ (2L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all   SP is optimal whereas STAR is not, thus there is a trade-off between optimization and practicality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pics To Be Discu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tivation for M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s M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tension of Dynamic Programming and the Carrillo-Lip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um of Pairs (SP) 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TAR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progressive method - CLUSTAL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ing the CLUSTALW Method on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cal M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SA by a Genetic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cluding Remarks  and  Q&amp;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R Alignment -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practice neither the SP nor the STAR method are used mu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ead a method related to the STAR method ca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USTALW  is  usually u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CLUSTALW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USTALW is a progressive method for M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term “progressive” is used because CLUSTALW sta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th using a pairwise method to determine the most re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quences and then progressively adding less related sequences or groups of sequences to the initial align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USTAL  comes in 3 ver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USTAL - gives equal weight to all sequ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USTALW - has the ability to give different weights to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quences and other program parameters(we will see how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examp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USTALX  -  provides a GUI to CLUS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CLUSTALW Algorith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p 1 : Determine all pairwise alignment between sequences and determine degrees of similarity between each pa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p 2 : Construct a similarity tree *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p 3 : Combine the alignments starting from the most clos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ated groups to the most distantly related groups, as in 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 use the once a gap always a gap rule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 The PILEUP program is similar to CLUSTALW but use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fferent method for producing the similarity tree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USTALW - 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a pairwise alignment (implementation dependent) method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ute pairwise alignment amongst the seque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ing the pairwise  alignments compute a  “distance” between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irs of sequences.  A  method commonly used is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each pairwise alignment look at the non-gapped pos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count the number of mismatches between the tw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quences , then divide this value by the number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-gapped pairs to calculate the distance,  for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 K L  -  O N        distance  =  1/4  =  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 M L  N O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USTALW Step 1 continu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fter computing the “distance” between all pairs of sequences 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t them in to a matrix .  For example if we consider a set of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quences we could have the following matrix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q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1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5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6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               (SYMMETR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5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5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1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7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7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7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7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8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8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7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7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8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8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8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8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8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9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9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USTALW  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truct a similarity tree.  The CLUSTALW package use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ilarity matrix (above) and a technique called the Neighb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oining method to construct the similarity tree. The details of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ighbor Joining method are discussed in chapter 6 (Phylogentic Prediction) of our text and will not be given he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the similarity matrix given above we could construct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llowing similarity t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USTALW  Step 2  The Similarity 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.081  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2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084  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.01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055   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.2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065    S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.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39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S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.06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.389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OT                     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442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ease forgive this bad bad tre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USTAL Step 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bine the alignments starting from the most closely re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oups to the most distantly related groups by going from tip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ee to the root of the t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our example we first align S1 with S2 (grp1) then S3 with S4(grp2)  , then align grp1 with grp2, we continue until we r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ot of the t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align groups of sequences we build a similarity matrix using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mewhat complicated technique that considers the average of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pairwise scores from the groups we want to align.  We than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P on this matrix to get an alignment between the two grou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USTALW  Step  3 continu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assign a weight to a sequence we do the follow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  use the values on our similarity tree from the sequence to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ot of the t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two or more sequences share a branch, which may indicate 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volutionary relationship, its value is split amongst the seque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reduces the weight for related seque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our example  S7 would be given a weight of  .442 whereas  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ight would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t(S3) = .055 + .216/2 + .016/4 + .015/5 +.062/6   =  .1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194 would be used to adjust the value of   S3 on the t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concludes our discussion of the CLUSTALW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ing the CLUSTALW S/W  on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URL I used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searchlauncher.bcm.tmc.edu/multi-align/multi-align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tivation For M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natural extension of Pairwise Sequence Al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SA gives Biologist the ability to extract biologically impor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perhaps widely dispersed sequence similarities that can g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ologist hints about the evolutionary history of certain seque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pairwise alignment, when two sequences align, it is conclu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at there is probably a functional relationship between the t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quences.  Whereas for MSA, if it is known that there i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unctional similarity amongst a number of sequences, we can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SA to find out where the similarity comes fr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cluding Top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file Analysis -  A portion of a MSA that is highly conserved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entified and a type of scoring matrix called a Profile is produc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Profile can be used to align these conserved portions( local alignment) to other seque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no gaps are allowed in the conserved regions, then we hav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ilar procedure called  Block  Analy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r final topic in our discussion of MSA is the use of a Genetic Algorithm in MSA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Genetic Algorithm as Applied to M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e a  N x L  bit matrix of which elements are strictly  0 or 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sequence including gaps is represented as a bit string wh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ist of  0’s  and  1’s  .  In this bit string  1 corresponds to a 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th the total number of 0’s being exactly the length of a sequ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wo parent bit matrices for the first population are prepared in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ndom way, ie each element in the original parents bit matrix 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ndomly determined to be 0 or  1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next generation is generated by applying the tree gen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erations of reproduction, crossover(ie via a virus) and mu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se operations are carried out repeatedly  to obtain a nea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timal MSA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etic Algorithm -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one study the alignment results using a G.A.  Package ca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GE (Sequence Alignment by Genetic Algorithm) were compared to those obtained by CLUSTALW and for short pro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quences the SAGE package scored better than CLUSTAL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concludes our discussion of MSA 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 &amp;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s  M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SA is the alignment of   N  sequences (Protein/Nucleot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ultaneously,  where  N &gt; 2 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t 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denote a sequence than the Global Multiple Sequ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ignment of  N &gt; 2  sequences  S  =  {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, …,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}  is obta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 inserting gaps denoted by  “  - “  at any possibly the begi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 end, pos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new set of  N  sequences denoted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’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 {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, …,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}  will all have length 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tension of Dynamic Programming(DP) and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rillo-Lipman B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all in the pairwise DP method it was stated that the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th was usually within a small area around the diagonal in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quence vs sequence matrix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we extent this ideal to MSA we have a multidimen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gure(hypercube) instead of a plane  (N x N) figure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Carrillo-Lipman Bound is a procedure to provide a b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the form of a polyhedron around the diagonal in the hyperc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bounds the search space for finding the MSA of a set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que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um of Pair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 in the pairwise case, not all MSA’s are equally go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 need a method of scoring for determining when one MSA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tter than another 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um of Pairs (SP) method is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iven (1) a set of N aligned sequences each of length L in the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 a  L x  N  MSA  alignment matrix  M and  (2)  a substit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trix (PAM or BLOSUM) that gives a  cost  c(x,y)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igning two characters  x, y 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P score  SP(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 for the ith column of  M  denoted by 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culated using the formul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(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 =  SU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(I =&lt; j &lt; k =&lt;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[ c( 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j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m of Pairs 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  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j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s the jth  entry in the  ith  colu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n the SP score for  M  is  SU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(1 =&lt;  I =&lt; L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[SP(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]  ie the 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ore for the MSA matrix  M  is calculated by first adding up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ssible pairwise alignment scores for the ith column and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mming up the scores for all the columns in  M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 Example of Using the SP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ider aligning the following 4 portein sequ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1 = AQPILL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2 =  ALR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3 =  AKIL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4 =  CPPVLI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xt consider the following MSA  matrix 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Q P I L L L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L R - L L  - 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K  -  I L L L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 P  P V L I L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 Example -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ume  c(match)  = 1 ,  c(mismatch)  =  -1 , and  c(gap) = -2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so assume  c(-, -)  =  0  to prevent the double counting of ga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n the SP score for the  4th  column of  M  would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(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 =  SP(I, -, I, 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 c(I,-) + c(I,I) + c(I,V) + c(-,I) + c(-, V) + c(I,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 -2 + 1 + (-1) + (-2) + (-2) +(-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 -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find SP(M) we would find the score of each  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nd then 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 the  SP(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 scores to get the score  M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find the optimal score using this method we need to consi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 possible MSA matrices. We say more about this la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6T13:51:29Z</dcterms:created>
  <dc:creator>User Services</dc:creator>
  <dc:description/>
  <dc:language>en-US</dc:language>
  <cp:lastModifiedBy>User Services</cp:lastModifiedBy>
  <dcterms:modified xsi:type="dcterms:W3CDTF">2002-03-06T19:21:27Z</dcterms:modified>
  <cp:revision>32</cp:revision>
  <dc:subject/>
  <dc:title>An Introduction To Multiple Sequence Alignment (MSA)</dc:title>
</cp:coreProperties>
</file>