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665-7DC3-4408-BF9A-473A489DF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694-E8A5-4779-A4F4-EE740B23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241-2C40-4A82-8DC0-AD8F69DD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368-8B73-488D-9DE0-6646053D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8365-B153-453A-AFDB-91C30E25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730D-38B8-4208-886D-FBBA9038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ACDA-EF2D-464B-B725-2ABA303F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467D-3ADD-478B-9ABD-157E65FB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1799-7AA4-403E-BCBB-9EA9FEC5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75438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91DD-1398-4226-B6A1-679859FA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E695-8A23-4D16-978F-43D604F3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CD1-D19B-4A33-BB66-4ED13599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7535-6BA2-49D6-B840-245BC609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7738-C79E-4129-90C9-40D03321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05A3-6753-4E21-8CD2-72C2A065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DC49-C588-484A-A2A9-E85AFCEC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65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65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80FC-ECEF-459E-BFC0-C0C37FE3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6EC-8BDB-4E07-AC22-41D277D7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E61-ABFB-4DD6-9462-ED960060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CD2-1340-4DA5-A2C7-E083C436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754380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203-78BC-4980-B2C6-D9A05F70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BB4-A519-429B-A5BE-CEED2818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54B-AB9E-49D4-B885-F61075C7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E7A-7F99-4193-92C9-F71A145A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E2FD-DCC1-46C4-A9C2-4AC05BB08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28080" y="0"/>
            <a:ext cx="1015920" cy="1003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854680"/>
            <a:ext cx="1015920" cy="1003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90720" y="1295280"/>
            <a:ext cx="61722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90720" y="1447920"/>
            <a:ext cx="60958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5C7A-97E7-406B-BFAF-24B38A249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28080" y="0"/>
            <a:ext cx="1015920" cy="100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854680"/>
            <a:ext cx="1015920" cy="1003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43000" y="2362320"/>
            <a:ext cx="61722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514600"/>
            <a:ext cx="60958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io.davidson.edu/courses/genomics/chip/chip.html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classify.stanford.edu/" TargetMode="External"/><Relationship Id="rId2" Type="http://schemas.openxmlformats.org/officeDocument/2006/relationships/hyperlink" Target="http://classify.stanford.edu/" TargetMode="External"/><Relationship Id="rId3" Type="http://schemas.openxmlformats.org/officeDocument/2006/relationships/hyperlink" Target="http://classify.stanford.edu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ene-chips.com/" TargetMode="External"/><Relationship Id="rId2" Type="http://schemas.openxmlformats.org/officeDocument/2006/relationships/hyperlink" Target="http://www.cs.wustl.edu/~jbuhler/research/array/" TargetMode="External"/><Relationship Id="rId3" Type="http://schemas.openxmlformats.org/officeDocument/2006/relationships/hyperlink" Target="http://www.ncbi.nlm.nih.gov/geo" TargetMode="External"/><Relationship Id="rId4" Type="http://schemas.openxmlformats.org/officeDocument/2006/relationships/hyperlink" Target="http://www.affymetrix.com/" TargetMode="External"/><Relationship Id="rId5" Type="http://schemas.openxmlformats.org/officeDocument/2006/relationships/hyperlink" Target="http://www.microarray.org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 Analysi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shida Dav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C 889: Bioinfor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30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general types that are pop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potted Arrays (Pat Brown, Stanford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Oligonucleotide Arrays (Affymetrix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based on the same basic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nchoring pieces of DNA to glass/nylon slide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omplementary hybridization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5998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Control Cells (left) and Target Cells (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Harvesting mRNA from both cel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agging the mRNA with green and red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Applying the mRNA to the cDNA micro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Reading the result using a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A false-color composite representing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34000" y="1600200"/>
            <a:ext cx="441000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4200" y="380880"/>
            <a:ext cx="355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potted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3044880" cy="4952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962520" y="1143000"/>
            <a:ext cx="3935160" cy="382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00200" y="30492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3808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Microarray An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Oligonucleotide Array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C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nstead of putting entire genes on array, put sets of DNA 25-mers (synthesized oligonucleotides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roduced using a 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photolithography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process similar to the ones used to make semiconductor chip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mRNA samples are processed separately instead of in pair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6629400" cy="3867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67280" y="4114800"/>
            <a:ext cx="2314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038480" y="1523520"/>
            <a:ext cx="510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1. Internal cellular physiology from different cell lines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2. Diverse physiological conditions in an intact organism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3. Pathological tissues specimens from patients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4. Serial time points following a stimulus to a cell or organism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ro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ist of measurements along each row or colum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ea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individual expression measurements with in each pro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Data Analysi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Unsuperv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 learn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Grouping gene or cases by clustering expression profiles (raw microarray data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Used for exploratory task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upervi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chine learn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omparing genes or cases to know profiles using pattern recognition (using external information that provides labels for microarray data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Used to address more direct question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Ge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ich genes are regulated together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ich treatments/individuals have similar profiles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ying Ge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ich functional class does a particular gene fall into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ying S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ich class does a given sample belong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at can be learnt about a cell from the set of all mRNA expressed in a cell? Classifying diseases: Does a patient have ALL or AML (classes of Leukemia)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ustering Method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ance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atistical correlation coefficient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Euclidean Distance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-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 Organizing Maps (SO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zzy c-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zzy S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Hierarchical Cluster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5181480"/>
            <a:ext cx="30456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5181480"/>
            <a:ext cx="30456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181480"/>
            <a:ext cx="30456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181480"/>
            <a:ext cx="30456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5181480"/>
            <a:ext cx="304920" cy="30492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382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2004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8098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1814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43600" y="4419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553080" y="411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62920" y="41144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696080" y="37335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8580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8769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1337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5053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410080" y="3048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23888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819520" y="22856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3080" y="5592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6600" y="2087640"/>
            <a:ext cx="17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71600" y="2895480"/>
            <a:ext cx="0" cy="23623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array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 and Potential Imp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tted and Oligonucleotid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pervised and Supervised Learn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Hierarchical Clustering (2)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t of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more than one subtree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ick the most similar pair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efine a new subtree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joining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move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and insert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K-means Cluster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lue for k is selected up front; # of expected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divides the data into k many clusters in such a way that the profiles within each cluster are more similar than those across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assification Method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-nearest Neighb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al Net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Vector Machine (SV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Discriminate Analysis (L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ic Discriminate Analysis (S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zen 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upport Vector Machin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clustering genes to see what groupings em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se models to match genes to predefined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VM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960200"/>
            <a:ext cx="38102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genes in exampl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 in an n-dimensional spac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n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ri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10440" y="2819520"/>
            <a:ext cx="3871440" cy="3514320"/>
            <a:chOff x="4510440" y="2819520"/>
            <a:chExt cx="3871440" cy="3514320"/>
          </a:xfrm>
        </p:grpSpPr>
        <p:sp>
          <p:nvSpPr>
            <p:cNvPr id="179" name=""/>
            <p:cNvSpPr/>
            <p:nvPr/>
          </p:nvSpPr>
          <p:spPr>
            <a:xfrm>
              <a:off x="5943600" y="5965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ri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920" y="2819520"/>
              <a:ext cx="350496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6400" y="3352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29400" y="3352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19920" y="38858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1680" y="3962160"/>
              <a:ext cx="15264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4480" y="3504960"/>
              <a:ext cx="15264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3600" y="4495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0" y="4800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62920" y="441936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29400" y="52574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53080" y="4876560"/>
              <a:ext cx="15264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91520" y="518148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48720" y="335268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48720" y="396216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36600">
              <a:off x="3990600" y="422532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ri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VM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960200"/>
            <a:ext cx="381024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in SVMs involves finding a hyperplane (decision surface) that separates the examples of one class from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10440" y="2819520"/>
            <a:ext cx="3871440" cy="3514320"/>
            <a:chOff x="4510440" y="2819520"/>
            <a:chExt cx="3871440" cy="3514320"/>
          </a:xfrm>
        </p:grpSpPr>
        <p:sp>
          <p:nvSpPr>
            <p:cNvPr id="198" name=""/>
            <p:cNvSpPr/>
            <p:nvPr/>
          </p:nvSpPr>
          <p:spPr>
            <a:xfrm>
              <a:off x="5943600" y="596556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ri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2819520"/>
              <a:ext cx="3504960" cy="31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3352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29400" y="3352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9920" y="38858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81680" y="3962160"/>
              <a:ext cx="15264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24480" y="3504960"/>
              <a:ext cx="15264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600" y="4495680"/>
              <a:ext cx="152280" cy="1519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58000" y="4800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920" y="441936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29400" y="52574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53080" y="4876560"/>
              <a:ext cx="15264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391520" y="518148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48720" y="335268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48720" y="3962160"/>
              <a:ext cx="152280" cy="151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36600">
              <a:off x="3990600" y="422532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peri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488480" y="2819520"/>
            <a:ext cx="3893400" cy="3502080"/>
            <a:chOff x="4488480" y="2819520"/>
            <a:chExt cx="3893400" cy="3502080"/>
          </a:xfrm>
        </p:grpSpPr>
        <p:sp>
          <p:nvSpPr>
            <p:cNvPr id="215" name=""/>
            <p:cNvSpPr/>
            <p:nvPr/>
          </p:nvSpPr>
          <p:spPr>
            <a:xfrm>
              <a:off x="5943600" y="5943600"/>
              <a:ext cx="1843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6920" y="2819520"/>
              <a:ext cx="35049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6400" y="33530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29400" y="33530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19920" y="3886200"/>
              <a:ext cx="152280" cy="15264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81680" y="396252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24480" y="350532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43600" y="44960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0" y="48006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2920" y="4419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9400" y="52578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48769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1520" y="51818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48720" y="33530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48720" y="39625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36600">
              <a:off x="4586040" y="4838760"/>
              <a:ext cx="1843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>
            <a:off x="5409720" y="2819520"/>
            <a:ext cx="266724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VM - Key Idea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487040" y="2590920"/>
            <a:ext cx="3894840" cy="3492360"/>
            <a:chOff x="4487040" y="2590920"/>
            <a:chExt cx="3894840" cy="3492360"/>
          </a:xfrm>
        </p:grpSpPr>
        <p:sp>
          <p:nvSpPr>
            <p:cNvPr id="234" name=""/>
            <p:cNvSpPr/>
            <p:nvPr/>
          </p:nvSpPr>
          <p:spPr>
            <a:xfrm>
              <a:off x="5904360" y="5715000"/>
              <a:ext cx="16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empus Sans ITC"/>
                </a:rPr>
                <a:t>Experi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76920" y="2590920"/>
              <a:ext cx="350496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6400" y="31244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31244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3657600"/>
              <a:ext cx="152280" cy="15264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81680" y="373392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3276720"/>
              <a:ext cx="15264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3600" y="4267440"/>
              <a:ext cx="152280" cy="15228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0" y="45720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41911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9400" y="50292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3080" y="4648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91520" y="49532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48720" y="31244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48720" y="3733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36600">
              <a:off x="3875040" y="3945960"/>
              <a:ext cx="160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empus Sans ITC"/>
                </a:rPr>
                <a:t>Experi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H="1">
            <a:off x="5410080" y="2590920"/>
            <a:ext cx="28958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876920" y="2666520"/>
            <a:ext cx="350496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867280" y="2514600"/>
            <a:ext cx="182880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029200" y="2514600"/>
            <a:ext cx="327672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1905120"/>
            <a:ext cx="352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the hyperplane that maximizes the margin—the distance to the hyperplane from the closest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: Obtain tightest possible bounds on the error rate of the class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Data Reduction - Prun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uning uninformativ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al component analysis (P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utomatically detects redundancies in the data and defines a new smaller set of features that are guaranteed not to be redundant.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duces noise in data set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isadvantage - throws away important but weak signal in the data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Feature Selection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ng relevant underly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ing the number of features necessary to classify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 - iteratively apply a supervised grouping algorithm (class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EAVER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ttp://classify.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stanford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.edu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 Technology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of studying how large numbers of genes interact with each other and how a cell's regulatory networks control vast batteries of genes simultaneous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uses a robot to precisely apply tiny droplets containing functional DNA to glass sli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orescent labels are attached to DNA of cell to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/>
              </a:rPr>
              <a:t>http://www.gene-chips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2"/>
              </a:rPr>
              <a:t>http://www.cs.wustl.edu/~jbuhler/research/array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3"/>
              </a:rPr>
              <a:t>http://www.ncbi.nlm.nih.gov/g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4"/>
              </a:rPr>
              <a:t>http://www.affymetrix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http://www.microarray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 Technology (2)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beled probes are allowed to bind to complementary DNA strands on the sli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ides are put into a scanning microscope that can measure the brightness of each fluorescent d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ghtness reveals how much of a specific DNA fragment is present, an indicator of how active it 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16292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icroarray Technology (3)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 to by other na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microchip,  biochip, DNA chip, DNA microarray, gene array, GeneChip®, and genome chip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array analysis encompa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ata Capture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Data Minin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sense of gene express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Visualization and Interface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ake all of this complicated data and analysis software acce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arrays provide a tool for answering a wide variety of questions about the dynamics of cel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 which cells is each gene active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Under what environmental conditions is each gene active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How does the activity level of a gene change under different conditions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ge of a cell cyc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al condi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eas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hat genes seem to be regulated together?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Motivation (2)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arrays may be used to assay gene expression within a single sample or to compare gene expression in two different cell types or tissues samples, such as in healthy and diseased tiss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ollow population of (synchronized) cells over time, to see how expression changes (vs. baseline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Expose cells to different external stimuli and measure their response (vs. baseline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ake cancer cells (or other pathology) and compare to normal cells.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Potential Impact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ative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ility to subtype disease and design drugs that treat disease causes, rather than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genotype (population) targeted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ed drug trea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00:13:08Z</dcterms:created>
  <dc:creator>User Services</dc:creator>
  <dc:description/>
  <dc:language>en-US</dc:language>
  <cp:lastModifiedBy>User Services</cp:lastModifiedBy>
  <cp:lastPrinted>2002-04-30T03:45:51Z</cp:lastPrinted>
  <dcterms:modified xsi:type="dcterms:W3CDTF">2002-04-30T04:03:30Z</dcterms:modified>
  <cp:revision>25</cp:revision>
  <dc:subject/>
  <dc:title>PowerPoint Presentation</dc:title>
</cp:coreProperties>
</file>