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79A-58D7-43B8-9DA2-DC5FA8E2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9A9-590C-4992-8167-9CD6FC0B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7E6-3173-4B16-91AC-C20FD2EF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CCE-CAAA-4E1E-B74B-8568EE84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3C31-E0C5-45B7-A616-BCF05C1A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297F-50B9-44DF-9811-202F0D12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E57D-F655-4954-8B66-F029CEA4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8491-BF2C-4F2B-8DF4-A4DFE986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110B-3E48-4FA7-BBBA-E182A55E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75438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FE97-2429-4B59-A29A-B8376577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5E3D-D312-493E-BA8B-222B183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C1B-5A8E-4B25-A333-AE60B5A5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1E8A-7B3E-4437-9931-763536E0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69DC-97C5-4079-A218-9907AE5A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F355-05BF-4E5E-BC4C-E9EA6185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2B96-8807-45A6-A962-30504BD2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9358-2172-4B73-BF0E-957D17BC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C96-8004-4A40-8760-D7C096AA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BE5-E325-4F25-9E2B-D7589EB4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92C-7E14-45A0-86D3-2530ED48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75438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1D8-C060-4F7D-B7BB-19267CF3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67A-631E-4EEE-AB59-15F04FC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FF2-C82A-43AC-976C-7A2935D2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F1B-0484-4BB2-A3B7-D9D5A5D0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5197-B7E1-4562-A823-C3C84FE6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8080" y="0"/>
            <a:ext cx="1015920" cy="1003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854680"/>
            <a:ext cx="1015920" cy="1003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90720" y="1295280"/>
            <a:ext cx="61722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90720" y="1447920"/>
            <a:ext cx="60958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8EC0-E204-422F-BCA2-2407F9161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28080" y="0"/>
            <a:ext cx="1015920" cy="100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854680"/>
            <a:ext cx="1015920" cy="100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3000" y="2362320"/>
            <a:ext cx="61722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514600"/>
            <a:ext cx="60958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io.davidson.edu/courses/genomics/chip/chip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lassify.stanford.edu/" TargetMode="External"/><Relationship Id="rId2" Type="http://schemas.openxmlformats.org/officeDocument/2006/relationships/hyperlink" Target="http://classify.stanford.edu/" TargetMode="External"/><Relationship Id="rId3" Type="http://schemas.openxmlformats.org/officeDocument/2006/relationships/hyperlink" Target="http://classify.stanford.edu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ene-chips.com/" TargetMode="External"/><Relationship Id="rId2" Type="http://schemas.openxmlformats.org/officeDocument/2006/relationships/hyperlink" Target="http://www.cs.wustl.edu/~jbuhler/research/array/" TargetMode="External"/><Relationship Id="rId3" Type="http://schemas.openxmlformats.org/officeDocument/2006/relationships/hyperlink" Target="http://www.ncbi.nlm.nih.gov/geo" TargetMode="External"/><Relationship Id="rId4" Type="http://schemas.openxmlformats.org/officeDocument/2006/relationships/hyperlink" Target="http://www.affymetrix.com/" TargetMode="External"/><Relationship Id="rId5" Type="http://schemas.openxmlformats.org/officeDocument/2006/relationships/hyperlink" Target="http://www.microarray.org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Analysi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shida Da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C 889: Bio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3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eneral types that are pop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potted Arrays (Pat Brown, Stanford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Oligonucleotide Arrays (Affymetrix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based on the same basic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nchoring pieces of DNA to glass/nylon slide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mplementary hybridizatio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5998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Control Cells (left) and Target Cells (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arvesting mRNA from both cel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agging the mRNA with green and red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pplying the mRNA to the cDNA micro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Reading the result using a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A false-color composite representing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34000" y="1600200"/>
            <a:ext cx="441000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4200" y="380880"/>
            <a:ext cx="355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potted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3044880" cy="4952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3935160" cy="382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0200" y="30492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80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Microarray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Oligonucleotide Array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C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stead of putting entire genes on array, put sets of DNA 25-mers (synthesized oligonucleotides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roduced using a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hotolithography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process similar to the ones used to make semiconductor chip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RNA samples are processed separately instead of in pair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6629400" cy="3867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3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38480" y="152352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1. Internal cellular physiology from different cell line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2. Diverse physiological conditions in an intact organism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3. Pathological tissues specimens from patient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4. Serial time points following a stimulus to a cell or organism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ro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ist of measurements along each row or colum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e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individual expression measurements with in each pro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Data Analysi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 lear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Grouping gene or cases by clustering expression profiles (raw microarray data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Used for exploratory task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 lear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mparing genes or cases to know profiles using pattern recognition (using external information that provides labels for microarray data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Used to address more direct questio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Ge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genes are regulated together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treatments/individuals have similar profiles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ing Ge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functional class does a particular gene fall into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ing S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class does a given sample belong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at can be learnt about a cell from the set of all mRNA expressed in a cell? Classifying diseases: Does a patient have ALL or AML (classes of Leukemia)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ustering Method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atistical correlation coefficient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uclidean Distance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Organizing Maps (S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zzy c-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zzy S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Hierarchical Cluster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382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00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8098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55308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6292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696080" y="37335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8580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8769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133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053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10080" y="3048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23888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19520" y="22856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3080" y="5592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6600" y="2087640"/>
            <a:ext cx="17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71600" y="2895480"/>
            <a:ext cx="0" cy="2362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array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Potential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tted and Oligonucleotid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pervised and Supervised Lear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Hierarchical Clustering (2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t of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more than one subtre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ick the most similar pair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efine a new subtree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joining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move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insert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K-means Cluster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lue for k is selected up front; # of expected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divides the data into k many clusters in such a way that the profiles within each cluster are more similar than those across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assification Method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-nearest Neighb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Vector Machine (SV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Discriminate Analysis (L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Discriminate Analysis (S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zen 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upport Vector Machin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clustering genes to see what groupings e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se models to match genes to predefined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VM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960200"/>
            <a:ext cx="38102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genes in exampl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in an n-dimensional spa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n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10440" y="2819520"/>
            <a:ext cx="3871440" cy="3514320"/>
            <a:chOff x="4510440" y="2819520"/>
            <a:chExt cx="3871440" cy="3514320"/>
          </a:xfrm>
        </p:grpSpPr>
        <p:sp>
          <p:nvSpPr>
            <p:cNvPr id="179" name=""/>
            <p:cNvSpPr/>
            <p:nvPr/>
          </p:nvSpPr>
          <p:spPr>
            <a:xfrm>
              <a:off x="5943600" y="5965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2819520"/>
              <a:ext cx="350496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6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29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19920" y="38858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1680" y="39621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4480" y="35049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3600" y="4495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0" y="4800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2920" y="44193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29400" y="5257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53080" y="4876560"/>
              <a:ext cx="15264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814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8720" y="33526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48720" y="39621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36600">
              <a:off x="3990600" y="422532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VM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960200"/>
            <a:ext cx="38102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in SVMs involves finding a hyperplane (decision surface) that separates the examples of one class from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10440" y="2819520"/>
            <a:ext cx="3871440" cy="3514320"/>
            <a:chOff x="4510440" y="2819520"/>
            <a:chExt cx="3871440" cy="3514320"/>
          </a:xfrm>
        </p:grpSpPr>
        <p:sp>
          <p:nvSpPr>
            <p:cNvPr id="198" name=""/>
            <p:cNvSpPr/>
            <p:nvPr/>
          </p:nvSpPr>
          <p:spPr>
            <a:xfrm>
              <a:off x="5943600" y="5965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2819520"/>
              <a:ext cx="350496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29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9920" y="38858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1680" y="39621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4480" y="35049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4495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800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920" y="44193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29400" y="5257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3080" y="4876560"/>
              <a:ext cx="15264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51814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48720" y="33526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8720" y="39621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36600">
              <a:off x="3990600" y="422532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488480" y="2819520"/>
            <a:ext cx="3893400" cy="3502080"/>
            <a:chOff x="4488480" y="2819520"/>
            <a:chExt cx="3893400" cy="3502080"/>
          </a:xfrm>
        </p:grpSpPr>
        <p:sp>
          <p:nvSpPr>
            <p:cNvPr id="215" name=""/>
            <p:cNvSpPr/>
            <p:nvPr/>
          </p:nvSpPr>
          <p:spPr>
            <a:xfrm>
              <a:off x="5943600" y="5943600"/>
              <a:ext cx="1843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6920" y="2819520"/>
              <a:ext cx="3504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6400" y="33530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9400" y="33530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19920" y="3886200"/>
              <a:ext cx="152280" cy="15264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1680" y="39625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4480" y="35053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3600" y="44960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0" y="48006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92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52578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48769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51818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48720" y="33530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39625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36600">
              <a:off x="4586040" y="4838760"/>
              <a:ext cx="1843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>
            <a:off x="5409720" y="2819520"/>
            <a:ext cx="266724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VM - Key Idea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487040" y="2590920"/>
            <a:ext cx="3894840" cy="3492360"/>
            <a:chOff x="4487040" y="2590920"/>
            <a:chExt cx="3894840" cy="3492360"/>
          </a:xfrm>
        </p:grpSpPr>
        <p:sp>
          <p:nvSpPr>
            <p:cNvPr id="234" name=""/>
            <p:cNvSpPr/>
            <p:nvPr/>
          </p:nvSpPr>
          <p:spPr>
            <a:xfrm>
              <a:off x="5904360" y="571500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Experi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90920"/>
              <a:ext cx="3504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31244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31244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3657600"/>
              <a:ext cx="152280" cy="15264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81680" y="37339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32767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42674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45720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41911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9400" y="50292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3080" y="4648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91520" y="4953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48720" y="3124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8720" y="3733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36600">
              <a:off x="3875040" y="394596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Experi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H="1">
            <a:off x="5410080" y="2590920"/>
            <a:ext cx="28958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876920" y="2666520"/>
            <a:ext cx="350496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67280" y="2514600"/>
            <a:ext cx="18288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029200" y="2514600"/>
            <a:ext cx="327672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905120"/>
            <a:ext cx="352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the hyperplane that maximizes the margin—the distance to the hyperplane from the closes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: Obtain tightest possible bounds on the error rate of the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Data Reduction - Prun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uning uninformativ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 component analysis (P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utomatically detects redundancies in the data and defines a new smaller set of features that are guaranteed not to be redundant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duces noise in data se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isadvantage - throws away important but weak signal in the data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Feature Selection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ng relevant underly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ng the number of features necessary to classify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- iteratively apply a supervised grouping algorithm (class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EAV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classify.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stanford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.edu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Technolog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of studying how large numbers of genes interact with each other and how a cell's regulatory networks control vast batteries of genes simultaneous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uses a robot to precisely apply tiny droplets containing functional DNA to glass sli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orescent labels are attached to DNA of cell to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/>
              </a:rPr>
              <a:t>http://www.gene-chip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"/>
              </a:rPr>
              <a:t>http://www.cs.wustl.edu/~jbuhler/research/array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"/>
              </a:rPr>
              <a:t>http://www.ncbi.nlm.nih.gov/g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4"/>
              </a:rPr>
              <a:t>http://www.affymetrix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http://www.microarray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Technology (2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beled probes are allowed to bind to complementary DNA strands on the sli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ides are put into a scanning microscope that can measure the brightness of each fluorescent d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ghtness reveals how much of a specific DNA fragment is present, an indicator of how active it 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Technology (3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 to by other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icrochip,  biochip, DNA chip, DNA microarray, gene array, GeneChip®, and genome chip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array analysis encompa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ata Capture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ata Mini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sense of gene express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Visualization and Interface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ke all of this complicated data and analysis software acce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arrays provide a tool for answering a wide variety of questions about the dynamics of cel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 which cells is each gene active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Under what environmental conditions is each gene active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How does the activity level of a gene change under different conditions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ge of a cell cyc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al condi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ea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at genes seem to be regulated together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otivation (2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arrays may be used to assay gene expression within a single sample or to compare gene expression in two different cell types or tissues samples, such as in healthy and diseased tiss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ollow population of (synchronized) cells over time, to see how expression changes (vs. baseline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xpose cells to different external stimuli and measure their response (vs. baseline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ake cancer cells (or other pathology) and compare to normal cells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Potential Impact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ative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subtype disease and design drugs that treat disease causes, rather than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genotype (population) targeted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ed drug trea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00:13:08Z</dcterms:created>
  <dc:creator>User Services</dc:creator>
  <dc:description/>
  <dc:language>en-US</dc:language>
  <cp:lastModifiedBy>User Services</cp:lastModifiedBy>
  <cp:lastPrinted>2002-04-30T03:45:51Z</cp:lastPrinted>
  <dcterms:modified xsi:type="dcterms:W3CDTF">2002-04-30T04:03:30Z</dcterms:modified>
  <cp:revision>25</cp:revision>
  <dc:subject/>
  <dc:title>PowerPoint Presentation</dc:title>
</cp:coreProperties>
</file>