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D6DF-57A2-4A55-8D57-8CC8BFDA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D46-407A-4173-8403-66ED0A54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F76-5860-4D52-B192-59D4E84A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5D3B-5553-4E95-B842-9A161FCB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D12-8487-4032-BC5B-02484E05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1A8-B96A-4190-A40F-6F14C413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159-9596-4ED0-8ED0-E1C1BAED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4E9-B388-4F87-9D04-CD4ABC12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182-6B6A-48F8-A4FD-406ED0D7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8DC0-85A3-481B-96ED-8DA0EF44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CDC-CEA8-4F21-930A-8F2C2CF6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578-97F4-44E6-BE0C-3F260B63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764F-8768-4D18-B24A-81C0F514B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4120" y="1981080"/>
            <a:ext cx="659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base Searching for Similar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art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3080" y="403848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889  Feb. 28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61960" y="446076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nyu 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95280" y="4114800"/>
            <a:ext cx="190512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44197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510552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5486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4800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1752480"/>
            <a:ext cx="190476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2057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31240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057400"/>
            <a:ext cx="45720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1752480"/>
            <a:ext cx="190512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057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743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312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24382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057400"/>
            <a:ext cx="45720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1981080"/>
            <a:ext cx="15264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1905120"/>
            <a:ext cx="22860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2819520"/>
            <a:ext cx="22860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90640" y="2132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57560" y="220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19320" y="266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38440" y="167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56080" y="1599480"/>
            <a:ext cx="50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gnificance of FASTA M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6781680" cy="709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66294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82800" y="1675080"/>
            <a:ext cx="653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low-complexity regions that are not usefu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oducing meaningful sequence alig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840" y="103608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ST -step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6720" y="3504240"/>
            <a:ext cx="29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ositional complexi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3124080" cy="761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49240" y="4860000"/>
            <a:ext cx="24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GGGG,  K 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TGA,   K=0.5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156200" y="18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840" y="103608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ST -step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3640" y="1675080"/>
            <a:ext cx="457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st of words of length of 3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protein sequence is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4480" y="3273840"/>
            <a:ext cx="337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  P  P  Q  G  L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1  L  P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2      P  P 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3          P  Q 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4               Q  G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5                    G  L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156200" y="18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840" y="103608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ST -step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3960" y="1675080"/>
            <a:ext cx="80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he BLOSUM62, the query sequence words are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atch with possibl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2080" y="2970720"/>
            <a:ext cx="62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X20X20 = 8000 possible matches for one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2520" y="373104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 PQG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Q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Q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156200" y="18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5840" y="103608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ST -step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6840" y="1750680"/>
            <a:ext cx="643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hood word score threshold (T) is se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st of possible matching words is shorte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highest scoring number of approximately 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3884400"/>
            <a:ext cx="326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= 13 for match of PQ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Q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156200" y="18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840" y="103608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ST -step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82080" y="1751040"/>
            <a:ext cx="660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dure is repeated for each three-letter w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query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5800" y="4190040"/>
            <a:ext cx="50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250 amino acids,  50X250 = 12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56200" y="18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840" y="103608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ST -step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0440" y="1827360"/>
            <a:ext cx="82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high-scoring words are organized into an effic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tree for comparing them rapidly to the database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35400" y="447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5040" y="342828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ST -step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4480" y="418932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database sequence is scanned for an exact match to one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words corresponding to each query sequence position.  If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found, the match is used to seed a possible ungapped alig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156200" y="18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8720" y="76140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ST -step 8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0840" y="1674720"/>
            <a:ext cx="81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hort matched regions lying on the same diagonal and 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A of each other as the starting points for a lo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gapped alignment between th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57150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743200" y="33526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2920" y="3565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17840" y="3870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70120" y="4022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22760" y="41749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7640" y="3504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4840" y="4647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6080" y="4343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40480" y="5028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1840" y="5028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8360" y="335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49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02884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647960" y="4876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156200" y="18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06560" y="103608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ST -step 8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5440" y="1644840"/>
            <a:ext cx="741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oined regions or seeds are extended in each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ped when score had begun to fall below the best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3760" y="3732120"/>
            <a:ext cx="33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   P    P    Q    G    L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  P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    E   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L   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7     7    2     6     4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2600" y="5104080"/>
            <a:ext cx="42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SP (high-scoring segment pai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 = 9 + 15 + 8 =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37960" y="2438280"/>
            <a:ext cx="587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ASTA sequence database similarity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Basic local alignment search tool (BL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156200" y="18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840" y="1036080"/>
            <a:ext cx="23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ST -step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2280" y="1721160"/>
            <a:ext cx="76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whether each HSP is greater than a cutoff score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gh scoring pairs matched are identified and li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920" y="365580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is determined by examining the range of scores foun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ng random sequences, and by choosing a value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ignificantly gre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156200" y="18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06560" y="103608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ST -step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56240" y="1751400"/>
            <a:ext cx="71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statistical significance of each HSP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3348000" cy="56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440720" y="2818440"/>
            <a:ext cx="66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number of match by chance.    D: size of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143000" y="3429000"/>
            <a:ext cx="3925800" cy="512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141560" y="3961440"/>
            <a:ext cx="25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[log(Km’n’)]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8000" y="3961440"/>
            <a:ext cx="44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LOSUM62: k=0.14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3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39760" y="4570920"/>
            <a:ext cx="45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’=m-(lnKmn)/H, n’=n-(lnKmn)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2640" y="502812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(lnKmn)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38560" y="563760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: average length of alignment in random m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156200" y="18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06560" y="103608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ST -step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0000" y="1751040"/>
            <a:ext cx="74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wo or more HSP regions can be joined, a combi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 of the significance will be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1320" y="3579120"/>
            <a:ext cx="708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, 40 vs 52,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son method:  45 is better than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scores:  105 is better than 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gapped alignment and calculation of expect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156200" y="1859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06560" y="103608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ST -step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9520" y="1827360"/>
            <a:ext cx="73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ith-Waterman local alignment is applied for the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HSP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248000" y="425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8360" y="342828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ST -step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0720" y="4219560"/>
            <a:ext cx="802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expect score for a given database sequence satisf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r-selectable threshold parameter E, the match is repo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s of FA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FA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F/TFASTF and FASTS/TF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X and FAS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FASTX and TFAS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AST pr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2133360"/>
            <a:ext cx="6324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S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S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ST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LAST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BLAST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fu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ful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ring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50640" y="152388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 Odd S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473868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91640" y="198108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oring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90000" y="308916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m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sum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18200" y="190512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quence Al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38440" y="3089160"/>
            <a:ext cx="411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methods:  FASTA, B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6920" y="1371600"/>
            <a:ext cx="188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t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2590920"/>
            <a:ext cx="381024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32004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49528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42670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52760" y="2894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62040" y="50281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19240" y="3656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17840" y="144792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56768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354480" y="144792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0560" y="3124080"/>
            <a:ext cx="711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lign query sequence with each sequence in data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alculate the statistical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Return the high scor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06920" y="76212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A Alignment - lookup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447920"/>
            <a:ext cx="5349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on    1  2  3  4  5  6  7  8  9  10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1 n c  s   p  t  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89040" y="2057400"/>
            <a:ext cx="4237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on    1  2  3  4  5  6  7  8  9  10 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2                    a  c   s  p   r   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2815560"/>
            <a:ext cx="3841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7:27:29Z</dcterms:created>
  <dc:creator>Xinyu TAn</dc:creator>
  <dc:description/>
  <dc:language>en-US</dc:language>
  <cp:lastModifiedBy>Xinyu TAn</cp:lastModifiedBy>
  <cp:lastPrinted>2002-02-27T17:58:53Z</cp:lastPrinted>
  <dcterms:modified xsi:type="dcterms:W3CDTF">2002-02-28T05:54:08Z</dcterms:modified>
  <cp:revision>107</cp:revision>
  <dc:subject/>
  <dc:title>No Slide Title</dc:title>
</cp:coreProperties>
</file>