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-360" y="22680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-46440" bIns="-4644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3236760"/>
            <a:ext cx="7807320" cy="30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revers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ng as the function does not chang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7760" cy="6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e this into ultrametric data; make a note that this is considered less reliable (PNAS2001 paper disputing it using pine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connection to decision tre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352080"/>
            <a:ext cx="7791480" cy="65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52080"/>
            <a:ext cx="7791480" cy="65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6320" cy="473040"/>
          </a:xfrm>
          <a:custGeom>
            <a:avLst/>
            <a:gdLst>
              <a:gd name="textAreaLeft" fmla="*/ 360 w 436320"/>
              <a:gd name="textAreaRight" fmla="*/ 435960 w 43632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23416">
                <a:moveTo>
                  <a:pt x="78" y="0"/>
                </a:moveTo>
                <a:arcTo wR="78" hR="78" stAng="16200000" swAng="-5400000"/>
                <a:lnTo>
                  <a:pt x="0" y="23338"/>
                </a:lnTo>
                <a:arcTo wR="78" hR="78" stAng="10800000" swAng="-5400000"/>
                <a:lnTo>
                  <a:pt x="21522" y="23416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6880" cy="473040"/>
          </a:xfrm>
          <a:custGeom>
            <a:avLst/>
            <a:gdLst>
              <a:gd name="textAreaLeft" fmla="*/ 360 w 326880"/>
              <a:gd name="textAreaRight" fmla="*/ 326520 w 32688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31248">
                <a:moveTo>
                  <a:pt x="104" y="0"/>
                </a:moveTo>
                <a:arcTo wR="104" hR="104" stAng="16200000" swAng="-5400000"/>
                <a:lnTo>
                  <a:pt x="0" y="31144"/>
                </a:lnTo>
                <a:arcTo wR="104" hR="104" stAng="10800000" swAng="-5400000"/>
                <a:lnTo>
                  <a:pt x="21496" y="31248"/>
                </a:lnTo>
                <a:arcTo wR="104" hR="104" stAng="5400000" swAng="-5400000"/>
                <a:lnTo>
                  <a:pt x="21600" y="104"/>
                </a:lnTo>
                <a:arcTo wR="104" hR="10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0480" cy="473040"/>
          </a:xfrm>
          <a:custGeom>
            <a:avLst/>
            <a:gdLst>
              <a:gd name="textAreaLeft" fmla="*/ 360 w 420480"/>
              <a:gd name="textAreaRight" fmla="*/ 420120 w 42048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24298">
                <a:moveTo>
                  <a:pt x="81" y="0"/>
                </a:moveTo>
                <a:arcTo wR="81" hR="81" stAng="16200000" swAng="-5400000"/>
                <a:lnTo>
                  <a:pt x="0" y="24217"/>
                </a:lnTo>
                <a:arcTo wR="81" hR="81" stAng="10800000" swAng="-5400000"/>
                <a:lnTo>
                  <a:pt x="21519" y="24298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6840" cy="473040"/>
          </a:xfrm>
          <a:custGeom>
            <a:avLst/>
            <a:gdLst>
              <a:gd name="textAreaLeft" fmla="*/ 360 w 366840"/>
              <a:gd name="textAreaRight" fmla="*/ 366480 w 36684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27847">
                <a:moveTo>
                  <a:pt x="93" y="0"/>
                </a:moveTo>
                <a:arcTo wR="93" hR="93" stAng="16200000" swAng="-5400000"/>
                <a:lnTo>
                  <a:pt x="0" y="27754"/>
                </a:lnTo>
                <a:arcTo wR="93" hR="93" stAng="10800000" swAng="-5400000"/>
                <a:lnTo>
                  <a:pt x="21507" y="27847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58720" cy="4204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29880" cy="1050840"/>
          </a:xfrm>
          <a:custGeom>
            <a:avLst/>
            <a:gdLst>
              <a:gd name="textAreaLeft" fmla="*/ 360 w 29880"/>
              <a:gd name="textAreaRight" fmla="*/ 29520 w 29880"/>
              <a:gd name="textAreaTop" fmla="*/ 360 h 1050840"/>
              <a:gd name="textAreaBottom" fmla="*/ 1050480 h 1050840"/>
            </a:gdLst>
            <a:ahLst/>
            <a:rect l="textAreaLeft" t="textAreaTop" r="textAreaRight" b="textAreaBottom"/>
            <a:pathLst>
              <a:path w="21600" h="750857">
                <a:moveTo>
                  <a:pt x="1080" y="0"/>
                </a:moveTo>
                <a:arcTo wR="1080" hR="1080" stAng="16200000" swAng="-5400000"/>
                <a:lnTo>
                  <a:pt x="0" y="749777"/>
                </a:lnTo>
                <a:arcTo wR="1080" hR="1080" stAng="10800000" swAng="-5400000"/>
                <a:lnTo>
                  <a:pt x="20520" y="750857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4920" cy="2988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51"/>
              </a:spcBef>
              <a:buClr>
                <a:srgbClr val="ff0000"/>
              </a:buClr>
              <a:buSzPct val="55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6680" cy="473040"/>
              </a:xfrm>
              <a:custGeom>
                <a:avLst/>
                <a:gdLst>
                  <a:gd name="textAreaLeft" fmla="*/ 360 w 436680"/>
                  <a:gd name="textAreaRight" fmla="*/ 436320 w 43668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23397">
                    <a:moveTo>
                      <a:pt x="78" y="0"/>
                    </a:moveTo>
                    <a:arcTo wR="78" hR="78" stAng="16200000" swAng="-5400000"/>
                    <a:lnTo>
                      <a:pt x="0" y="23319"/>
                    </a:lnTo>
                    <a:arcTo wR="78" hR="78" stAng="10800000" swAng="-5400000"/>
                    <a:lnTo>
                      <a:pt x="21522" y="23397"/>
                    </a:lnTo>
                    <a:arcTo wR="78" hR="78" stAng="5400000" swAng="-5400000"/>
                    <a:lnTo>
                      <a:pt x="21600" y="78"/>
                    </a:lnTo>
                    <a:arcTo wR="78" hR="78" stAng="0" swAng="-5400000"/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200" y="2546280"/>
                <a:ext cx="326880" cy="473040"/>
              </a:xfrm>
              <a:custGeom>
                <a:avLst/>
                <a:gdLst>
                  <a:gd name="textAreaLeft" fmla="*/ 360 w 326880"/>
                  <a:gd name="textAreaRight" fmla="*/ 326520 w 32688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31248">
                    <a:moveTo>
                      <a:pt x="104" y="0"/>
                    </a:moveTo>
                    <a:arcTo wR="104" hR="104" stAng="16200000" swAng="-5400000"/>
                    <a:lnTo>
                      <a:pt x="0" y="31144"/>
                    </a:lnTo>
                    <a:arcTo wR="104" hR="104" stAng="10800000" swAng="-5400000"/>
                    <a:lnTo>
                      <a:pt x="21496" y="31248"/>
                    </a:lnTo>
                    <a:arcTo wR="104" hR="104" stAng="5400000" swAng="-5400000"/>
                    <a:lnTo>
                      <a:pt x="21600" y="104"/>
                    </a:lnTo>
                    <a:arcTo wR="104" hR="10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6560" cy="473040"/>
              <a:chOff x="414360" y="2968560"/>
              <a:chExt cx="736560" cy="4730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0840" cy="473040"/>
              </a:xfrm>
              <a:custGeom>
                <a:avLst/>
                <a:gdLst>
                  <a:gd name="textAreaLeft" fmla="*/ 360 w 420840"/>
                  <a:gd name="textAreaRight" fmla="*/ 420480 w 42084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24277">
                    <a:moveTo>
                      <a:pt x="81" y="0"/>
                    </a:moveTo>
                    <a:arcTo wR="81" hR="81" stAng="16200000" swAng="-5400000"/>
                    <a:lnTo>
                      <a:pt x="0" y="24196"/>
                    </a:lnTo>
                    <a:arcTo wR="81" hR="81" stAng="10800000" swAng="-5400000"/>
                    <a:lnTo>
                      <a:pt x="21519" y="24277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2640" y="2968560"/>
                <a:ext cx="368280" cy="473040"/>
              </a:xfrm>
              <a:custGeom>
                <a:avLst/>
                <a:gdLst>
                  <a:gd name="textAreaLeft" fmla="*/ 360 w 368280"/>
                  <a:gd name="textAreaRight" fmla="*/ 367920 w 36828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27738">
                    <a:moveTo>
                      <a:pt x="93" y="0"/>
                    </a:moveTo>
                    <a:arcTo wR="93" hR="93" stAng="16200000" swAng="-5400000"/>
                    <a:lnTo>
                      <a:pt x="0" y="27645"/>
                    </a:lnTo>
                    <a:arcTo wR="93" hR="93" stAng="10800000" swAng="-5400000"/>
                    <a:lnTo>
                      <a:pt x="21507" y="2773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58720" cy="420840"/>
            </a:xfrm>
            <a:prstGeom prst="roundRect">
              <a:avLst>
                <a:gd name="adj" fmla="val 37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0240" cy="1051200"/>
            </a:xfrm>
            <a:custGeom>
              <a:avLst/>
              <a:gdLst>
                <a:gd name="textAreaLeft" fmla="*/ 360 w 30240"/>
                <a:gd name="textAreaRight" fmla="*/ 29880 w 30240"/>
                <a:gd name="textAreaTop" fmla="*/ 360 h 1051200"/>
                <a:gd name="textAreaBottom" fmla="*/ 1050840 h 1051200"/>
              </a:gdLst>
              <a:ahLst/>
              <a:rect l="textAreaLeft" t="textAreaTop" r="textAreaRight" b="textAreaBottom"/>
              <a:pathLst>
                <a:path w="21600" h="742278">
                  <a:moveTo>
                    <a:pt x="1080" y="0"/>
                  </a:moveTo>
                  <a:arcTo wR="1080" hR="1080" stAng="16200000" swAng="-5400000"/>
                  <a:lnTo>
                    <a:pt x="0" y="741198"/>
                  </a:lnTo>
                  <a:arcTo wR="1080" hR="1080" stAng="10800000" swAng="-5400000"/>
                  <a:lnTo>
                    <a:pt x="20520" y="742278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15720" y="3263400"/>
              <a:ext cx="8691480" cy="5400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9072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logenetic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639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alim K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-based trees interpreted as evolutionary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 represents an ancestral object with none of the pres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= [0 0 0 … 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of the characters changes from 0 to 1 exactly once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nges 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haracter labels one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history by mutation event, no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8480" y="55224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Cladistic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: grouping of organism using shared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clado-basic-A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278160" cy="1973160"/>
          </a:xfrm>
          <a:prstGeom prst="rect">
            <a:avLst/>
          </a:prstGeom>
          <a:ln w="0">
            <a:noFill/>
          </a:ln>
        </p:spPr>
      </p:pic>
      <p:pic>
        <p:nvPicPr>
          <p:cNvPr id="247" name="clado-basic-B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35812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neralized Perfect Phylogen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rait is allowed to take on more than two states, eg: color of f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P-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realistic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omoplas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oplasy is similarity that is not homologous (not due to common ancest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ology is the result of independent evolution (convergence, parallelism, revers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provide misleading evidence of phylogenetic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dependent evolution of tail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img006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858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rfect phylogeny probl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orem: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trix M has a phylogenetic tree iff for every pair of columns i,j the traits i and j are either disjoint or one contains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(nm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lgorithm exists for perfect phylog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rt numbers in decreas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 keyword for each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ild a keyword tree (used to solve the dictionary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isleading evidence for phylogen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img007" descr=""/>
          <p:cNvPicPr/>
          <p:nvPr/>
        </p:nvPicPr>
        <p:blipFill>
          <a:blip r:embed="rId1"/>
          <a:stretch/>
        </p:blipFill>
        <p:spPr>
          <a:xfrm>
            <a:off x="1131840" y="2457360"/>
            <a:ext cx="68803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omoplasy - reversa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versals are evolutionary changes back to an ancestral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ke other homoplasy, can lead to incorrect phylogenetic in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img008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68119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omoplasy and incongruenc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we assume that there is a only a single correct phylogenetic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characters support conflicting phylogenetic trees, misleading evidence from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congruen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ongruence implies at least one character is homoplas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"a classification founded on any single character, however important that may be, has always failed" - Charles Darwin, The Origin Of Spe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ximum parsimon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imizes the number of steps required to generate the observed variation in the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uaranteed to find the "best" tree - danger of overfitting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 best for small, highly conserved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14"/>
              </a:spcBef>
              <a:buClr>
                <a:srgbClr val="3333cc"/>
              </a:buClr>
              <a:buSzPct val="58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14"/>
              </a:spcBef>
              <a:buClr>
                <a:srgbClr val="3333cc"/>
              </a:buClr>
              <a:buSzPct val="58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ee Ba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14"/>
              </a:spcBef>
              <a:buClr>
                <a:srgbClr val="3333cc"/>
              </a:buClr>
              <a:buSzPct val="58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lecular Clock Hypo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14"/>
              </a:spcBef>
              <a:buClr>
                <a:srgbClr val="3333cc"/>
              </a:buClr>
              <a:buSzPct val="58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moplasy and reve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14"/>
              </a:spcBef>
              <a:buClr>
                <a:srgbClr val="3333cc"/>
              </a:buClr>
              <a:buSzPct val="58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edictio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363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aracter-ba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3333cc"/>
              </a:buClr>
              <a:buSzPct val="4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rfect phyloge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3333cc"/>
              </a:buClr>
              <a:buSzPct val="4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aximum parsimo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363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stance-ba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3333cc"/>
              </a:buClr>
              <a:buSzPct val="4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ltrametric tre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3333cc"/>
              </a:buClr>
              <a:buSzPct val="4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itive trees (eg.: Fitch-Margoliash, Nearest Neighbor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3333cc"/>
              </a:buClr>
              <a:buSzPct val="4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Unweighted pair group method with arithmetic mean (UPGM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363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Maximum Likeliho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ximum parsimony - algorith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with a M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informative sites within the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variations are placed at t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requiring smallest number of chang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over all informative 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 length of tre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 = sum of the # of steps in each bra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ree with smallest leng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76520" y="838080"/>
          <a:ext cx="6248160" cy="1955880"/>
        </p:xfrm>
        <a:graphic>
          <a:graphicData uri="http://schemas.openxmlformats.org/drawingml/2006/table">
            <a:tbl>
              <a:tblPr/>
              <a:tblGrid>
                <a:gridCol w="625320"/>
                <a:gridCol w="623880"/>
                <a:gridCol w="625680"/>
                <a:gridCol w="623880"/>
                <a:gridCol w="625320"/>
                <a:gridCol w="625320"/>
                <a:gridCol w="623880"/>
                <a:gridCol w="625680"/>
                <a:gridCol w="623880"/>
                <a:gridCol w="625320"/>
              </a:tblGrid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 position and charac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3%20tree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797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ximum parsimony - drawbac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misleading information when rates of sequence change in the different branches of tree represented by the sequenc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253a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0866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ximum parsimony - drawbac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lumns representing greater variation do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ke's method of invariants or evolutionary parsim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ly transversions are scored,  (A,G) &lt;-&gt; (C,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versions are assumed to occur at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onstant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so, independent of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ximum parsimony - scor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ep 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istency Index (CI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I =  min possible tre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tual tre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on position - variable weigh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8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ino acid changes scored on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733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stance-based method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is constructed using distances between species (number of mutations, time, other distance measur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ighbo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sequence pairs with smallest number of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rooted, i.e. sequences share a common ance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step is producing MSAs (ex: CLUSTAL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ltrametric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ric on a set of objec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iven by the assignment of a real numb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(x,y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very pai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,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metriccond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246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ltrametric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ultrametric has to fulfill the additional requ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ultrametric tree is characterized by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ee point con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ultrametriccond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789280" cy="354240"/>
          </a:xfrm>
          <a:prstGeom prst="rect">
            <a:avLst/>
          </a:prstGeom>
          <a:ln w="0">
            <a:noFill/>
          </a:ln>
        </p:spPr>
      </p:pic>
      <p:pic>
        <p:nvPicPr>
          <p:cNvPr id="287" name="3point" descr=""/>
          <p:cNvPicPr/>
          <p:nvPr/>
        </p:nvPicPr>
        <p:blipFill>
          <a:blip r:embed="rId2"/>
          <a:stretch/>
        </p:blipFill>
        <p:spPr>
          <a:xfrm>
            <a:off x="2895480" y="4648320"/>
            <a:ext cx="250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ltrametric trees - lin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,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rmed by the merg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linkclustering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6577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14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ltrametric trees - examp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ultratree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563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33cc"/>
              </a:buClr>
              <a:buSzPct val="52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lineage of different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SzPct val="52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principle to sort species into a tax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SzPct val="52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how various functions evol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SzPct val="52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forces and constraints on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49"/>
              </a:spcBef>
              <a:buClr>
                <a:srgbClr val="3333cc"/>
              </a:buClr>
              <a:buSzPct val="52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multiple sequence al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itive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zation of ultrametric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49"/>
              </a:spcBef>
              <a:buClr>
                <a:srgbClr val="ff0000"/>
              </a:buClr>
              <a:buSzPct val="55000"/>
              <a:buFont typeface="StarBats" charset="2"/>
              <a:buChar char="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of mutations were assumed to be proportional to temporal distance of a node to ances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49"/>
              </a:spcBef>
              <a:buClr>
                <a:srgbClr val="ff0000"/>
              </a:buClr>
              <a:buSzPct val="55000"/>
              <a:buFont typeface="StarBats" charset="2"/>
              <a:buChar char="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assumed, mutations took place at same rate in all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ve trees model different rates of mutation along different branch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itch-Margoliash Method (for 3 sequ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unrooted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length of tree branches algebra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257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3581280" cy="23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5181480" y="3505320"/>
          <a:ext cx="2819160" cy="2070000"/>
        </p:xfrm>
        <a:graphic>
          <a:graphicData uri="http://schemas.openxmlformats.org/drawingml/2006/table">
            <a:tbl>
              <a:tblPr/>
              <a:tblGrid>
                <a:gridCol w="704880"/>
                <a:gridCol w="704880"/>
                <a:gridCol w="704520"/>
                <a:gridCol w="704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itch-Margoliash Method (for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sequ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extension of 3-sequence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t sequence pair is cho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 of the sequences are agglom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between the pair is comp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trix is recomputed with the sequence pair combined into singl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is repeated till the sequences are comb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352080"/>
            <a:ext cx="7791480" cy="140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arest Neighbor-joining Metho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Fitch-Margolias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 of which sequences to pair is determined by a different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rs sequences based on the effect of pairing on the sums of the branch lengths of th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p216a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2895840" cy="2092320"/>
          </a:xfrm>
          <a:prstGeom prst="rect">
            <a:avLst/>
          </a:prstGeom>
          <a:ln w="0">
            <a:noFill/>
          </a:ln>
        </p:spPr>
      </p:pic>
      <p:pic>
        <p:nvPicPr>
          <p:cNvPr id="304" name="p216b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5410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ypes of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62"/>
              </a:spcBef>
              <a:buClr>
                <a:srgbClr val="3333cc"/>
              </a:buClr>
              <a:buSzPct val="5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oted tr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common ances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quires more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62"/>
              </a:spcBef>
              <a:buClr>
                <a:srgbClr val="3333cc"/>
              </a:buClr>
              <a:buSzPct val="59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rooted tr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jects are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al nodes are some common ances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ufficient information to tell whether not not a given internal node is a common ancestor of any 2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5257800"/>
            <a:ext cx="41130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Molecular Clock Theory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(Zukerkandl &amp; Pauling, early 1960</a:t>
            </a:r>
            <a:r>
              <a:rPr b="0" lang="en-GB" sz="2800" spc="-1" strike="noStrike">
                <a:solidFill>
                  <a:srgbClr val="333399"/>
                </a:solidFill>
                <a:latin typeface="StarBats"/>
                <a:ea typeface="StarBats"/>
              </a:rPr>
              <a:t>’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given protei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cepted mutatio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amino acid sequence for the protein occur at constan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cepted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tations that allow protein to function without de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 of accepted mutation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oportional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ngth of time inter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.e. relatively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onstant rat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f accepted mutations within a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lecular Clock Theory I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accepted mutations maybe different for different proteins (depending on their tolerance for mut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rts of a protein may evolve at different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if A and B differ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ed mutations, then rough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ations have occurred since diver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-based tre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constructed on the basis of gain or loss of characters (or tra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connected explicitly to a measure of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for small sets of sequences with high simi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-based trees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measures are not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ly, morphological feature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backb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fea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a certain amino acid a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certain gap is present in a multiple sequence al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462"/>
              </a:spcBef>
              <a:buClr>
                <a:srgbClr val="ff0000"/>
              </a:buClr>
              <a:buSzPct val="54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or not protein X regulates protein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462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aracter-based Trees (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s =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561"/>
              </a:spcBef>
              <a:buClr>
                <a:srgbClr val="3333cc"/>
              </a:buClr>
              <a:buSzPct val="60000"/>
              <a:buFont typeface="StarBats" charset="2"/>
              <a:buChar char="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= tra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= object has tr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= object does not have tr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4038480"/>
            <a:ext cx="2055600" cy="2005920"/>
            <a:chOff x="1676520" y="4038480"/>
            <a:chExt cx="2055600" cy="2005920"/>
          </a:xfrm>
        </p:grpSpPr>
        <p:grpSp>
          <p:nvGrpSpPr>
            <p:cNvPr id="120" name=""/>
            <p:cNvGrpSpPr/>
            <p:nvPr/>
          </p:nvGrpSpPr>
          <p:grpSpPr>
            <a:xfrm>
              <a:off x="1676520" y="5708520"/>
              <a:ext cx="340920" cy="335880"/>
              <a:chOff x="1676520" y="5708520"/>
              <a:chExt cx="340920" cy="3358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76520" y="570852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570852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018880" y="5708520"/>
              <a:ext cx="342360" cy="335880"/>
              <a:chOff x="2018880" y="5708520"/>
              <a:chExt cx="342360" cy="335880"/>
            </a:xfrm>
          </p:grpSpPr>
          <p:sp>
            <p:nvSpPr>
              <p:cNvPr id="124" name=""/>
              <p:cNvSpPr/>
              <p:nvPr/>
            </p:nvSpPr>
            <p:spPr>
              <a:xfrm>
                <a:off x="2018880" y="5708520"/>
                <a:ext cx="34236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18880" y="570852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361600" y="5708520"/>
              <a:ext cx="340920" cy="335880"/>
              <a:chOff x="2361600" y="5708520"/>
              <a:chExt cx="340920" cy="335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361600" y="570852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61600" y="570852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703960" y="5708520"/>
              <a:ext cx="340920" cy="335880"/>
              <a:chOff x="2703960" y="5708520"/>
              <a:chExt cx="340920" cy="335880"/>
            </a:xfrm>
          </p:grpSpPr>
          <p:sp>
            <p:nvSpPr>
              <p:cNvPr id="130" name=""/>
              <p:cNvSpPr/>
              <p:nvPr/>
            </p:nvSpPr>
            <p:spPr>
              <a:xfrm>
                <a:off x="2703960" y="570852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03960" y="570852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046680" y="5708520"/>
              <a:ext cx="340920" cy="335880"/>
              <a:chOff x="3046680" y="5708520"/>
              <a:chExt cx="340920" cy="335880"/>
            </a:xfrm>
          </p:grpSpPr>
          <p:sp>
            <p:nvSpPr>
              <p:cNvPr id="133" name=""/>
              <p:cNvSpPr/>
              <p:nvPr/>
            </p:nvSpPr>
            <p:spPr>
              <a:xfrm>
                <a:off x="3046680" y="570852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6680" y="570852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389040" y="5708520"/>
              <a:ext cx="342360" cy="335880"/>
              <a:chOff x="3389040" y="5708520"/>
              <a:chExt cx="342360" cy="335880"/>
            </a:xfrm>
          </p:grpSpPr>
          <p:sp>
            <p:nvSpPr>
              <p:cNvPr id="136" name=""/>
              <p:cNvSpPr/>
              <p:nvPr/>
            </p:nvSpPr>
            <p:spPr>
              <a:xfrm>
                <a:off x="3389040" y="5708520"/>
                <a:ext cx="34236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040" y="570852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676520" y="5375160"/>
              <a:ext cx="340920" cy="335880"/>
              <a:chOff x="1676520" y="5375160"/>
              <a:chExt cx="340920" cy="335880"/>
            </a:xfrm>
          </p:grpSpPr>
          <p:sp>
            <p:nvSpPr>
              <p:cNvPr id="139" name=""/>
              <p:cNvSpPr/>
              <p:nvPr/>
            </p:nvSpPr>
            <p:spPr>
              <a:xfrm>
                <a:off x="1676520" y="537516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76520" y="53751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018880" y="5375160"/>
              <a:ext cx="342360" cy="335880"/>
              <a:chOff x="2018880" y="5375160"/>
              <a:chExt cx="342360" cy="335880"/>
            </a:xfrm>
          </p:grpSpPr>
          <p:sp>
            <p:nvSpPr>
              <p:cNvPr id="142" name=""/>
              <p:cNvSpPr/>
              <p:nvPr/>
            </p:nvSpPr>
            <p:spPr>
              <a:xfrm>
                <a:off x="2018880" y="537516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18880" y="537516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61600" y="5375160"/>
              <a:ext cx="340920" cy="335880"/>
              <a:chOff x="2361600" y="5375160"/>
              <a:chExt cx="340920" cy="335880"/>
            </a:xfrm>
          </p:grpSpPr>
          <p:sp>
            <p:nvSpPr>
              <p:cNvPr id="145" name=""/>
              <p:cNvSpPr/>
              <p:nvPr/>
            </p:nvSpPr>
            <p:spPr>
              <a:xfrm>
                <a:off x="2361600" y="537516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61600" y="53751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703960" y="5375160"/>
              <a:ext cx="340920" cy="335880"/>
              <a:chOff x="2703960" y="5375160"/>
              <a:chExt cx="340920" cy="335880"/>
            </a:xfrm>
          </p:grpSpPr>
          <p:sp>
            <p:nvSpPr>
              <p:cNvPr id="148" name=""/>
              <p:cNvSpPr/>
              <p:nvPr/>
            </p:nvSpPr>
            <p:spPr>
              <a:xfrm>
                <a:off x="2703960" y="537516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03960" y="53751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046680" y="5375160"/>
              <a:ext cx="340920" cy="335880"/>
              <a:chOff x="3046680" y="5375160"/>
              <a:chExt cx="340920" cy="335880"/>
            </a:xfrm>
          </p:grpSpPr>
          <p:sp>
            <p:nvSpPr>
              <p:cNvPr id="151" name=""/>
              <p:cNvSpPr/>
              <p:nvPr/>
            </p:nvSpPr>
            <p:spPr>
              <a:xfrm>
                <a:off x="3046680" y="537516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6680" y="53751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389040" y="5375160"/>
              <a:ext cx="342360" cy="335880"/>
              <a:chOff x="3389040" y="5375160"/>
              <a:chExt cx="342360" cy="335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389040" y="537516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89040" y="537516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676520" y="5040360"/>
              <a:ext cx="340920" cy="335880"/>
              <a:chOff x="1676520" y="5040360"/>
              <a:chExt cx="340920" cy="335880"/>
            </a:xfrm>
          </p:grpSpPr>
          <p:sp>
            <p:nvSpPr>
              <p:cNvPr id="157" name=""/>
              <p:cNvSpPr/>
              <p:nvPr/>
            </p:nvSpPr>
            <p:spPr>
              <a:xfrm>
                <a:off x="1676520" y="504036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76520" y="50403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018880" y="5040360"/>
              <a:ext cx="342360" cy="335880"/>
              <a:chOff x="2018880" y="5040360"/>
              <a:chExt cx="342360" cy="335880"/>
            </a:xfrm>
          </p:grpSpPr>
          <p:sp>
            <p:nvSpPr>
              <p:cNvPr id="160" name=""/>
              <p:cNvSpPr/>
              <p:nvPr/>
            </p:nvSpPr>
            <p:spPr>
              <a:xfrm>
                <a:off x="2018880" y="5040360"/>
                <a:ext cx="34236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18880" y="504036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61600" y="5040360"/>
              <a:ext cx="340920" cy="335880"/>
              <a:chOff x="2361600" y="5040360"/>
              <a:chExt cx="340920" cy="335880"/>
            </a:xfrm>
          </p:grpSpPr>
          <p:sp>
            <p:nvSpPr>
              <p:cNvPr id="163" name=""/>
              <p:cNvSpPr/>
              <p:nvPr/>
            </p:nvSpPr>
            <p:spPr>
              <a:xfrm>
                <a:off x="2361600" y="504036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61600" y="50403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03960" y="5040360"/>
              <a:ext cx="340920" cy="335880"/>
              <a:chOff x="2703960" y="5040360"/>
              <a:chExt cx="340920" cy="335880"/>
            </a:xfrm>
          </p:grpSpPr>
          <p:sp>
            <p:nvSpPr>
              <p:cNvPr id="166" name=""/>
              <p:cNvSpPr/>
              <p:nvPr/>
            </p:nvSpPr>
            <p:spPr>
              <a:xfrm>
                <a:off x="2703960" y="504036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03960" y="50403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046680" y="5040360"/>
              <a:ext cx="340920" cy="335880"/>
              <a:chOff x="3046680" y="5040360"/>
              <a:chExt cx="340920" cy="33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6680" y="5040360"/>
                <a:ext cx="34092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46680" y="504036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389040" y="5040360"/>
              <a:ext cx="342360" cy="335880"/>
              <a:chOff x="3389040" y="5040360"/>
              <a:chExt cx="342360" cy="335880"/>
            </a:xfrm>
          </p:grpSpPr>
          <p:sp>
            <p:nvSpPr>
              <p:cNvPr id="172" name=""/>
              <p:cNvSpPr/>
              <p:nvPr/>
            </p:nvSpPr>
            <p:spPr>
              <a:xfrm>
                <a:off x="3389040" y="5040360"/>
                <a:ext cx="342360" cy="33192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9040" y="504036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676520" y="4707000"/>
              <a:ext cx="340920" cy="335880"/>
              <a:chOff x="1676520" y="4707000"/>
              <a:chExt cx="340920" cy="335880"/>
            </a:xfrm>
          </p:grpSpPr>
          <p:sp>
            <p:nvSpPr>
              <p:cNvPr id="175" name=""/>
              <p:cNvSpPr/>
              <p:nvPr/>
            </p:nvSpPr>
            <p:spPr>
              <a:xfrm>
                <a:off x="1676520" y="470700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76520" y="470700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018880" y="4707000"/>
              <a:ext cx="342360" cy="335880"/>
              <a:chOff x="2018880" y="4707000"/>
              <a:chExt cx="342360" cy="335880"/>
            </a:xfrm>
          </p:grpSpPr>
          <p:sp>
            <p:nvSpPr>
              <p:cNvPr id="178" name=""/>
              <p:cNvSpPr/>
              <p:nvPr/>
            </p:nvSpPr>
            <p:spPr>
              <a:xfrm>
                <a:off x="2018880" y="470700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18880" y="470700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361600" y="4707000"/>
              <a:ext cx="340920" cy="335880"/>
              <a:chOff x="2361600" y="4707000"/>
              <a:chExt cx="340920" cy="335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361600" y="470700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61600" y="470700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703960" y="4707000"/>
              <a:ext cx="340920" cy="335880"/>
              <a:chOff x="2703960" y="4707000"/>
              <a:chExt cx="340920" cy="335880"/>
            </a:xfrm>
          </p:grpSpPr>
          <p:sp>
            <p:nvSpPr>
              <p:cNvPr id="184" name=""/>
              <p:cNvSpPr/>
              <p:nvPr/>
            </p:nvSpPr>
            <p:spPr>
              <a:xfrm>
                <a:off x="2703960" y="470700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03960" y="470700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046680" y="4707000"/>
              <a:ext cx="340920" cy="335880"/>
              <a:chOff x="3046680" y="4707000"/>
              <a:chExt cx="340920" cy="335880"/>
            </a:xfrm>
          </p:grpSpPr>
          <p:sp>
            <p:nvSpPr>
              <p:cNvPr id="187" name=""/>
              <p:cNvSpPr/>
              <p:nvPr/>
            </p:nvSpPr>
            <p:spPr>
              <a:xfrm>
                <a:off x="3046680" y="470700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46680" y="470700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389040" y="4707000"/>
              <a:ext cx="342360" cy="335880"/>
              <a:chOff x="3389040" y="4707000"/>
              <a:chExt cx="342360" cy="335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389040" y="470700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89040" y="470700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676520" y="4373640"/>
              <a:ext cx="340920" cy="335880"/>
              <a:chOff x="1676520" y="4373640"/>
              <a:chExt cx="340920" cy="335880"/>
            </a:xfrm>
          </p:grpSpPr>
          <p:sp>
            <p:nvSpPr>
              <p:cNvPr id="193" name=""/>
              <p:cNvSpPr/>
              <p:nvPr/>
            </p:nvSpPr>
            <p:spPr>
              <a:xfrm>
                <a:off x="1676520" y="4373640"/>
                <a:ext cx="34092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76520" y="437364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018880" y="4373640"/>
              <a:ext cx="342360" cy="335880"/>
              <a:chOff x="2018880" y="4373640"/>
              <a:chExt cx="342360" cy="335880"/>
            </a:xfrm>
          </p:grpSpPr>
          <p:sp>
            <p:nvSpPr>
              <p:cNvPr id="196" name=""/>
              <p:cNvSpPr/>
              <p:nvPr/>
            </p:nvSpPr>
            <p:spPr>
              <a:xfrm>
                <a:off x="2018880" y="4373640"/>
                <a:ext cx="34236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18880" y="437364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361600" y="4373640"/>
              <a:ext cx="340920" cy="335880"/>
              <a:chOff x="2361600" y="4373640"/>
              <a:chExt cx="340920" cy="335880"/>
            </a:xfrm>
          </p:grpSpPr>
          <p:sp>
            <p:nvSpPr>
              <p:cNvPr id="199" name=""/>
              <p:cNvSpPr/>
              <p:nvPr/>
            </p:nvSpPr>
            <p:spPr>
              <a:xfrm>
                <a:off x="2361600" y="4373640"/>
                <a:ext cx="34092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61600" y="437364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703960" y="4373640"/>
              <a:ext cx="340920" cy="335880"/>
              <a:chOff x="2703960" y="4373640"/>
              <a:chExt cx="340920" cy="335880"/>
            </a:xfrm>
          </p:grpSpPr>
          <p:sp>
            <p:nvSpPr>
              <p:cNvPr id="202" name=""/>
              <p:cNvSpPr/>
              <p:nvPr/>
            </p:nvSpPr>
            <p:spPr>
              <a:xfrm>
                <a:off x="2703960" y="4373640"/>
                <a:ext cx="34092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703960" y="437364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046680" y="4373640"/>
              <a:ext cx="340920" cy="335880"/>
              <a:chOff x="3046680" y="4373640"/>
              <a:chExt cx="340920" cy="335880"/>
            </a:xfrm>
          </p:grpSpPr>
          <p:sp>
            <p:nvSpPr>
              <p:cNvPr id="205" name=""/>
              <p:cNvSpPr/>
              <p:nvPr/>
            </p:nvSpPr>
            <p:spPr>
              <a:xfrm>
                <a:off x="3046680" y="4373640"/>
                <a:ext cx="34092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46680" y="437364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389040" y="4373640"/>
              <a:ext cx="342360" cy="335880"/>
              <a:chOff x="3389040" y="4373640"/>
              <a:chExt cx="342360" cy="335880"/>
            </a:xfrm>
          </p:grpSpPr>
          <p:sp>
            <p:nvSpPr>
              <p:cNvPr id="208" name=""/>
              <p:cNvSpPr/>
              <p:nvPr/>
            </p:nvSpPr>
            <p:spPr>
              <a:xfrm>
                <a:off x="3389040" y="4373640"/>
                <a:ext cx="342360" cy="3315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89040" y="437364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76520" y="4038480"/>
              <a:ext cx="340920" cy="333360"/>
            </a:xfrm>
            <a:prstGeom prst="roundRect">
              <a:avLst>
                <a:gd name="adj" fmla="val 4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018880" y="4038480"/>
              <a:ext cx="342360" cy="335880"/>
              <a:chOff x="2018880" y="4038480"/>
              <a:chExt cx="342360" cy="335880"/>
            </a:xfrm>
          </p:grpSpPr>
          <p:sp>
            <p:nvSpPr>
              <p:cNvPr id="212" name=""/>
              <p:cNvSpPr/>
              <p:nvPr/>
            </p:nvSpPr>
            <p:spPr>
              <a:xfrm>
                <a:off x="2018880" y="403848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18880" y="403848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361600" y="4038480"/>
              <a:ext cx="340920" cy="335880"/>
              <a:chOff x="2361600" y="4038480"/>
              <a:chExt cx="340920" cy="335880"/>
            </a:xfrm>
          </p:grpSpPr>
          <p:sp>
            <p:nvSpPr>
              <p:cNvPr id="215" name=""/>
              <p:cNvSpPr/>
              <p:nvPr/>
            </p:nvSpPr>
            <p:spPr>
              <a:xfrm>
                <a:off x="2361600" y="403848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61600" y="403848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703960" y="4038480"/>
              <a:ext cx="340920" cy="335880"/>
              <a:chOff x="2703960" y="4038480"/>
              <a:chExt cx="340920" cy="335880"/>
            </a:xfrm>
          </p:grpSpPr>
          <p:sp>
            <p:nvSpPr>
              <p:cNvPr id="218" name=""/>
              <p:cNvSpPr/>
              <p:nvPr/>
            </p:nvSpPr>
            <p:spPr>
              <a:xfrm>
                <a:off x="2703960" y="403848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03960" y="403848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46680" y="4038480"/>
              <a:ext cx="340920" cy="335880"/>
              <a:chOff x="3046680" y="4038480"/>
              <a:chExt cx="340920" cy="335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046680" y="4038480"/>
                <a:ext cx="3409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6680" y="4038480"/>
                <a:ext cx="340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389040" y="4038480"/>
              <a:ext cx="342360" cy="335880"/>
              <a:chOff x="3389040" y="4038480"/>
              <a:chExt cx="342360" cy="335880"/>
            </a:xfrm>
          </p:grpSpPr>
          <p:sp>
            <p:nvSpPr>
              <p:cNvPr id="224" name=""/>
              <p:cNvSpPr/>
              <p:nvPr/>
            </p:nvSpPr>
            <p:spPr>
              <a:xfrm>
                <a:off x="3389040" y="4038480"/>
                <a:ext cx="34236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89040" y="4038480"/>
                <a:ext cx="342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63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H="1">
              <a:off x="1676520" y="4038480"/>
              <a:ext cx="205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76520" y="4373640"/>
              <a:ext cx="20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676520" y="4707000"/>
              <a:ext cx="20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76520" y="5040360"/>
              <a:ext cx="20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76520" y="5375160"/>
              <a:ext cx="20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76520" y="5708520"/>
              <a:ext cx="20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676520" y="6043680"/>
              <a:ext cx="205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2120" y="4038480"/>
              <a:ext cx="0" cy="200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89040" y="403848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6680" y="403848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03960" y="403848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1600" y="403848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18880" y="4038480"/>
              <a:ext cx="0" cy="20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4038480"/>
              <a:ext cx="0" cy="200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962520" y="4800600"/>
            <a:ext cx="836640" cy="379440"/>
          </a:xfrm>
          <a:custGeom>
            <a:avLst/>
            <a:gdLst/>
            <a:ahLst/>
            <a:rect l="l" t="t" r="r" b="b"/>
            <a:pathLst>
              <a:path w="2329" h="1059">
                <a:moveTo>
                  <a:pt x="0" y="264"/>
                </a:moveTo>
                <a:lnTo>
                  <a:pt x="1746" y="264"/>
                </a:lnTo>
                <a:lnTo>
                  <a:pt x="1746" y="0"/>
                </a:lnTo>
                <a:lnTo>
                  <a:pt x="2328" y="529"/>
                </a:lnTo>
                <a:lnTo>
                  <a:pt x="1746" y="1058"/>
                </a:lnTo>
                <a:lnTo>
                  <a:pt x="1746" y="794"/>
                </a:lnTo>
                <a:lnTo>
                  <a:pt x="0" y="794"/>
                </a:lnTo>
                <a:lnTo>
                  <a:pt x="0" y="264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005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03:37:52Z</dcterms:created>
  <dc:creator>Mohamed Mostagir</dc:creator>
  <dc:description/>
  <dc:language>en-US</dc:language>
  <cp:lastModifiedBy>Mohamed Mostagir</cp:lastModifiedBy>
  <cp:lastPrinted>2002-03-14T08:56:28Z</cp:lastPrinted>
  <dcterms:modified xsi:type="dcterms:W3CDTF">2002-03-14T16:00:18Z</dcterms:modified>
  <cp:revision>17</cp:revision>
  <dc:subject/>
  <dc:title>Phylogenetic Prediction</dc:title>
</cp:coreProperties>
</file>