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872-AF10-4F53-8B9D-CB2CCB20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0122-12DB-46C6-A9C1-67068590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8D28-A3A7-4C7F-BC2F-33055F96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292-D8B0-4730-A331-359FE493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8C68-10D3-4419-95FB-1BC8A1BF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6AF1-E295-4709-A841-77F581DE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E1A5-B548-4EB3-B28F-00F864BF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9BFA-F933-4564-8EE2-507BDE77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0CB7-7AB9-436C-93EB-2962BFE1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7F23-3CD3-4415-AFF9-5502B31F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E45E-B359-44B7-80E7-E28182B1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A15-E795-4B49-BD4B-6231AD35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2686-839E-4C99-9E5D-52B71C14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F22F-2F9B-458A-B9C4-0C1E6E99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6890-E69A-4B25-AAEF-52F390FA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4E27-69DA-45F8-8E2C-041EEBAA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061F-3BA5-4A1C-9E0A-03816C4D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5F5-468E-470E-A18D-D71AFFA0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FCF-1C87-43E1-916B-8873711E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069F-110D-44B5-8B79-1EF1464A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B41-F68A-44AA-AEF9-A5669313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7550-CA96-4F53-9148-00D44E1E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EEC-00A1-47E0-A999-C607E49C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3D48-BB8E-4D93-B1D0-1EE3B8AA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3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3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8169-1CF8-4E6C-8D87-8ABB991055C9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C118-1463-4D51-94C8-C00CD21CE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838080"/>
            <a:ext cx="7315200" cy="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001000" y="304920"/>
          <a:ext cx="70812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304920"/>
                    <a:ext cx="7081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879480" y="6118200"/>
            <a:ext cx="17114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2A71-2795-4DFD-9193-48DA816FB416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420720" y="6118200"/>
            <a:ext cx="25988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746760" y="6118200"/>
            <a:ext cx="17114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5845-2270-4C2D-BC3C-FEF24B751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533160" y="1066320"/>
            <a:ext cx="5257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029200" y="685800"/>
          <a:ext cx="3562200" cy="46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9200" y="685800"/>
                    <a:ext cx="356220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267080" y="5410080"/>
            <a:ext cx="4330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r John Tenniel;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lice’s Adventures in Wonderland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3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cis.udel.edu/~mills" TargetMode="External"/><Relationship Id="rId2" Type="http://schemas.openxmlformats.org/officeDocument/2006/relationships/hyperlink" Target="http://www.eecis.udel.edu/~mills" TargetMode="External"/><Relationship Id="rId3" Type="http://schemas.openxmlformats.org/officeDocument/2006/relationships/hyperlink" Target="http://www.eecis.udel.edu/~mills" TargetMode="External"/><Relationship Id="rId4" Type="http://schemas.openxmlformats.org/officeDocument/2006/relationships/hyperlink" Target="http://www.eecis.udel.edu/~mills" TargetMode="External"/><Relationship Id="rId5" Type="http://schemas.openxmlformats.org/officeDocument/2006/relationships/hyperlink" Target="http://www.eecis.udel.edu/~mills" TargetMode="External"/><Relationship Id="rId6" Type="http://schemas.openxmlformats.org/officeDocument/2006/relationships/hyperlink" Target="http://www.eecis.udel.edu/~mills" TargetMode="External"/><Relationship Id="rId7" Type="http://schemas.openxmlformats.org/officeDocument/2006/relationships/hyperlink" Target="http://www.eecis.udel.edu/~mills" TargetMode="External"/><Relationship Id="rId8" Type="http://schemas.openxmlformats.org/officeDocument/2006/relationships/hyperlink" Target="mailto:mills@udel.edu" TargetMode="External"/><Relationship Id="rId9" Type="http://schemas.openxmlformats.org/officeDocument/2006/relationships/hyperlink" Target="mailto:mills@udel.edu" TargetMode="External"/><Relationship Id="rId10" Type="http://schemas.openxmlformats.org/officeDocument/2006/relationships/hyperlink" Target="mailto:mills@udel.edu" TargetMode="External"/><Relationship Id="rId11" Type="http://schemas.openxmlformats.org/officeDocument/2006/relationships/hyperlink" Target="mailto:mills@udel.edu" TargetMode="External"/><Relationship Id="rId1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5486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 Narrow"/>
              </a:rPr>
              <a:t>The Nanokernel</a:t>
            </a:r>
            <a:endParaRPr b="1" lang="en-US" sz="36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2933640"/>
            <a:ext cx="5029200" cy="22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L. M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Dela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2"/>
              </a:rPr>
              <a:t>eecis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4"/>
              </a:rPr>
              <a:t>udel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6"/>
              </a:rPr>
              <a:t>edu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7"/>
              </a:rPr>
              <a:t>/~m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8"/>
              </a:rPr>
              <a:t>mailto:mills@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9"/>
              </a:rPr>
              <a:t>udel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11"/>
              </a:rPr>
              <a:t>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432B-2832-4101-A12D-77A08AE19FB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7B95799-B7B9-4A30-942B-A0DA749350E0}" type="datetime5">
              <a:rPr lang="en-US"/>
              <a:t>Jul 31, 20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PPS phase and frequency discipline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30481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and frequency disciplined separately - phase from system clock offset relative to second, frequency from process cycle counter (PC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discriminator rejects noise and incorrect frequency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n filter rejects sample outlyers and provides error stat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e checks reject popcorn spikes in phase and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offsets exponentially averaged with variable time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offsets averaged over variable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67280" y="121932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175248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228600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292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1752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P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1295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228600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121932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g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1219320"/>
            <a:ext cx="901440" cy="444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a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2514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1680" y="1447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2286000"/>
            <a:ext cx="90144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biguit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437920" y="14479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191120" y="1447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486400" y="1447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191120" y="2514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486400" y="2514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60020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438280" y="1447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437920" y="25146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438280" y="2209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1219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2286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C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9311-2A66-4175-84C1-47D3739787C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50612-0E2B-4B50-B510-4846C4E2A0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Experimental results with PPS discipline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pzibah is a 400-MHz Pentium workstation with a GPS 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PS signal is connected via parallel port and modified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kety is a 25-MHz SPARC IPC dedicated NTP server with dual redundant GPS receivers and dual redundant WWVB rece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chine has over 1000 clients causing a load of 15 packets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PS signal is connected via serial port and modified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rchy is a 433-MHz Alpha workstation with a GPS 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chine uses a SAW oscillator presumed spectrally p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PS signal is connected via serial port and modified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achines accessed the PPS signal from a GPS receiver and a level converter where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s lasted one day with data collected by the NTP dae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39F-6085-4FFE-85BC-2708C17F339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F4FA8-41E3-4255-8050-5EEB75277A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PPS time offset characteristic for Hepzibah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247" name=""/>
          <p:cNvSpPr/>
          <p:nvPr/>
        </p:nvSpPr>
        <p:spPr>
          <a:xfrm>
            <a:off x="4861080" y="461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hepzibah_20001016_t" descr=""/>
          <p:cNvPicPr/>
          <p:nvPr/>
        </p:nvPicPr>
        <p:blipFill>
          <a:blip r:embed="rId1"/>
          <a:stretch/>
        </p:blipFill>
        <p:spPr>
          <a:xfrm>
            <a:off x="1447920" y="955800"/>
            <a:ext cx="5715000" cy="45226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5800" y="5486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ter is presumed caused by interrupt latencies on the ISA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eed to explain why the spikes are both positive and 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925-577D-49A2-8FC6-AFA53958BA7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1DE8A-F60C-4F28-BDB5-D94F284A1E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PPS time offset characteristic for Rackety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pic>
        <p:nvPicPr>
          <p:cNvPr id="251" name="grundoon_20001101_t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5791320" cy="45100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85800" y="5486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ter is presumed caused by interrupt latencies on the S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negative spikes reflect contention by the radios and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181-3AB6-4237-B9D4-041D80163AD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7A6B1-2A9E-4874-B29D-8B44F75B0B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PPS time offset characteristic for Churchy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pic>
        <p:nvPicPr>
          <p:cNvPr id="254" name="churchy_20001102_t" descr=""/>
          <p:cNvPicPr/>
          <p:nvPr/>
        </p:nvPicPr>
        <p:blipFill>
          <a:blip r:embed="rId1"/>
          <a:stretch/>
        </p:blipFill>
        <p:spPr>
          <a:xfrm>
            <a:off x="1447920" y="954000"/>
            <a:ext cx="5715000" cy="4527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85800" y="5486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ter is presumed caused by interrupt latencies on the PCI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flicker noise may be due to SAW phase noise and no P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17C9-D15C-4481-A804-5CA0B9CFD1F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4264F-4F18-40A4-8900-230C8B1AB9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Present status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modifications have been implemented for FreeBSD, Linux, Alpha and Su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version is in current FreeBSD and Linux public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lder version, but with resolution only to the microsecond, is in current Alpha and Solaris licensed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andard PPS application program interface (PPSAPI) has been proposed to the IETF and supported in all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224-B982-4F08-9825-CBECB541D4C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4DE55-96C6-4AD1-B96F-626592FE3A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Further information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Time Protocol (NTP): http://www.ntp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NTP Version 3 and 4 software and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Q and links to other sources and interesting pl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L. Mills: http://www.eecis.udel.edu/~m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pers, reports and memoranda in PostScript and PDF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efings in HTML, PostScript, PowerPoint and PDF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aboration resources hardware, software and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ngs, photo galleries and after-dinner speech scri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 server ftp.udel.edu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/n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re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NTP Version 3 and 4 software and documentation reposi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aboration resources reposi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d project descriptions and brief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“Current Research Project Descriptions and Briefings” at http://www.eecis.udel.edu/~mills/statu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512-66E6-4E4B-BC72-FEB4F86BBF5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88290-2BA1-4119-BB96-F96BC64E0B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Going faster and faster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ing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 and workstation processor clock rates approaching and exceeding 1 GHz are becoming widely de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-Mb Ethernets have been replaced by 100-MHz Ethernets and these are now being replaced by 1-GHz Ethern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-Mb Internet links have been replaced by 43-Mb links and these are being replaced by 155-Mb OC-3 links and soon 2.4-Gb OC-48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urther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keeping expectations have  been typically tens of  milliseconds on a WAN and low milliseconds on a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keeping ambitions for some applications are in the tens of microseconds on a modern work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onclud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uracy expectations  can be considerably improved by moving the clock discipline code from user space to the kernel and, where available, precision synchronization 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F199-9C1D-4CC2-92BF-BFC470901D4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AC5A5-90FA-4D77-A97E-64D4D58DB9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Evolution to NTP Version 4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P Version 3 was first used in 1992 in a rambunctious Internet of congested links and 25-MHz work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P Version 4 architecture, protocol and algorithms have been evolved for gigabit networks and gigahertz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clock models which accurately predict the phase and frequency noise for each synchronization source and network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ineered algorithms which reduce the impact of delay spikes and oscillator wander while speeding up initial conver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esigned clock discipline algorithm which can operate in frequency-lock, phase-lock and hybrid m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the Unix time adjustment primitive prevents further improvement to the ambition  of a few micro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89A6-9F35-4E19-B956-E1B89D266A4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79A7D-4EB1-44D7-8A74-D807356101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58960" y="160668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2895480"/>
            <a:ext cx="21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1143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24680" y="167652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26668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quency Error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24680" y="121932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914400"/>
            <a:ext cx="21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2590920"/>
            <a:ext cx="1663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justment Rate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Unix time adjustment primitive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scipline needs to steer the frequency over the ran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±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the intrinsic clock frequency error i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jtim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ews frequency at r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M beginning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ew continu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pending on the programmed  frequency st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 continu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frequency offset due to err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t error with zero steering i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an be several hundre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890960" y="3094200"/>
                <a:ext cx="10476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1371600" y="18288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819520" y="1828440"/>
            <a:ext cx="411480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1143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1828800"/>
            <a:ext cx="11430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1295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7480" y="1141560"/>
            <a:ext cx="1673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justment Interval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2438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2209680"/>
            <a:ext cx="291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1828800"/>
            <a:ext cx="59436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2209680"/>
            <a:ext cx="381024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981080" y="1371600"/>
            <a:ext cx="59436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11430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590920" y="1447560"/>
            <a:ext cx="434340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1447920"/>
            <a:ext cx="76176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1828800"/>
            <a:ext cx="76176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2209680"/>
            <a:ext cx="76176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24680" y="213372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12952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11E9-5268-451D-8A56-FE1D25EAB34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69400-F837-404E-953A-1EE74D4870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Computer clock modelling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pic>
        <p:nvPicPr>
          <p:cNvPr id="125" name="allan1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618240" cy="5349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105520" y="2895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ntium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23623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C I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51055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lution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7600" y="411480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pha 4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6DD-2507-4828-9915-5FCA79DA80D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50E4D-AB17-4626-B19A-3D1A047EA5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Allan intercepts compared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33520" y="1371600"/>
          <a:ext cx="7866000" cy="3809880"/>
        </p:xfrm>
        <a:graphic>
          <a:graphicData uri="http://schemas.openxmlformats.org/drawingml/2006/table">
            <a:tbl>
              <a:tblPr/>
              <a:tblGrid>
                <a:gridCol w="1558800"/>
                <a:gridCol w="1141560"/>
                <a:gridCol w="1065240"/>
                <a:gridCol w="1015920"/>
                <a:gridCol w="1042920"/>
                <a:gridCol w="1020600"/>
                <a:gridCol w="102096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RC I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- 5000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ium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-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 4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-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tion li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533520" y="53341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For stability no worse than twic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BF6-BB11-4B18-A7BB-9753841F234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A641B-BD6E-4B3C-BBD4-15119D0CFA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NTP kernel clock discipline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II, adaptive-parameter, hybrid phase/frequency-lock loop disciplines variable frequency oscillator (VFO) phase and frequ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P daemon computes phase err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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source and VFO, then grooms samples to produce time upd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filter computes pha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frequenc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rrections and provides new adjustmen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1-s inter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FO frequency is adjusted at each hardware tick 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08320" y="1136520"/>
            <a:ext cx="3812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0760" y="2355840"/>
            <a:ext cx="3808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89560" y="2432160"/>
            <a:ext cx="11430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/Freq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1219320"/>
            <a:ext cx="1136880" cy="444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1640" y="2432160"/>
            <a:ext cx="1054080" cy="444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j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26080" y="2654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3440" y="144144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1640" y="1219320"/>
            <a:ext cx="1060560" cy="444240"/>
          </a:xfrm>
          <a:custGeom>
            <a:avLst/>
            <a:gdLst>
              <a:gd name="textAreaLeft" fmla="*/ 0 w 1060560"/>
              <a:gd name="textAreaRight" fmla="*/ 1060920 w 10605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2160" y="18986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0760" y="26607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660760" y="1289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660760" y="1593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0760" y="1593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08320" y="144144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2560" y="14414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2560" y="1136520"/>
            <a:ext cx="3808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0760" y="984240"/>
            <a:ext cx="457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0760" y="1289160"/>
            <a:ext cx="457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27240" y="11826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60760" y="2355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65320" y="1974960"/>
            <a:ext cx="2819520" cy="9903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0160" y="1974960"/>
            <a:ext cx="1105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op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84640" y="2203560"/>
            <a:ext cx="30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08320" y="2508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84640" y="2508120"/>
            <a:ext cx="30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08320" y="281304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175248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1143000"/>
            <a:ext cx="9972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e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5880" y="1905120"/>
            <a:ext cx="83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D84C-CADE-48AF-AD60-5770A5D8D21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5F57A-718E-490E-91B2-082343DD71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FLL/PLL prediction functions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2666880"/>
            <a:ext cx="6094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P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743200"/>
            <a:ext cx="901800" cy="444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1219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2209680"/>
            <a:ext cx="44460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1752480"/>
            <a:ext cx="3808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1066680"/>
            <a:ext cx="30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2971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1219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990720"/>
            <a:ext cx="901800" cy="444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886200" y="1905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1219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2286000"/>
            <a:ext cx="30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1600200"/>
            <a:ext cx="5335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F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1676520"/>
            <a:ext cx="901800" cy="444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2767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phase offset produced by the clock filter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phase correction computed as a frac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F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frequency adjustment computed as the average of past frequency off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P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frequency adjustment computed as the integral of past phase off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F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P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ombined according to weight factors determined by poll interval and Allan deviation character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AD5-15EE-42EA-8300-EC5A3A01543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2F79C-8981-4D4F-A9D9-BB5C776224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Nanokernel architecture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30481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L/FLL discipline predicts pha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frequenc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measurement intervals from 1 s to over one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S discipline predicts phase and frequency at averaging intervals from 4 s to 256  s, depending on nominal Allan inter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overflow of the clock second, a new value is calculated for the tick interrupt adju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ck adjustment is added to the system clock at every tick 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ycle counter (PCC) used to interpolate microseconds or nanoseconds between tick interru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121932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L/F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1752480"/>
            <a:ext cx="90144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ck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scil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228600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P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2286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514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ck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21932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2514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228600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121932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75248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culat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jus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209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505320" y="1447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505320" y="2514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1447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105520" y="1295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3623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2209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5120" y="2209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2362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1295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129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2362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1447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0600" y="1600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334120" y="15998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26668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00600" y="2666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1143000"/>
            <a:ext cx="380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2514600"/>
            <a:ext cx="380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4E6B-2CEE-408D-945B-DAA5718EF05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5F406-CDF9-4BFB-A1A5-9841294864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David Mills</dc:creator>
  <dc:description/>
  <dc:language>en-US</dc:language>
  <cp:lastModifiedBy>David L. Mills</cp:lastModifiedBy>
  <cp:lastPrinted>1998-09-14T18:40:32Z</cp:lastPrinted>
  <dcterms:modified xsi:type="dcterms:W3CDTF">2004-08-02T22:04:26Z</dcterms:modified>
  <cp:revision>186</cp:revision>
  <dc:subject/>
  <dc:title>NTP Architecture, Protocol and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eecis.udel.edu/~mills</vt:lpwstr>
  </property>
  <property fmtid="{D5CDD505-2E9C-101B-9397-08002B2CF9AE}" pid="9" name="LinkColor">
    <vt:r8>16711782</vt:r8>
  </property>
  <property fmtid="{D5CDD505-2E9C-101B-9397-08002B2CF9AE}" pid="10" name="MailAddress">
    <vt:lpwstr>mills@udel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html\database\brief\arch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