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0DA-939B-4C4C-9D98-344F29C3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E10-163C-4202-95EC-F8198EB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F29-C49A-436C-93D0-4BD8E8E2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55A-5C3B-435D-80CA-B19F5425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777-6BA5-4BED-8268-CFD0BF14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BB4-07F7-4049-B45F-D66B22D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D35-F986-4BAC-8054-7F748364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ACC-B896-4221-AD6E-EB28681C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DFF-D4A8-48F3-9F4E-4D0126D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226C-F0A9-4DED-BF34-3897E4A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3FBB-C58C-4B9F-88E9-5EA102F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C7F-18BF-487F-95D3-E5FCD6DC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100-40A7-4BED-A8B6-9A90955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5C7-2DDF-404C-BC6D-9C278E7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2985-1B0C-4313-B588-DBAB299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128-E56D-4A97-9F55-D925620F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248-ACD8-4676-A4B3-11E72A18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DBE-0B96-48CC-A194-5ABFB2E8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405-E13A-4FE9-B967-AA33C2A5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F48-8161-4DE0-AF39-F8F4419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496-A134-4AE8-8DF6-E75DA8F9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476-953F-4649-BBD9-E7CEFA9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D26-38F8-4BFA-A563-40B5043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FD7-90C7-4613-B46D-7DE017C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D5A2-32F9-47ED-B87D-B3022FFCD35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119-2306-4CD5-87E7-ADE05AF65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3152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001000" y="304920"/>
          <a:ext cx="7081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04920"/>
                    <a:ext cx="7081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87948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0091-B447-4A3A-9B78-EED2AF46A4B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420720" y="6118200"/>
            <a:ext cx="25988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746760" y="6118200"/>
            <a:ext cx="17114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0AE-8F26-4AEA-8F0B-5F93C145B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33160" y="10663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29200" y="685800"/>
          <a:ext cx="356220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685800"/>
                    <a:ext cx="356220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267080" y="5410080"/>
            <a:ext cx="4330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r John Tenniel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lice’s Adventures in Wonderlan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cis.udel.edu/~mills" TargetMode="External"/><Relationship Id="rId2" Type="http://schemas.openxmlformats.org/officeDocument/2006/relationships/hyperlink" Target="http://www.eecis.udel.edu/~mills" TargetMode="External"/><Relationship Id="rId3" Type="http://schemas.openxmlformats.org/officeDocument/2006/relationships/hyperlink" Target="http://www.eecis.udel.edu/~mills" TargetMode="External"/><Relationship Id="rId4" Type="http://schemas.openxmlformats.org/officeDocument/2006/relationships/hyperlink" Target="http://www.eecis.udel.edu/~mills" TargetMode="External"/><Relationship Id="rId5" Type="http://schemas.openxmlformats.org/officeDocument/2006/relationships/hyperlink" Target="http://www.eecis.udel.edu/~mills" TargetMode="External"/><Relationship Id="rId6" Type="http://schemas.openxmlformats.org/officeDocument/2006/relationships/hyperlink" Target="http://www.eecis.udel.edu/~mills" TargetMode="External"/><Relationship Id="rId7" Type="http://schemas.openxmlformats.org/officeDocument/2006/relationships/hyperlink" Target="http://www.eecis.udel.edu/~mills" TargetMode="External"/><Relationship Id="rId8" Type="http://schemas.openxmlformats.org/officeDocument/2006/relationships/hyperlink" Target="mailto:mills@udel.edu" TargetMode="External"/><Relationship Id="rId9" Type="http://schemas.openxmlformats.org/officeDocument/2006/relationships/hyperlink" Target="mailto:mills@udel.edu" TargetMode="External"/><Relationship Id="rId10" Type="http://schemas.openxmlformats.org/officeDocument/2006/relationships/hyperlink" Target="mailto:mills@udel.edu" TargetMode="External"/><Relationship Id="rId11" Type="http://schemas.openxmlformats.org/officeDocument/2006/relationships/hyperlink" Target="mailto:mills@udel.edu" TargetMode="External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5486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</a:rPr>
              <a:t>The Nanokernel</a:t>
            </a:r>
            <a:endParaRPr b="1" lang="en-US" sz="36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933640"/>
            <a:ext cx="50292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Del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eecis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6"/>
              </a:rPr>
              <a:t>edu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7"/>
              </a:rPr>
              <a:t>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8"/>
              </a:rPr>
              <a:t>mailto:mills@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9"/>
              </a:rPr>
              <a:t>udel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Arial"/>
                <a:hlinkClick r:id="rId11"/>
              </a:rPr>
              <a:t>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8337-C7E8-49BE-A89B-A3B32AC407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F1AC13-9765-4342-BAAC-33E432ADEF95}" type="datetime5">
              <a:rPr lang="en-US"/>
              <a:t>Jul 29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phase and frequency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and frequency disciplined separately - phase from system clock offset relative to second, frequency from process cycle counter (P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criminator rejects noise and incorrect frequency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filter rejects sample outlyers and provides error stat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checks reject popcorn spikes in phase and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offsets exponentially averaged with variabl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fsets averaged over variabl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752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1295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19320"/>
            <a:ext cx="90144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228600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bigui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437920" y="14479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1911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0020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828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2514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438280" y="2209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2B1-5714-443A-912D-9C17E13D03E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55C76-9DE3-40A8-AD9B-8CD6108136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xperimental results with PPS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zibah is a 400-MHz Pentium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paralle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ety is a 25-MHz SPARC IPC dedicated NTP server with dual redundant GPS receivers and dual redundant WWVB rece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has over 1000 clients causing a load of 15 packet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y is a 433-MHz Alpha workstation with a GPS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chine uses a SAW oscillator presumed spectrally p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PS signal is connected via serial port and modifie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achines accessed the PPS signal from a GPS receiver and a level converter wher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 lasted one day with data collected by the NTP da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998-1DC7-4CA5-A286-31A5805C0B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9042D-4750-4224-B39C-4FE5CFAFFF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Hepzibah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4861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hepzibah_20001016_t" descr=""/>
          <p:cNvPicPr/>
          <p:nvPr/>
        </p:nvPicPr>
        <p:blipFill>
          <a:blip r:embed="rId1"/>
          <a:stretch/>
        </p:blipFill>
        <p:spPr>
          <a:xfrm>
            <a:off x="1447920" y="955800"/>
            <a:ext cx="5715000" cy="4522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IS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explain why the spikes are both positive and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EC1-1364-41C8-8273-26DE850739C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B2421-B1FB-4F5D-B100-15E9F39F99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Racket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1" name="grundoon_20001101_t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5791320" cy="4510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S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egative spikes reflect contention by the radios an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B82-2EA0-44B4-9267-923B8B09399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49C0B-4765-4B44-8023-A1874083C4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PS time offset characteristic for Churchy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254" name="churchy_20001102_t" descr=""/>
          <p:cNvPicPr/>
          <p:nvPr/>
        </p:nvPicPr>
        <p:blipFill>
          <a:blip r:embed="rId1"/>
          <a:stretch/>
        </p:blipFill>
        <p:spPr>
          <a:xfrm>
            <a:off x="1447920" y="954000"/>
            <a:ext cx="5715000" cy="4527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5486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is presumed caused by interrupt latencies on the PCI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flicker noise may be due to SAW phase noise and no P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2E6-35A9-4C96-8698-59EAD7CD1B9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D2AF9-35E6-4166-8546-ACF4066BD4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Present statu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odifications have been implemented for FreeBSD, Linux, Alpha and S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ersion is in current FreeBSD and Linux public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er version, but with resolution only to the microsecond, is in current Alpha and Solaris licens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 PPS application program interface (PPSAPI) has been proposed to the IETF and supported in all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7C2-F301-4A7C-9979-0E9A14EB4C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B0879-DDBB-421C-A567-93786FFB50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urther information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ime Protocol (NTP): http://www.ntp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and links to other sources and interesting p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. Mills: http://www.eecis.udel.edu/~m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ers, reports and memoranda in PostScrip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efings in HTML, PostScript, PowerPoint and PDF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hardware, software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gs, photo galleries and after-dinner spee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server ftp.udel.edu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/n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NTP Version 3 and 4 software and documentation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 resources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project descriptions and brief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“Current Research Project Descriptions and Briefings” at http://www.eecis.udel.edu/~mills/statu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261-03E4-4BA4-BBE1-603A5823DE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89737-67C6-4657-B5C2-4C4CB75E1D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Going faster and faster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and workstation processor clock rates approaching and exceeding 1 GHz are becoming widely deplo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Mb Ethernets have been replaced by 100-MHz Ethernets and these are now being replaced by 1-GHz Ether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-Mb Internet links have been replaced by 43-Mb links and these are being replaced by 155-Mb OC-3 links and soon 2.4-Gb OC-48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urth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expectations have  been typically tens of  milliseconds on a WAN and low milliseconds on a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keeping ambitions for some applications are in the tens of microseconds on a modern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 expectations  can be considerably improved by moving the clock discipline code from user space to the kernel and, where available, precision synchronization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5FD-9A82-455C-8298-420E1897C2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C2A56-48D8-4350-856F-D32D4878DE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Evolution to NTP Version 4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3 was first used in 1992 in a rambunctious Internet of congested links and 25-MHz work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Version 4 architecture, protocol and algorithms have been evolved for gigabit networks and gigahertz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clock models which accurately predict the phase and frequency noise for each synchronization source and network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ered algorithms which reduce the impact of delay spikes and oscillator wander while speeding up initia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601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signed clock discipline algorithm which can operate in frequency-lock, phase-lock and hybrid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the Unix time adjustment primitive prevents further improvement to the ambition  of a few micr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6A4-CE15-441F-A88C-ADB37C1E58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D767C-BD7F-4028-8558-AAB78C5A8D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8960" y="16066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289548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1143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16765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666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 Erro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12193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91440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590920"/>
            <a:ext cx="1663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Rate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Unix time adjustment primitiv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ipline needs to steer the frequency over the ran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±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the intrinsic clock frequency error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jtim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ews frequency at r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M beginning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w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pending on the programmed  frequency st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continu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frequency offset due to err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error with zero steering i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an be several hundr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890960" y="309420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371600" y="1828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19520" y="1828440"/>
            <a:ext cx="4114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1143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828800"/>
            <a:ext cx="11430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295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7480" y="1141560"/>
            <a:ext cx="167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 Interval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09680"/>
            <a:ext cx="291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8288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2209680"/>
            <a:ext cx="381024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1371600"/>
            <a:ext cx="59436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430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1447560"/>
            <a:ext cx="43434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14479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82880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220968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2133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295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A5E-F280-4D89-A708-72265937AC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729EA-DBB1-4A99-927C-DCECDDDC4D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Computer clock modelling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pic>
        <p:nvPicPr>
          <p:cNvPr id="125" name="allan1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618240" cy="5349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05520" y="2895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tium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362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I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105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41148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4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4A8-5C4B-42D9-8CA5-8067F958907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5F085-A31F-4FC5-90B3-2B1D5999D4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Allan intercepts compared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371600"/>
          <a:ext cx="7866000" cy="3809880"/>
        </p:xfrm>
        <a:graphic>
          <a:graphicData uri="http://schemas.openxmlformats.org/drawingml/2006/table">
            <a:tbl>
              <a:tblPr/>
              <a:tblGrid>
                <a:gridCol w="1558800"/>
                <a:gridCol w="1141560"/>
                <a:gridCol w="1065240"/>
                <a:gridCol w="1015920"/>
                <a:gridCol w="1042920"/>
                <a:gridCol w="1020600"/>
                <a:gridCol w="10209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ep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C I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5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um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533520" y="53341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For stability no worse than twi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B31-27AC-41A8-98A6-CA9C29C3D37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25700-0460-47EF-A4C2-A541A3F361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TP kernel clock disciplin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I, adaptive-parameter, hybrid phase/frequency-lock loop disciplines variable frequency oscillator (VFO) phase an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P daemon computes phase err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ource and VFO, then grooms samples to produce time 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filter compute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ctions and provides new adjust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1-s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O frequency is adjusted at each hardware tick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08320" y="1136520"/>
            <a:ext cx="3812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0760" y="235584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9560" y="2432160"/>
            <a:ext cx="11430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/Freq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219320"/>
            <a:ext cx="11368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432160"/>
            <a:ext cx="105408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2654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3440" y="144144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1640" y="1219320"/>
            <a:ext cx="1060560" cy="44424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2160" y="18986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0760" y="2660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0760" y="1289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0760" y="159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0760" y="1593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8320" y="1441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2560" y="1441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2560" y="113652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0760" y="98424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0760" y="1289160"/>
            <a:ext cx="45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7240" y="11826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0760" y="2355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65320" y="1974960"/>
            <a:ext cx="2819520" cy="990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0160" y="1974960"/>
            <a:ext cx="110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4640" y="220356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08320" y="250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84640" y="250812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8320" y="28130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7524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143000"/>
            <a:ext cx="997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1905120"/>
            <a:ext cx="83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816-615C-4F38-AA6C-28D11A36B7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6EB02-CB33-4C78-ACCD-A6E1AE21CD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FLL/PLL prediction functions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666880"/>
            <a:ext cx="609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743200"/>
            <a:ext cx="901800" cy="444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219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220968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752480"/>
            <a:ext cx="380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06668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2971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9907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8620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219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28600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1600200"/>
            <a:ext cx="533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1676520"/>
            <a:ext cx="9018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offset produced by the clock filter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hase correction computed as a fra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average of past frequency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frequency adjustment computed as the integral of past phase off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F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mbined according to weight factors determined by poll interval and Allan deviation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977-2DE5-4F86-9902-D84D19D4E3A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1AB5A-94FF-4754-B609-F8B15C7A5D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Nanokernel architecture</a:t>
            </a:r>
            <a:endParaRPr b="1" lang="en-US" sz="2400" spc="-1" strike="noStrike">
              <a:solidFill>
                <a:srgbClr val="3333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048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/FLL discipline predicts pha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requ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measurement intervals from 1 s to over on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S discipline predicts phase and frequency at averaging intervals from 4 s to 256  s, depending on nominal Allan inter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verflow of the clock second, a new value is calculated for the tick interrupt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 adjustment is added to the system clock at every tick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ycle counter (PCC) used to interpolate microseconds or nanoseconds between tick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/F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752480"/>
            <a:ext cx="90144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286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2193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14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28600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21932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752480"/>
            <a:ext cx="9018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ju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505320" y="1447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053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055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623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236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95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129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1447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3341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666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11430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380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169-499C-4527-BAF2-AAED435F60A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FC437-015C-4E43-B6B0-D9C47F9D20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avid Mills</dc:creator>
  <dc:description/>
  <dc:language>en-US</dc:language>
  <cp:lastModifiedBy>David L. Mills</cp:lastModifiedBy>
  <cp:lastPrinted>1998-09-14T18:40:32Z</cp:lastPrinted>
  <dcterms:modified xsi:type="dcterms:W3CDTF">2004-08-02T22:04:26Z</dcterms:modified>
  <cp:revision>186</cp:revision>
  <dc:subject/>
  <dc:title>NTP Architecture, Protocol and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eecis.udel.edu/~mills</vt:lpwstr>
  </property>
  <property fmtid="{D5CDD505-2E9C-101B-9397-08002B2CF9AE}" pid="9" name="LinkColor">
    <vt:r8>16711782</vt:r8>
  </property>
  <property fmtid="{D5CDD505-2E9C-101B-9397-08002B2CF9AE}" pid="10" name="MailAddress">
    <vt:lpwstr>mills@udel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html\database\brief\arch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