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326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CA33-5836-4F26-AF19-DA531B999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988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98D1-E71A-4C58-98B1-891A2265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EECA-E414-49DE-926C-777DDAEF6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98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98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98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7F5C-59E4-4783-A1D0-ACA2561B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D9B8-087C-4E97-A6EE-9D0EB670D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12E8-DCB9-4E43-8839-EF82C924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8065-089E-4210-9DFB-840390F4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02E3-5EF5-459A-93EB-5A8A7D96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154A-CB2C-4691-9BB2-25F462B4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72BE-131D-4FF0-8EFF-0C13B1C4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E3B8-A884-44C1-9436-5A34150E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BB45-1DE2-4086-9D04-783E1A67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6A1F-0FCF-4B13-A2C5-4F37FA56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0988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1CEA-C49A-416F-8A47-70370065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80988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B0EA-E663-4AD3-A37D-619D3E16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10F8-8BB7-4250-A1A4-373652B8B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8098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8098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8098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9A55-48D8-4024-82C4-0308F79F1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7850-325F-4E88-9C93-BC9050E8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5AA4-B22B-4A0B-B9AC-0148592C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86B0-098C-483A-B2CD-419BB9C0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F859-CC12-4419-ABCE-9131106F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436E-39A8-4F8C-9A41-29B93A37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DBB5-F740-4E8B-8AB8-B6FBCF1E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988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BFE6-02F5-4546-BB31-FD434461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23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23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D1AE-AB9A-4CA9-92B9-23598CA8D210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D38A-EAD8-4783-9078-F7CAAC199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838080"/>
            <a:ext cx="7315200" cy="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8001000" y="304920"/>
          <a:ext cx="708120" cy="93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304920"/>
                    <a:ext cx="70812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879480" y="6118200"/>
            <a:ext cx="171144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7526-E603-441C-A6A1-8173CDEB56DA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420720" y="6118200"/>
            <a:ext cx="259884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746760" y="6118200"/>
            <a:ext cx="171144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E5EF-6814-4270-A35A-04032158A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533160" y="1066320"/>
            <a:ext cx="5257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029200" y="685800"/>
          <a:ext cx="3562200" cy="468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29200" y="685800"/>
                    <a:ext cx="3562200" cy="46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4267080" y="5410080"/>
            <a:ext cx="4330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r John Tenniel;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Alice’s Adventures in Wonderland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Carr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23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ecis.udel.edu/~mills" TargetMode="External"/><Relationship Id="rId2" Type="http://schemas.openxmlformats.org/officeDocument/2006/relationships/hyperlink" Target="http://www.eecis.udel.edu/~mills" TargetMode="External"/><Relationship Id="rId3" Type="http://schemas.openxmlformats.org/officeDocument/2006/relationships/hyperlink" Target="http://www.eecis.udel.edu/~mills" TargetMode="External"/><Relationship Id="rId4" Type="http://schemas.openxmlformats.org/officeDocument/2006/relationships/hyperlink" Target="http://www.eecis.udel.edu/~mills" TargetMode="External"/><Relationship Id="rId5" Type="http://schemas.openxmlformats.org/officeDocument/2006/relationships/hyperlink" Target="http://www.eecis.udel.edu/~mills" TargetMode="External"/><Relationship Id="rId6" Type="http://schemas.openxmlformats.org/officeDocument/2006/relationships/hyperlink" Target="http://www.eecis.udel.edu/~mills" TargetMode="External"/><Relationship Id="rId7" Type="http://schemas.openxmlformats.org/officeDocument/2006/relationships/hyperlink" Target="http://www.eecis.udel.edu/~mills" TargetMode="External"/><Relationship Id="rId8" Type="http://schemas.openxmlformats.org/officeDocument/2006/relationships/hyperlink" Target="mailto:mills@udel.edu" TargetMode="External"/><Relationship Id="rId9" Type="http://schemas.openxmlformats.org/officeDocument/2006/relationships/hyperlink" Target="mailto:mills@udel.edu" TargetMode="External"/><Relationship Id="rId10" Type="http://schemas.openxmlformats.org/officeDocument/2006/relationships/hyperlink" Target="mailto:mills@udel.edu" TargetMode="External"/><Relationship Id="rId11" Type="http://schemas.openxmlformats.org/officeDocument/2006/relationships/hyperlink" Target="mailto:mills@udel.edu" TargetMode="External"/><Relationship Id="rId1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5486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 Narrow"/>
              </a:rPr>
              <a:t>The Nanokernel</a:t>
            </a:r>
            <a:endParaRPr b="1" lang="en-US" sz="36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3520" y="2933640"/>
            <a:ext cx="5029200" cy="22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L. M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Dela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f5f5f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1800" spc="-1" strike="noStrike" u="sng">
                <a:solidFill>
                  <a:srgbClr val="5f5f5f"/>
                </a:solidFill>
                <a:uFillTx/>
                <a:latin typeface="Arial"/>
                <a:hlinkClick r:id="rId2"/>
              </a:rPr>
              <a:t>eecis</a:t>
            </a:r>
            <a:r>
              <a:rPr b="0" lang="en-US" sz="1800" spc="-1" strike="noStrike" u="sng">
                <a:solidFill>
                  <a:srgbClr val="5f5f5f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5f5f5f"/>
                </a:solidFill>
                <a:uFillTx/>
                <a:latin typeface="Arial"/>
                <a:hlinkClick r:id="rId4"/>
              </a:rPr>
              <a:t>udel</a:t>
            </a:r>
            <a:r>
              <a:rPr b="0" lang="en-US" sz="1800" spc="-1" strike="noStrike" u="sng">
                <a:solidFill>
                  <a:srgbClr val="5f5f5f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1800" spc="-1" strike="noStrike" u="sng">
                <a:solidFill>
                  <a:srgbClr val="5f5f5f"/>
                </a:solidFill>
                <a:uFillTx/>
                <a:latin typeface="Arial"/>
                <a:hlinkClick r:id="rId6"/>
              </a:rPr>
              <a:t>edu</a:t>
            </a:r>
            <a:r>
              <a:rPr b="0" lang="en-US" sz="1800" spc="-1" strike="noStrike" u="sng">
                <a:solidFill>
                  <a:srgbClr val="5f5f5f"/>
                </a:solidFill>
                <a:uFillTx/>
                <a:latin typeface="Arial"/>
                <a:hlinkClick r:id="rId7"/>
              </a:rPr>
              <a:t>/~m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f5f5f"/>
                </a:solidFill>
                <a:uFillTx/>
                <a:latin typeface="Arial"/>
                <a:hlinkClick r:id="rId8"/>
              </a:rPr>
              <a:t>mailto:mills@</a:t>
            </a:r>
            <a:r>
              <a:rPr b="0" lang="en-US" sz="1800" spc="-1" strike="noStrike" u="sng">
                <a:solidFill>
                  <a:srgbClr val="5f5f5f"/>
                </a:solidFill>
                <a:uFillTx/>
                <a:latin typeface="Arial"/>
                <a:hlinkClick r:id="rId9"/>
              </a:rPr>
              <a:t>udel</a:t>
            </a:r>
            <a:r>
              <a:rPr b="0" lang="en-US" sz="1800" spc="-1" strike="noStrike" u="sng">
                <a:solidFill>
                  <a:srgbClr val="5f5f5f"/>
                </a:solidFill>
                <a:uFillTx/>
                <a:latin typeface="Arial"/>
                <a:hlinkClick r:id="rId10"/>
              </a:rPr>
              <a:t>.</a:t>
            </a:r>
            <a:r>
              <a:rPr b="0" lang="en-US" sz="1800" spc="-1" strike="noStrike" u="sng">
                <a:solidFill>
                  <a:srgbClr val="5f5f5f"/>
                </a:solidFill>
                <a:uFillTx/>
                <a:latin typeface="Arial"/>
                <a:hlinkClick r:id="rId11"/>
              </a:rPr>
              <a:t>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E900-BFDD-4F35-A329-60F7830147A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50D0C00-DF65-4C17-9D23-F2BA8B4F01F8}" type="datetime5">
              <a:rPr lang="en-US"/>
              <a:t>Jul 31, 20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Narrow"/>
              </a:rPr>
              <a:t>PPS phase and frequency discipline</a:t>
            </a: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3048120"/>
            <a:ext cx="7772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and frequency disciplined separately - phase from system clock offset relative to second, frequency from process cycle counter (PC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discriminator rejects noise and incorrect frequency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n filter rejects sample outlyers and provides error statis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ge checks reject popcorn spikes in phase and freq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offsets exponentially averaged with variable time 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offsets averaged over variable 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67280" y="1219320"/>
            <a:ext cx="9018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81080" y="1752480"/>
            <a:ext cx="9018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equency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67280" y="2286000"/>
            <a:ext cx="9018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6292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17524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P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ru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62920" y="12952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2286000"/>
            <a:ext cx="9018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e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0" y="1219320"/>
            <a:ext cx="9018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ng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e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1219320"/>
            <a:ext cx="901440" cy="444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a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781680" y="25146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81680" y="1447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2286000"/>
            <a:ext cx="90144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biguity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437920" y="144792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4191120" y="1447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5486400" y="1447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191120" y="2514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486400" y="2514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160020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438280" y="1447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437920" y="251460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438280" y="2209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3880" y="12193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on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3880" y="22860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C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218D-78E4-4B6F-814B-F37A85EE5BD7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54A83C-C91B-4FC9-8CC1-E4752AFC7DE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Narrow"/>
              </a:rPr>
              <a:t>Experimental results with PPS discipline</a:t>
            </a: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pzibah is a 400-MHz Pentium workstation with a GPS rece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PS signal is connected via parallel port and modified 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ckety is a 25-MHz SPARC IPC dedicated NTP server with dual redundant GPS receivers and dual redundant WWVB recei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achine has over 1000 clients causing a load of 15 packets/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PS signal is connected via serial port and modified 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rchy is a 433-MHz Alpha workstation with a GPS rece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achine uses a SAW oscillator presumed spectrally p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PS signal is connected via serial port and modified 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machines accessed the PPS signal from a GPS receiver and a level converter where necess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s lasted one day with data collected by the NTP daem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B6FF-1FDC-475A-9A12-D5A8793105F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4192B9-4F04-4B10-83E1-F91E60B1D67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Narrow"/>
              </a:rPr>
              <a:t>PPS time offset characteristic for Hepzibah</a:t>
            </a: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247" name=""/>
          <p:cNvSpPr/>
          <p:nvPr/>
        </p:nvSpPr>
        <p:spPr>
          <a:xfrm>
            <a:off x="4861080" y="4613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hepzibah_20001016_t" descr=""/>
          <p:cNvPicPr/>
          <p:nvPr/>
        </p:nvPicPr>
        <p:blipFill>
          <a:blip r:embed="rId1"/>
          <a:stretch/>
        </p:blipFill>
        <p:spPr>
          <a:xfrm>
            <a:off x="1447920" y="955800"/>
            <a:ext cx="5715000" cy="45226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85800" y="54864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tter is presumed caused by interrupt latencies on the ISA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need to explain why the spikes are both positive and neg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0602-6387-4AE2-A3DC-791F471F0278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92229E-A76E-42D1-B85F-26F4E2C4F4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Narrow"/>
              </a:rPr>
              <a:t>PPS time offset characteristic for Rackety</a:t>
            </a: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pic>
        <p:nvPicPr>
          <p:cNvPr id="251" name="grundoon_20001101_t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5791320" cy="45100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685800" y="54864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tter is presumed caused by interrupt latencies on the S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negative spikes reflect contention by the radios and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CF28-6CEC-4D5D-98DC-9F214888754F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C47FE9-61E7-438F-89EE-EAB8033C86D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Narrow"/>
              </a:rPr>
              <a:t>PPS time offset characteristic for Churchy</a:t>
            </a: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pic>
        <p:nvPicPr>
          <p:cNvPr id="254" name="churchy_20001102_t" descr=""/>
          <p:cNvPicPr/>
          <p:nvPr/>
        </p:nvPicPr>
        <p:blipFill>
          <a:blip r:embed="rId1"/>
          <a:stretch/>
        </p:blipFill>
        <p:spPr>
          <a:xfrm>
            <a:off x="1447920" y="954000"/>
            <a:ext cx="5715000" cy="45277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685800" y="54864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tter is presumed caused by interrupt latencies on the PCI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flicker noise may be due to SAW phase noise and no P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43C1-BA7B-45AF-BD69-A3A08879F229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24B6B1-3C26-4B6E-9BF0-4BBA1B7AB54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Narrow"/>
              </a:rPr>
              <a:t>Present status</a:t>
            </a: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kernel modifications have been implemented for FreeBSD, Linux, Alpha and Su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urrent version is in current FreeBSD and Linux public dis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older version, but with resolution only to the microsecond, is in current Alpha and Solaris licensed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tandard PPS application program interface (PPSAPI) has been proposed to the IETF and supported in all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6A4F-FC2B-401D-8FF7-9900EB22957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BEE721-9C1E-42B8-8283-A5BE50F36F6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Narrow"/>
              </a:rPr>
              <a:t>Further information</a:t>
            </a: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Time Protocol (NTP): http://www.ntp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NTP Version 3 and 4 software and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Q and links to other sources and interesting pl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L. Mills: http://www.eecis.udel.edu/~m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pers, reports and memoranda in PostScript and PDF form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efings in HTML, PostScript, PowerPoint and PDF form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aboration resources hardware, software and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ngs, photo galleries and after-dinner speech scri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 server ftp.udel.edu 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/n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rect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NTP Version 3 and 4 software and documentation reposi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aboration resources reposi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ed project descriptions and brief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“Current Research Project Descriptions and Briefings” at http://www.eecis.udel.edu/~mills/status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B2BC-CC1C-4505-AEE4-4C655CF4FA0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0C05F1-3BAD-431C-9006-256E7FF4921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Narrow"/>
              </a:rPr>
              <a:t>Going faster and faster</a:t>
            </a: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ing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 and workstation processor clock rates approaching and exceeding 1 GHz are becoming widely deploy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-Mb Ethernets have been replaced by 100-MHz Ethernets and these are now being replaced by 1-GHz Ethern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-Mb Internet links have been replaced by 43-Mb links and these are being replaced by 155-Mb OC-3 links and soon 2.4-Gb OC-48 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further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keeping expectations have  been typically tens of  milliseconds on a WAN and low milliseconds on a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keeping ambitions for some applications are in the tens of microseconds on a modern work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onclude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uracy expectations  can be considerably improved by moving the clock discipline code from user space to the kernel and, where available, precision synchronization 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6AF3-1421-487A-AEDB-2BAE1751C3D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739E0C-7C26-4FBD-A2C2-7CD4A6EA6AB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Narrow"/>
              </a:rPr>
              <a:t>Evolution to NTP Version 4</a:t>
            </a: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P Version 3 was first used in 1992 in a rambunctious Internet of congested links and 25-MHz work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P Version 4 architecture, protocol and algorithms have been evolved for gigabit networks and gigahertz comp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clock models which accurately predict the phase and frequency noise for each synchronization source and network p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gineered algorithms which reduce the impact of delay spikes and oscillator wander while speeding up initial converg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esigned clock discipline algorithm which can operate in frequency-lock, phase-lock and hybrid m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, the Unix time adjustment primitive prevents further improvement to the ambition  of a few micro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24FA-36E0-4ECE-BB1A-5747A4C7329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041903-278E-42BA-B4FC-66CB9859C72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58960" y="1606680"/>
            <a:ext cx="2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2895480"/>
            <a:ext cx="215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10280" y="1143000"/>
            <a:ext cx="2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24680" y="1676520"/>
            <a:ext cx="2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26668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equency Error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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924680" y="1219320"/>
            <a:ext cx="2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+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914400"/>
            <a:ext cx="215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2590920"/>
            <a:ext cx="1663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justment Rate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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Narrow"/>
              </a:rPr>
              <a:t>Unix time adjustment primitive</a:t>
            </a: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scipline needs to steer the frequency over the rang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±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the intrinsic clock frequency error i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jtime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ews frequency at ra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M beginning 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ew continue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epending on the programmed  frequency st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set continue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frequency offset due to err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t error with zero steering is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can be several hundre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890960" y="3094200"/>
                <a:ext cx="10476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1371600" y="182880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819520" y="1828440"/>
            <a:ext cx="411480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81080" y="11430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81080" y="1828800"/>
            <a:ext cx="114300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81080" y="12952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57480" y="1141560"/>
            <a:ext cx="1673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justment Interval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2438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2209680"/>
            <a:ext cx="2919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1828800"/>
            <a:ext cx="59436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2209680"/>
            <a:ext cx="381024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981080" y="1371600"/>
            <a:ext cx="59436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114300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590920" y="1447560"/>
            <a:ext cx="434340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34320" y="1447920"/>
            <a:ext cx="76176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4320" y="1828800"/>
            <a:ext cx="76176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34320" y="2209680"/>
            <a:ext cx="76176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924680" y="2133720"/>
            <a:ext cx="2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15000" y="12952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9548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B300-6B20-4E77-8EF4-ACE5CBC1C74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082F86-9309-441A-9D50-661EE6409F2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Narrow"/>
              </a:rPr>
              <a:t>Computer clock modelling</a:t>
            </a: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pic>
        <p:nvPicPr>
          <p:cNvPr id="125" name="allan1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618240" cy="53499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105520" y="2895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ntium 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95480" y="23623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RC I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51055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lution li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7600" y="411480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pha 43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498F-0B7D-48C4-BDB2-EB6A9B5F69D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9B9DA0-93D9-4FE1-B1F9-DCE4C276B30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Narrow"/>
              </a:rPr>
              <a:t>Allan intercepts compared</a:t>
            </a: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533520" y="1371600"/>
          <a:ext cx="7866000" cy="3809880"/>
        </p:xfrm>
        <a:graphic>
          <a:graphicData uri="http://schemas.openxmlformats.org/drawingml/2006/table">
            <a:tbl>
              <a:tblPr/>
              <a:tblGrid>
                <a:gridCol w="1558800"/>
                <a:gridCol w="1141560"/>
                <a:gridCol w="1065240"/>
                <a:gridCol w="1015920"/>
                <a:gridCol w="1042920"/>
                <a:gridCol w="1020600"/>
                <a:gridCol w="1020960"/>
              </a:tblGrid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e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ep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 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RC I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 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 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 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 - 5000 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tium 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-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pha 4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 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-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 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tion lim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04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533520" y="533412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For stability no worse than twic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4C7A-3514-45A4-B39E-7A901D5DE225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545FE8-AD30-426B-9DB9-E76A3450F5D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Narrow"/>
              </a:rPr>
              <a:t>NTP kernel clock discipline</a:t>
            </a: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II, adaptive-parameter, hybrid phase/frequency-lock loop disciplines variable frequency oscillator (VFO) phase and freque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P daemon computes phase err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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tween source and VFO, then grooms samples to produce time upda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 filter computes phas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frequenc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rrections and provides new adjustment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1-s inter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FO frequency is adjusted at each hardware tick interru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08320" y="1136520"/>
            <a:ext cx="3812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0760" y="2355840"/>
            <a:ext cx="38088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89560" y="2432160"/>
            <a:ext cx="11430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ase/Freq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1219320"/>
            <a:ext cx="1136880" cy="444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1640" y="2432160"/>
            <a:ext cx="1054080" cy="444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ck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j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26080" y="2654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13440" y="144144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1640" y="1219320"/>
            <a:ext cx="1060560" cy="444240"/>
          </a:xfrm>
          <a:custGeom>
            <a:avLst/>
            <a:gdLst>
              <a:gd name="textAreaLeft" fmla="*/ 0 w 1060560"/>
              <a:gd name="textAreaRight" fmla="*/ 1060920 w 106056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32160" y="1898640"/>
            <a:ext cx="44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F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0760" y="26607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660760" y="1289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660760" y="1593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60760" y="15937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08320" y="144144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2560" y="144144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2560" y="1136520"/>
            <a:ext cx="38088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60760" y="984240"/>
            <a:ext cx="4572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0760" y="1289160"/>
            <a:ext cx="4572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27240" y="11826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60760" y="2355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65320" y="1974960"/>
            <a:ext cx="2819520" cy="9903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0160" y="1974960"/>
            <a:ext cx="1105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op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84640" y="2203560"/>
            <a:ext cx="304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08320" y="2508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84640" y="2508120"/>
            <a:ext cx="304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08320" y="281304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7400" y="175248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1143000"/>
            <a:ext cx="9972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em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5880" y="1905120"/>
            <a:ext cx="83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318F-9D91-46A6-B351-D0C3EBB87F1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A40668-3537-4785-A56E-5422D4C2D0D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Narrow"/>
              </a:rPr>
              <a:t>FLL/PLL prediction functions</a:t>
            </a: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165" name=""/>
          <p:cNvSpPr/>
          <p:nvPr/>
        </p:nvSpPr>
        <p:spPr>
          <a:xfrm>
            <a:off x="3886200" y="2666880"/>
            <a:ext cx="60948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P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2743200"/>
            <a:ext cx="901800" cy="444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3868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38680" y="1219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57600" y="2209680"/>
            <a:ext cx="44460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57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19920" y="1752480"/>
            <a:ext cx="38088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8620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0" y="1066680"/>
            <a:ext cx="304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57800" y="2971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57800" y="12193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43400" y="990720"/>
            <a:ext cx="901800" cy="444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as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886200" y="1905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12193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71800" y="2286000"/>
            <a:ext cx="304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1600200"/>
            <a:ext cx="53352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F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1676520"/>
            <a:ext cx="901800" cy="444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27672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phase offset produced by the clock filter algorit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phase correction computed as a fract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F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frequency adjustment computed as the average of past frequency off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P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frequency adjustment computed as the integral of past phase off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F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P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combined according to weight factors determined by poll interval and Allan deviation characteris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0921-6E37-4E48-96E1-C518AA11D1EF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326959-EF1B-4C94-952C-3EFCE9F65EB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Narrow"/>
              </a:rPr>
              <a:t>Nanokernel architecture</a:t>
            </a: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3048120"/>
            <a:ext cx="7772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L/FLL discipline predicts phas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frequenc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measurement intervals from 1 s to over one 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S discipline predicts phase and frequency at averaging intervals from 4 s to 256  s, depending on nominal Allan interc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overflow of the clock second, a new value is calculated for the tick interrupt adjus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ck adjustment is added to the system clock at every tick interru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ycle counter (PCC) used to interpolate microseconds or nanoseconds between tick interru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1219320"/>
            <a:ext cx="9018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L/F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47920" y="1752480"/>
            <a:ext cx="90144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ock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scil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38680" y="2286000"/>
            <a:ext cx="9018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P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0" y="22860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ru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25146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ck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ru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0" y="121932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25146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on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ver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2286000"/>
            <a:ext cx="9018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1219320"/>
            <a:ext cx="9018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752480"/>
            <a:ext cx="9018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culat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jus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2096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505320" y="1447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3505320" y="2514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1447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105520" y="12952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3623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95480" y="22096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05120" y="22096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05520" y="2362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05520" y="12952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00600" y="1295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00600" y="2362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1447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00600" y="1600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41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334120" y="15998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4120" y="26668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00600" y="2666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05320" y="1143000"/>
            <a:ext cx="380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2514600"/>
            <a:ext cx="380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60FE-1690-47C9-A977-D26623B0C64C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00A7F7-87E4-41AC-AC8D-B93C0898E3D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5:24Z</dcterms:created>
  <dc:creator>David Mills</dc:creator>
  <dc:description/>
  <dc:language>en-US</dc:language>
  <cp:lastModifiedBy>David L. Mills</cp:lastModifiedBy>
  <cp:lastPrinted>1998-09-14T18:40:32Z</cp:lastPrinted>
  <dcterms:modified xsi:type="dcterms:W3CDTF">2004-08-02T22:04:26Z</dcterms:modified>
  <cp:revision>186</cp:revision>
  <dc:subject/>
  <dc:title>NTP Architecture, Protocol and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eecis.udel.edu/~mills</vt:lpwstr>
  </property>
  <property fmtid="{D5CDD505-2E9C-101B-9397-08002B2CF9AE}" pid="9" name="LinkColor">
    <vt:r8>16711782</vt:r8>
  </property>
  <property fmtid="{D5CDD505-2E9C-101B-9397-08002B2CF9AE}" pid="10" name="MailAddress">
    <vt:lpwstr>mills@udel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D:\html\database\brief\arch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